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F5F3A-BB47-4545-B0D5-84A031F39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B076-44D9-4338-9593-C337AF2E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0A301-65D2-4F5C-B004-285FDA6F4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1DFA2-3272-4452-8AA9-9377D19F0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B7D50-E199-4C08-A783-14885DC17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ADE5-3D1C-4E3F-8D6D-B10743414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C8950-3837-4B53-B20C-F1A72A65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80D7-2A45-4E79-80D7-F398373F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9C15-D19C-4231-B03E-14674B69A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5F5C-4BD0-46FD-A0BE-80CF5BFF0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8916F-1C15-45A5-B852-C00FE159A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496A-66EA-471F-9B68-875CF9D75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E143-E23C-47AA-8BF0-2847D19441D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8" descr="j0250214[1]"/>
          <p:cNvPicPr/>
          <p:nvPr/>
        </p:nvPicPr>
        <p:blipFill>
          <a:blip r:embed="rId2"/>
          <a:stretch/>
        </p:blipFill>
        <p:spPr>
          <a:xfrm>
            <a:off x="6172200" y="380880"/>
            <a:ext cx="2819520" cy="2195640"/>
          </a:xfrm>
          <a:prstGeom prst="rect">
            <a:avLst/>
          </a:prstGeom>
          <a:ln w="0">
            <a:noFill/>
          </a:ln>
        </p:spPr>
      </p:pic>
      <p:pic>
        <p:nvPicPr>
          <p:cNvPr id="43" name="Picture 69" descr="j0234072[1]"/>
          <p:cNvPicPr/>
          <p:nvPr/>
        </p:nvPicPr>
        <p:blipFill>
          <a:blip r:embed="rId3"/>
          <a:stretch/>
        </p:blipFill>
        <p:spPr>
          <a:xfrm>
            <a:off x="0" y="5181480"/>
            <a:ext cx="1515960" cy="167652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0" descr="j0234072[1]"/>
          <p:cNvPicPr/>
          <p:nvPr/>
        </p:nvPicPr>
        <p:blipFill>
          <a:blip r:embed="rId2"/>
          <a:stretch/>
        </p:blipFill>
        <p:spPr>
          <a:xfrm>
            <a:off x="0" y="0"/>
            <a:ext cx="1722600" cy="1905120"/>
          </a:xfrm>
          <a:prstGeom prst="rect">
            <a:avLst/>
          </a:prstGeom>
          <a:ln w="0">
            <a:noFill/>
          </a:ln>
        </p:spPr>
      </p:pic>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0" descr="j0234072[1]"/>
          <p:cNvPicPr/>
          <p:nvPr/>
        </p:nvPicPr>
        <p:blipFill>
          <a:blip r:embed="rId2"/>
          <a:stretch/>
        </p:blipFill>
        <p:spPr>
          <a:xfrm>
            <a:off x="0" y="0"/>
            <a:ext cx="1722600" cy="1905120"/>
          </a:xfrm>
          <a:prstGeom prst="rect">
            <a:avLst/>
          </a:prstGeom>
          <a:ln w="0">
            <a:noFill/>
          </a:ln>
        </p:spPr>
      </p:pic>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3352320"/>
            <a:ext cx="6629400" cy="2667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Wading Through the Web</a:t>
            </a:r>
            <a:br>
              <a:rPr sz="4400"/>
            </a:br>
            <a:r>
              <a:rPr b="0" lang="en-US" sz="3200" spc="-1" strike="noStrike">
                <a:solidFill>
                  <a:srgbClr val="000000"/>
                </a:solidFill>
                <a:latin typeface="Calibri Light"/>
              </a:rPr>
              <a:t>Conducting Research on the Internet</a:t>
            </a:r>
            <a:br>
              <a:rPr sz="3200"/>
            </a:br>
            <a:r>
              <a:rPr b="0" lang="en-US" sz="3200" spc="-1" strike="noStrike">
                <a:solidFill>
                  <a:srgbClr val="000000"/>
                </a:solidFill>
                <a:latin typeface="Calibri Light"/>
              </a:rPr>
              <a:t>Adapted from ReadWriteThink.org</a:t>
            </a:r>
            <a:br>
              <a:rPr sz="3200"/>
            </a:br>
            <a:r>
              <a:rPr b="0" lang="en-US" sz="3200" spc="-1" strike="noStrike">
                <a:solidFill>
                  <a:srgbClr val="000000"/>
                </a:solidFill>
                <a:latin typeface="Calibri Light"/>
              </a:rPr>
              <a:t>by Amy Kilbridge, CACC</a:t>
            </a:r>
            <a:endParaRPr b="0" lang="en-US" sz="3200" spc="-1" strike="noStrike">
              <a:solidFill>
                <a:srgbClr val="000000"/>
              </a:solidFill>
              <a:latin typeface="Calibri Light"/>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2"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iting Your Sources</a:t>
            </a:r>
            <a:endParaRPr b="0" lang="en-US" sz="24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4" marL="13716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Using the resource you just found on Mel.org, complete the information on your Internet Citation Organizer.</a:t>
            </a:r>
            <a:endParaRPr b="0" lang="en-US" sz="36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20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is informatio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uthor: There is no specific author listed</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itle: ThinkQuest: Explorers of the Millennium</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b address: http://library.thinkquest.org/4034/dagama.html </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Copyright date: 1998 (this is found by clicking on “About this Site”</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ate found: April 30, 2006</a:t>
            </a:r>
            <a:endParaRPr b="0" lang="en-US" sz="16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 bibliographical citation for this website would look like this:</a:t>
            </a: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nkQuest: Explorers of the Millennium. http://library.thinkquest.org/4034/dagama.html. 1998. Found on April 30, 2006.</a:t>
            </a:r>
            <a:endParaRPr b="0" lang="en-US" sz="1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16"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222" name="Text Box 9"/>
          <p:cNvSpPr/>
          <p:nvPr/>
        </p:nvSpPr>
        <p:spPr>
          <a:xfrm>
            <a:off x="779400" y="2408400"/>
            <a:ext cx="6782040" cy="20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a:t>
            </a:r>
            <a:endParaRPr b="1"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ttp://www.calvin.edu/library/knightcite/ </a:t>
            </a:r>
            <a:endParaRPr b="1" i="1"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information listed on your worksheet. How easy Is that?</a:t>
            </a:r>
            <a:endParaRPr b="1" i="1" lang="en-US" sz="3200" spc="-1" strike="noStrike">
              <a:solidFill>
                <a:srgbClr val="000000"/>
              </a:solidFill>
              <a:latin typeface="Arial"/>
            </a:endParaRPr>
          </a:p>
        </p:txBody>
      </p:sp>
      <p:pic>
        <p:nvPicPr>
          <p:cNvPr id="223"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1000" fill="hold"/>
                                        <p:tgtEl>
                                          <p:spTgt spid="222"/>
                                        </p:tgtEl>
                                        <p:attrNameLst>
                                          <p:attrName>ppt_x</p:attrName>
                                        </p:attrNameLst>
                                      </p:cBhvr>
                                      <p:tavLst>
                                        <p:tav tm="0">
                                          <p:val>
                                            <p:strVal val="#ppt_x"/>
                                          </p:val>
                                        </p:tav>
                                        <p:tav tm="100000">
                                          <p:val>
                                            <p:strVal val="#ppt_x"/>
                                          </p:val>
                                        </p:tav>
                                      </p:tavLst>
                                    </p:anim>
                                    <p:anim calcmode="lin" valueType="num">
                                      <p:cBhvr additive="base">
                                        <p:cTn id="30"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1523520"/>
            <a:ext cx="6629400" cy="4496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How is the internet different from other sources of information?  </a:t>
            </a:r>
            <a:br>
              <a:rPr sz="3300"/>
            </a:br>
            <a:r>
              <a:rPr b="1" lang="en-US" sz="3300" spc="-1" strike="noStrike">
                <a:solidFill>
                  <a:srgbClr val="000000"/>
                </a:solidFill>
                <a:latin typeface="Calibri Light"/>
              </a:rPr>
              <a:t>What is your favorite place to find information and why?</a:t>
            </a:r>
            <a:endParaRPr b="0" lang="en-US" sz="3300" spc="-1" strike="noStrike">
              <a:solidFill>
                <a:srgbClr val="000000"/>
              </a:solidFill>
              <a:latin typeface="Calibri Light"/>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3"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5"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arch engines have something called an advanced search.  An advanced search allows you to be more specific about what type of information you are looking for.</a:t>
            </a: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visit a search engine, the </a:t>
            </a:r>
            <a:r>
              <a:rPr b="0" i="1" lang="en-US" sz="2800" spc="-1" strike="noStrike">
                <a:solidFill>
                  <a:srgbClr val="000000"/>
                </a:solidFill>
                <a:latin typeface="Arial"/>
              </a:rPr>
              <a:t>Advanced Search</a:t>
            </a:r>
            <a:r>
              <a:rPr b="0" lang="en-US" sz="2800" spc="-1" strike="noStrike">
                <a:solidFill>
                  <a:srgbClr val="000000"/>
                </a:solidFill>
                <a:latin typeface="Arial"/>
              </a:rPr>
              <a:t> page is a great place to start.</a:t>
            </a:r>
            <a:endParaRPr b="1" i="1" lang="en-US" sz="28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base">
                                        <p:cTn id="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3" end="3"/>
                                            </p:txEl>
                                          </p:spTgt>
                                        </p:tgtEl>
                                        <p:attrNameLst>
                                          <p:attrName>style.visibility</p:attrName>
                                        </p:attrNameLst>
                                      </p:cBhvr>
                                      <p:to>
                                        <p:strVal val="visible"/>
                                      </p:to>
                                    </p:set>
                                    <p:anim calcmode="lin" valueType="num">
                                      <p:cBhvr additive="base">
                                        <p:cTn id="1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2" name="Text Box 6"/>
          <p:cNvSpPr/>
          <p:nvPr/>
        </p:nvSpPr>
        <p:spPr>
          <a:xfrm>
            <a:off x="685800" y="2514600"/>
            <a:ext cx="7543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want to know about congestive heart failure but not about medications prescribed for it. In the Advanced Search menu, put congestive heart failure in the box that says “all of these words” and prescription in the box that says “without the words.” </a:t>
            </a:r>
            <a:endParaRPr b="1"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filter out the information you don’t want!  </a:t>
            </a:r>
            <a:endParaRPr b="1" i="1" lang="en-US" sz="2800" spc="-1" strike="noStrike">
              <a:solidFill>
                <a:srgbClr val="000000"/>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1000" fill="hold"/>
                                        <p:tgtEl>
                                          <p:spTgt spid="172"/>
                                        </p:tgtEl>
                                        <p:attrNameLst>
                                          <p:attrName>ppt_x</p:attrName>
                                        </p:attrNameLst>
                                      </p:cBhvr>
                                      <p:tavLst>
                                        <p:tav tm="0">
                                          <p:val>
                                            <p:strVal val="#ppt_x"/>
                                          </p:val>
                                        </p:tav>
                                        <p:tav tm="100000">
                                          <p:val>
                                            <p:strVal val="#ppt_x"/>
                                          </p:val>
                                        </p:tav>
                                      </p:tavLst>
                                    </p:anim>
                                    <p:anim calcmode="lin" valueType="num">
                                      <p:cBhvr additive="base">
                                        <p:cTn id="2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Smarter Searching </a:t>
            </a:r>
            <a:endParaRPr b="0" lang="en-US" sz="3300" spc="-1" strike="noStrike">
              <a:solidFill>
                <a:srgbClr val="000000"/>
              </a:solidFill>
              <a:latin typeface="Calibri Light"/>
            </a:endParaRPr>
          </a:p>
        </p:txBody>
      </p:sp>
      <p:sp>
        <p:nvSpPr>
          <p:cNvPr id="176" name=""/>
          <p:cNvSpPr txBox="1"/>
          <p:nvPr/>
        </p:nvSpPr>
        <p:spPr>
          <a:xfrm>
            <a:off x="628560" y="1825200"/>
            <a:ext cx="7886880" cy="4351320"/>
          </a:xfrm>
          <a:prstGeom prst="rect">
            <a:avLst/>
          </a:prstGeom>
          <a:noFill/>
          <a:ln w="0">
            <a:noFill/>
          </a:ln>
        </p:spPr>
        <p:txBody>
          <a:bodyPr anchor="t">
            <a:normAutofit/>
          </a:bodyPr>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minus sign – use this symbol when you want to exclude a word. For example, “Congestive Heart Failure – prescriptions”</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t>
            </a:r>
            <a:r>
              <a:rPr b="0" lang="en-US" sz="2800" spc="-1" strike="noStrike">
                <a:solidFill>
                  <a:srgbClr val="000000"/>
                </a:solidFill>
                <a:latin typeface="Calibri"/>
              </a:rPr>
              <a:t>quotations” – use quotation marks when you are searching for an exact phrase. For example, if you were searching for a book title, you could type “Health Care for Dummies” in quotations and the search engine will look for that exact phrase.</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You can also use AND and OR – how might that help?</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1"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2" name="Text Box 9"/>
          <p:cNvSpPr/>
          <p:nvPr/>
        </p:nvSpPr>
        <p:spPr>
          <a:xfrm>
            <a:off x="914400" y="1371600"/>
            <a:ext cx="7010280" cy="50529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How can you tell if an Internet site is reliable?</a:t>
            </a:r>
            <a:endParaRPr b="1" i="1" lang="en-US" sz="29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nyone can post information on the Internet! </a:t>
            </a:r>
            <a:endParaRPr b="1" i="1" lang="en-US" sz="20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information you are using comes from a person or organization that can be trusted.</a:t>
            </a:r>
            <a:endParaRPr b="1" i="1" lang="en-US" sz="24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way to tell if a site is reliable is to look at who runs the site. If it came from a museum, university, or some other place you’ve heard of, chances are that it can be trusted.</a:t>
            </a:r>
            <a:endParaRPr b="1" i="1" lang="en-US" sz="24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84" name="PlaceHolder 2"/>
          <p:cNvSpPr>
            <a:spLocks noGrp="1"/>
          </p:cNvSpPr>
          <p:nvPr>
            <p:ph/>
          </p:nvPr>
        </p:nvSpPr>
        <p:spPr>
          <a:xfrm>
            <a:off x="228240" y="2209320"/>
            <a:ext cx="4305240" cy="449604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graphicFrame>
        <p:nvGraphicFramePr>
          <p:cNvPr id="185"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upe Detector:  </a:t>
                      </a:r>
                      <a:endParaRPr b="1" i="1"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checklist to help surfers begin determining if information found on a website is true or no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ustworthy</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estionabl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large companies you know advertise on the 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any ‘dead links’, or links to ‘moved page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images support the stated fact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hosted by a credible provider and reside in a ‘trustworthy’ domai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links and references to other websites, resources and experts that corroborate this informatio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resource available in another forma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site’s authors have other publications with credible sites and publisher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 site’s authors experts in the subject? (Do they have any credentials or experience around the topic?)</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contact information provided and does the place/e-mail exist and work?</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es the site present highly biased visuals (e.g. racist statements, derogatory remarks, and emotional languag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professional (grammar and typing errors are not present or very minimal)?</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tals**:  </a:t>
                      </a:r>
                      <a:endParaRPr b="1" i="1" lang="en-US" sz="1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7" name="Text Box 4"/>
          <p:cNvSpPr/>
          <p:nvPr/>
        </p:nvSpPr>
        <p:spPr>
          <a:xfrm>
            <a:off x="914400" y="1568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8"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9"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ailable at: http://www.lerc.educ.ubc.ca/LERC/outreach/lomcira2006/lomcirahandoutapril06.doc </a:t>
            </a:r>
            <a:endParaRPr b="1" i="1" lang="en-US" sz="9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1" name="AutoShape 3"/>
          <p:cNvSpPr/>
          <p:nvPr/>
        </p:nvSpPr>
        <p:spPr>
          <a:xfrm>
            <a:off x="5638680" y="83808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000000"/>
              </a:solidFill>
              <a:latin typeface="Arial"/>
            </a:endParaRPr>
          </a:p>
        </p:txBody>
      </p:sp>
      <p:sp>
        <p:nvSpPr>
          <p:cNvPr id="19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4" name="Text Box 9"/>
          <p:cNvSpPr/>
          <p:nvPr/>
        </p:nvSpPr>
        <p:spPr>
          <a:xfrm>
            <a:off x="1154160" y="1211400"/>
            <a:ext cx="6553080" cy="3376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lpful Resources</a:t>
            </a:r>
            <a:endParaRPr b="1" i="1"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encyclopedias are a great resources for research. Choose a disease and try one of the encyclopedias listed below and see what you find.</a:t>
            </a:r>
            <a:endParaRPr b="1" i="1" lang="en-US" sz="28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yclopedia Britannica – www.britannica.com </a:t>
            </a:r>
            <a:endParaRPr b="1" i="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arta – www.encarta.msn.com </a:t>
            </a:r>
            <a:endParaRPr b="1" i="1" lang="en-US" sz="2000" spc="-1" strike="noStrike">
              <a:solidFill>
                <a:srgbClr val="000000"/>
              </a:solidFill>
              <a:latin typeface="Arial"/>
            </a:endParaRPr>
          </a:p>
        </p:txBody>
      </p:sp>
      <p:pic>
        <p:nvPicPr>
          <p:cNvPr id="195" name="Picture 10"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7" name="PlaceHolder 2"/>
          <p:cNvSpPr>
            <a:spLocks noGrp="1"/>
          </p:cNvSpPr>
          <p:nvPr>
            <p:ph/>
          </p:nvPr>
        </p:nvSpPr>
        <p:spPr>
          <a:xfrm>
            <a:off x="0" y="1294920"/>
            <a:ext cx="8763120" cy="44960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3" marL="120024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Mel.org is a great resource for Health related resources</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Go to Mel.org  and click on the box that says Health. </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Search for information on the same disease that you just looked up in an online encyclopedia.</a:t>
            </a:r>
            <a:endParaRPr b="0" lang="en-US" sz="32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198" name="AutoShape 3"/>
          <p:cNvSpPr/>
          <p:nvPr/>
        </p:nvSpPr>
        <p:spPr>
          <a:xfrm>
            <a:off x="4267080" y="102060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earch Engines</a:t>
            </a:r>
            <a:endParaRPr b="1" i="1" lang="en-US" sz="1400" spc="-1" strike="noStrike">
              <a:solidFill>
                <a:srgbClr val="000000"/>
              </a:solidFill>
              <a:latin typeface="Arial"/>
            </a:endParaRPr>
          </a:p>
        </p:txBody>
      </p:sp>
      <p:sp>
        <p:nvSpPr>
          <p:cNvPr id="199" name="Text Box 4"/>
          <p:cNvSpPr/>
          <p:nvPr/>
        </p:nvSpPr>
        <p:spPr>
          <a:xfrm>
            <a:off x="1447920" y="13716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Amy Kilbridge</cp:lastModifiedBy>
  <cp:lastPrinted>2015-07-28T19:45:41Z</cp:lastPrinted>
  <dcterms:modified xsi:type="dcterms:W3CDTF">2015-07-28T19:47:44Z</dcterms:modified>
  <cp:revision>67</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