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9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92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91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9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9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68.xml" ContentType="application/vnd.openxmlformats-officedocument.theme+xml"/>
  <Override PartName="/ppt/theme/theme70.xml" ContentType="application/vnd.openxmlformats-officedocument.theme+xml"/>
  <Override PartName="/ppt/theme/theme69.xml" ContentType="application/vnd.openxmlformats-officedocument.theme+xml"/>
  <Override PartName="/ppt/theme/theme71.xml" ContentType="application/vnd.openxmlformats-officedocument.theme+xml"/>
  <Override PartName="/ppt/theme/theme72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77.xml" ContentType="application/vnd.openxmlformats-officedocument.theme+xml"/>
  <Override PartName="/ppt/theme/theme78.xml" ContentType="application/vnd.openxmlformats-officedocument.theme+xml"/>
  <Override PartName="/ppt/theme/theme88.xml" ContentType="application/vnd.openxmlformats-officedocument.theme+xml"/>
  <Override PartName="/ppt/theme/theme87.xml" ContentType="application/vnd.openxmlformats-officedocument.theme+xml"/>
  <Override PartName="/ppt/theme/theme106.xml" ContentType="application/vnd.openxmlformats-officedocument.theme+xml"/>
  <Override PartName="/ppt/theme/theme86.xml" ContentType="application/vnd.openxmlformats-officedocument.theme+xml"/>
  <Override PartName="/ppt/theme/theme105.xml" ContentType="application/vnd.openxmlformats-officedocument.theme+xml"/>
  <Override PartName="/ppt/theme/theme4.xml" ContentType="application/vnd.openxmlformats-officedocument.theme+xml"/>
  <Override PartName="/ppt/theme/theme85.xml" ContentType="application/vnd.openxmlformats-officedocument.theme+xml"/>
  <Override PartName="/ppt/theme/theme10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0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99.xml" ContentType="application/vnd.openxmlformats-officedocument.theme+xml"/>
  <Override PartName="/ppt/theme/theme62.xml" ContentType="application/vnd.openxmlformats-officedocument.theme+xml"/>
  <Override PartName="/ppt/theme/theme102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98.xml" ContentType="application/vnd.openxmlformats-officedocument.theme+xml"/>
  <Override PartName="/ppt/theme/theme61.xml" ContentType="application/vnd.openxmlformats-officedocument.theme+xml"/>
  <Override PartName="/ppt/theme/theme101.xml" ContentType="application/vnd.openxmlformats-officedocument.theme+xml"/>
  <Override PartName="/ppt/theme/theme97.xml" ContentType="application/vnd.openxmlformats-officedocument.theme+xml"/>
  <Override PartName="/ppt/theme/theme60.xml" ContentType="application/vnd.openxmlformats-officedocument.theme+xml"/>
  <Override PartName="/ppt/theme/theme96.xml" ContentType="application/vnd.openxmlformats-officedocument.theme+xml"/>
  <Override PartName="/ppt/theme/theme79.xml" ContentType="application/vnd.openxmlformats-officedocument.theme+xml"/>
  <Override PartName="/ppt/theme/theme89.xml" ContentType="application/vnd.openxmlformats-officedocument.theme+xml"/>
  <Override PartName="/ppt/theme/theme100.xml" ContentType="application/vnd.openxmlformats-officedocument.theme+xml"/>
  <Override PartName="/ppt/theme/theme95.xml" ContentType="application/vnd.openxmlformats-officedocument.theme+xml"/>
  <Override PartName="/ppt/theme/theme67.xml" ContentType="application/vnd.openxmlformats-officedocument.theme+xml"/>
  <Override PartName="/ppt/theme/theme66.xml" ContentType="application/vnd.openxmlformats-officedocument.theme+xml"/>
  <Override PartName="/ppt/theme/theme65.xml" ContentType="application/vnd.openxmlformats-officedocument.theme+xml"/>
  <Override PartName="/ppt/theme/theme64.xml" ContentType="application/vnd.openxmlformats-officedocument.theme+xml"/>
  <Override PartName="/ppt/theme/theme63.xml" ContentType="application/vnd.openxmlformats-officedocument.theme+xml"/>
  <Override PartName="/ppt/theme/theme29.xml" ContentType="application/vnd.openxmlformats-officedocument.theme+xml"/>
  <Override PartName="/ppt/theme/theme94.xml" ContentType="application/vnd.openxmlformats-officedocument.theme+xml"/>
  <Override PartName="/ppt/theme/theme28.xml" ContentType="application/vnd.openxmlformats-officedocument.theme+xml"/>
  <Override PartName="/ppt/theme/theme93.xml" ContentType="application/vnd.openxmlformats-officedocument.theme+xml"/>
  <Override PartName="/ppt/theme/theme14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.png" ContentType="image/png"/>
  <Override PartName="/ppt/media/image4.jpeg" ContentType="image/jpeg"/>
  <Override PartName="/ppt/media/image25.png" ContentType="image/png"/>
  <Override PartName="/ppt/media/image5.png" ContentType="image/png"/>
  <Override PartName="/ppt/media/image8.jpeg" ContentType="image/jpeg"/>
  <Override PartName="/ppt/media/image20.png" ContentType="image/png"/>
  <Override PartName="/ppt/media/image28.png" ContentType="image/png"/>
  <Override PartName="/ppt/media/image7.jpeg" ContentType="image/jpeg"/>
  <Override PartName="/ppt/media/image31.wmf" ContentType="image/x-wmf"/>
  <Override PartName="/ppt/media/image29.wmf" ContentType="image/x-wmf"/>
  <Override PartName="/ppt/media/image18.png" ContentType="image/png"/>
  <Override PartName="/ppt/media/image6.jpeg" ContentType="image/jpeg"/>
  <Override PartName="/ppt/media/image13.png" ContentType="image/png"/>
  <Override PartName="/ppt/media/image12.jpeg" ContentType="image/jpe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_rels/slideLayout941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9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</p:sldMasterIdLst>
  <p:notesMasterIdLst>
    <p:notesMasterId r:id="rId107"/>
  </p:notesMasterIdLst>
  <p:sldIdLst>
    <p:sldId id="256" r:id="rId108"/>
    <p:sldId id="257" r:id="rId109"/>
    <p:sldId id="258" r:id="rId110"/>
    <p:sldId id="259" r:id="rId111"/>
    <p:sldId id="260" r:id="rId112"/>
    <p:sldId id="261" r:id="rId113"/>
    <p:sldId id="262" r:id="rId114"/>
    <p:sldId id="263" r:id="rId115"/>
    <p:sldId id="264" r:id="rId116"/>
    <p:sldId id="265" r:id="rId117"/>
    <p:sldId id="266" r:id="rId118"/>
    <p:sldId id="267" r:id="rId119"/>
    <p:sldId id="268" r:id="rId120"/>
    <p:sldId id="269" r:id="rId121"/>
    <p:sldId id="270" r:id="rId122"/>
    <p:sldId id="271" r:id="rId123"/>
    <p:sldId id="272" r:id="rId124"/>
    <p:sldId id="273" r:id="rId125"/>
    <p:sldId id="274" r:id="rId1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notesMaster" Target="notesMasters/notesMaster1.xml"/><Relationship Id="rId108" Type="http://schemas.openxmlformats.org/officeDocument/2006/relationships/slide" Target="slides/slide1.xml"/><Relationship Id="rId109" Type="http://schemas.openxmlformats.org/officeDocument/2006/relationships/slide" Target="slides/slide2.xml"/><Relationship Id="rId110" Type="http://schemas.openxmlformats.org/officeDocument/2006/relationships/slide" Target="slides/slide3.xml"/><Relationship Id="rId111" Type="http://schemas.openxmlformats.org/officeDocument/2006/relationships/slide" Target="slides/slide4.xml"/><Relationship Id="rId112" Type="http://schemas.openxmlformats.org/officeDocument/2006/relationships/slide" Target="slides/slide5.xml"/><Relationship Id="rId113" Type="http://schemas.openxmlformats.org/officeDocument/2006/relationships/slide" Target="slides/slide6.xml"/><Relationship Id="rId114" Type="http://schemas.openxmlformats.org/officeDocument/2006/relationships/slide" Target="slides/slide7.xml"/><Relationship Id="rId115" Type="http://schemas.openxmlformats.org/officeDocument/2006/relationships/slide" Target="slides/slide8.xml"/><Relationship Id="rId116" Type="http://schemas.openxmlformats.org/officeDocument/2006/relationships/slide" Target="slides/slide9.xml"/><Relationship Id="rId117" Type="http://schemas.openxmlformats.org/officeDocument/2006/relationships/slide" Target="slides/slide10.xml"/><Relationship Id="rId118" Type="http://schemas.openxmlformats.org/officeDocument/2006/relationships/slide" Target="slides/slide11.xml"/><Relationship Id="rId119" Type="http://schemas.openxmlformats.org/officeDocument/2006/relationships/slide" Target="slides/slide12.xml"/><Relationship Id="rId120" Type="http://schemas.openxmlformats.org/officeDocument/2006/relationships/slide" Target="slides/slide13.xml"/><Relationship Id="rId121" Type="http://schemas.openxmlformats.org/officeDocument/2006/relationships/slide" Target="slides/slide14.xml"/><Relationship Id="rId122" Type="http://schemas.openxmlformats.org/officeDocument/2006/relationships/slide" Target="slides/slide15.xml"/><Relationship Id="rId123" Type="http://schemas.openxmlformats.org/officeDocument/2006/relationships/slide" Target="slides/slide16.xml"/><Relationship Id="rId124" Type="http://schemas.openxmlformats.org/officeDocument/2006/relationships/slide" Target="slides/slide17.xml"/><Relationship Id="rId125" Type="http://schemas.openxmlformats.org/officeDocument/2006/relationships/slide" Target="slides/slide18.xml"/><Relationship Id="rId126" Type="http://schemas.openxmlformats.org/officeDocument/2006/relationships/slide" Target="slides/slide19.xml"/><Relationship Id="rId1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4" name="PlaceHolder 2"/>
          <p:cNvSpPr>
            <a:spLocks noGrp="1"/>
          </p:cNvSpPr>
          <p:nvPr>
            <p:ph type="dt" idx="26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46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PlaceHolder 5"/>
          <p:cNvSpPr>
            <a:spLocks noGrp="1"/>
          </p:cNvSpPr>
          <p:nvPr>
            <p:ph type="ftr" idx="26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8" name="PlaceHolder 6"/>
          <p:cNvSpPr>
            <a:spLocks noGrp="1"/>
          </p:cNvSpPr>
          <p:nvPr>
            <p:ph type="sldNum" idx="26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C915-7A4D-4C08-AB9D-417F1647E9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1440"/>
                <a:tab algn="l" pos="2163600"/>
                <a:tab algn="l" pos="288612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  <a:tab algn="l" pos="10406160"/>
                <a:tab algn="l" pos="10858680"/>
              </a:tabLst>
            </a:pPr>
            <a:fld id="{E6AFBBB0-70F2-449A-82B8-7033CBB50A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20" name="PlaceHolder 1"/>
          <p:cNvSpPr>
            <a:spLocks noGrp="1"/>
          </p:cNvSpPr>
          <p:nvPr>
            <p:ph type="sldImg"/>
          </p:nvPr>
        </p:nvSpPr>
        <p:spPr>
          <a:xfrm>
            <a:off x="1069920" y="708120"/>
            <a:ext cx="4724280" cy="3544920"/>
          </a:xfrm>
          <a:prstGeom prst="rect">
            <a:avLst/>
          </a:prstGeom>
          <a:ln w="0">
            <a:noFill/>
          </a:ln>
        </p:spPr>
      </p:sp>
      <p:sp>
        <p:nvSpPr>
          <p:cNvPr id="4621" name="PlaceHolder 2"/>
          <p:cNvSpPr>
            <a:spLocks noGrp="1"/>
          </p:cNvSpPr>
          <p:nvPr>
            <p:ph type="body"/>
          </p:nvPr>
        </p:nvSpPr>
        <p:spPr>
          <a:xfrm>
            <a:off x="685800" y="4491000"/>
            <a:ext cx="54864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4622" name="Text Box 3"/>
          <p:cNvSpPr/>
          <p:nvPr/>
        </p:nvSpPr>
        <p:spPr>
          <a:xfrm>
            <a:off x="3884760" y="8978760"/>
            <a:ext cx="29732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369440"/>
                <a:tab algn="l" pos="10820520"/>
              </a:tabLst>
            </a:pPr>
            <a:fld id="{4568463E-67F2-4893-9A68-8B12681355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1440"/>
                <a:tab algn="l" pos="2163600"/>
                <a:tab algn="l" pos="288612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  <a:tab algn="l" pos="10406160"/>
                <a:tab algn="l" pos="10858680"/>
              </a:tabLst>
            </a:pPr>
            <a:fld id="{85CC1115-303B-4B1D-9BBD-3B3AF37A88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24" name="PlaceHolder 1"/>
          <p:cNvSpPr>
            <a:spLocks noGrp="1"/>
          </p:cNvSpPr>
          <p:nvPr>
            <p:ph type="sldImg"/>
          </p:nvPr>
        </p:nvSpPr>
        <p:spPr>
          <a:xfrm>
            <a:off x="1069920" y="708120"/>
            <a:ext cx="4724280" cy="3544920"/>
          </a:xfrm>
          <a:prstGeom prst="rect">
            <a:avLst/>
          </a:prstGeom>
          <a:ln w="0">
            <a:noFill/>
          </a:ln>
        </p:spPr>
      </p:sp>
      <p:sp>
        <p:nvSpPr>
          <p:cNvPr id="4625" name="PlaceHolder 2"/>
          <p:cNvSpPr>
            <a:spLocks noGrp="1"/>
          </p:cNvSpPr>
          <p:nvPr>
            <p:ph type="body"/>
          </p:nvPr>
        </p:nvSpPr>
        <p:spPr>
          <a:xfrm>
            <a:off x="685800" y="4491000"/>
            <a:ext cx="54864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1440"/>
                <a:tab algn="l" pos="2163600"/>
                <a:tab algn="l" pos="288612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  <a:tab algn="l" pos="10406160"/>
                <a:tab algn="l" pos="10858680"/>
              </a:tabLst>
            </a:pPr>
            <a:fld id="{3A634CAA-0041-4C42-89FB-8E99456214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27" name="PlaceHolder 1"/>
          <p:cNvSpPr>
            <a:spLocks noGrp="1"/>
          </p:cNvSpPr>
          <p:nvPr>
            <p:ph type="sldImg"/>
          </p:nvPr>
        </p:nvSpPr>
        <p:spPr>
          <a:xfrm>
            <a:off x="1069920" y="708120"/>
            <a:ext cx="4724280" cy="3544920"/>
          </a:xfrm>
          <a:prstGeom prst="rect">
            <a:avLst/>
          </a:prstGeom>
          <a:ln w="0">
            <a:noFill/>
          </a:ln>
        </p:spPr>
      </p:sp>
      <p:sp>
        <p:nvSpPr>
          <p:cNvPr id="4628" name="PlaceHolder 2"/>
          <p:cNvSpPr>
            <a:spLocks noGrp="1"/>
          </p:cNvSpPr>
          <p:nvPr>
            <p:ph type="body"/>
          </p:nvPr>
        </p:nvSpPr>
        <p:spPr>
          <a:xfrm>
            <a:off x="685800" y="4491000"/>
            <a:ext cx="54864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43C1-715B-4079-AD9C-493A3D642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3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A566-859E-4F4C-98E1-F43D17791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3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1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necessarily word for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9A24-0895-4A0A-B9F1-77E6FFA29545}" type="slidenum">
              <a:rPr b="0" lang="en-GB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0B4A-3C00-4D39-8D11-2D26BA9B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3DD7-0AB5-4A1C-BCD1-C794D5E4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4C3472-9D39-4FC7-9A9D-6085DF65F5CF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EA2F5D53-1639-4353-9A6C-0EFC57D2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282F463A-7FE0-4348-B9E4-FDF5679F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60D667ED-5BE3-413D-8F7A-FE8A148D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34D020BF-53A9-4821-B1C2-6B618646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7779D24B-2847-4E86-9FB4-708F8DB6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7BC9AD42-E439-4135-ACBD-09C498EF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2F2A1032-2C1B-4C11-876E-3E36ABA7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13FEDBFB-83DB-4A63-8B6E-BCC9C327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640EAFF3-40DD-485C-8908-4D7A291F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6EC8D1DD-C45F-42CF-B53C-0DEC84C88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107454-04BE-413E-8288-9F5A082ECDE5}" type="slidenum">
              <a:t>&lt;#&gt;</a:t>
            </a:fld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3217FA5D-9BB9-4BC3-96B7-C2B557AD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BB910AFE-D054-4C29-B8D7-E06170D6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6499AC56-FF5A-4418-AD38-36D410C7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8F607251-042B-4F02-9101-35B5593A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8663E253-9550-474C-AF7F-81361E97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174D92B5-EF84-4F43-BD10-08EB0CCF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DF3AFEA9-4531-4F0E-AAAA-B07A72D5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76629913-D8C5-4CA2-AF4D-442DC796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704DA1E4-5CA7-45CE-9514-DB5F0BD4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D8D125DA-39BA-4CA4-8EC8-907CFF20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7A1F5B-4773-42AB-B128-78A1B73EC308}" type="slidenum">
              <a:t>&lt;#&gt;</a:t>
            </a:fld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36839665-3676-4C30-90BD-574343E8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E15D8AC6-18EB-4711-A1B6-D268B07B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434E2C83-2B25-4A3D-B9DA-92BED39F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06DE17A5-1005-4E81-8984-49A58668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8DE2288D-E6DE-441B-8BC1-5E007D49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583A4066-75DC-4A08-842B-A45A6FE6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EB42F566-C891-4365-8985-7EDD4C76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E6DF8419-C509-4B74-8D51-18D462C2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18C18CD6-616A-4EA9-ADF9-999139F2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3F36DFF8-1075-4A61-9A29-512D00AA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C58B9A-A0A3-40CD-86DF-18F2D36B09DB}" type="slidenum">
              <a:t>&lt;#&gt;</a:t>
            </a:fld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A5D4979B-15B9-4C6E-8B80-3F33AEFA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3665EE3F-7300-452D-B62A-93D6C5883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5A647ED2-7810-41D9-9DDB-D59252B47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E528517A-C3F4-4651-AB7D-168FD82B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14E79F03-49BA-452D-8370-D01CE600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D69742DF-6623-4701-BDDB-6E3C85A5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1C4090F8-109D-45DF-928D-04DE75AC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ED6C3311-B2D2-4E33-83FE-03F991E2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BE6A3284-914E-4D19-85DE-B9B6FC70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686780A5-3EB0-42C0-BD0E-BAECEFF8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03E13A-188A-4117-B83E-9956F88C3FFF}" type="slidenum">
              <a:t>&lt;#&gt;</a:t>
            </a:fld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B50B2E26-4DAC-4AAD-AEFC-24A99FF8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FFAED673-1A7D-4FBE-B8DC-D27C969A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AE195807-7F2A-4898-A7E6-4F9E60EB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9C531968-885C-4D89-8B7C-A51E1AE1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F24881FC-ED87-4557-A70C-A6DBA7149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B3071B3F-2914-4116-8567-FED0879C2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53A820C7-1392-457B-A1F9-14E93C3B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C605CC4A-BDA2-46BF-B142-C114A37E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3A6D3C89-A2FA-4FE5-872C-2004B17C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905F2505-3A70-419F-B30E-920DB695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1D5B8D-37CE-4E5D-86AB-B956B82B7ADF}" type="slidenum">
              <a:t>&lt;#&gt;</a:t>
            </a:fld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F0EC9F5C-6414-44EB-824E-607210DD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41028718-6A26-4F74-9253-25765D4B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4DAAD5CB-D65B-4E08-86DE-BE218D17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60C219EA-C295-4203-B210-452D5DA2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8DE8BC06-97FC-4626-9D3A-5DD999FC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BA5B0B0B-CDDF-49AF-948D-2C2F808E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B8E1D981-291F-4336-A1E3-918878A6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3422F135-BD52-4456-82ED-AD905EF6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1D47121F-6A24-4292-B284-D5DF46F1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B6F00245-7E33-42A9-8301-0E1D0B75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280D43-C621-4FC7-8B43-18A627E03386}" type="slidenum">
              <a:t>&lt;#&gt;</a:t>
            </a:fld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7D324947-550F-4120-9C64-020BCE4A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5C302630-691D-419F-996E-44CABA09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7EC3D2CC-8A03-443B-A70F-C9A9D6E0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E97F06B9-C946-4B16-B6FC-B8C77210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32C85B0B-1AE5-411E-97BA-11FBD02B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033A178A-A362-444E-8C05-AED25A7E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CB25C08E-89F3-4485-9BDD-3798152B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8251C8DE-7A5F-4351-9575-5A9DBA130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616361D5-6B49-436C-870C-B8B1401A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C4BAD5D1-E5EF-4A32-9CFD-F513B3287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DE2933-1A09-4A09-A08E-899D14E14B2D}" type="slidenum">
              <a:t>&lt;#&gt;</a:t>
            </a:fld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15D78268-EB16-46C6-A810-C3C2F426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C9BE6AB9-38B6-44C1-8448-761D7D7D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9F736DEA-C2D9-4AEC-A828-F01779AD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309C2893-0F79-4DFB-81BD-FB45058E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EA4C04B9-2102-4F0D-BB06-D9B3C8BE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D1F06B6C-5DAE-4E14-B90A-B93C4D6B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9589CFBF-B0D0-46CF-995A-46D1588E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162BB385-CE39-41AF-9441-3DB02132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0A9554E1-CE4C-47E0-9759-89BE4B78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F1EFD16B-CA93-408E-AB50-D4D424BD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520350-8C0A-42B9-B03F-3B7CCB244496}" type="slidenum">
              <a:t>&lt;#&gt;</a:t>
            </a:fld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BC98C06C-F0C7-415C-B827-67B6EBCB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C3C69B1F-7CA0-47B2-8A1F-2741C3738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12CD1987-D51F-4712-942A-8C325CD2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507053A8-AF38-46AE-9617-20E2649A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6365F2FB-A21F-44EF-96D5-3342089D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0035FB88-124A-47F3-A19A-0FCF60B3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ED9A8E4E-A03A-44B6-98E8-D25650BE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24004460-63EE-4E07-A47A-BB66DFC9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9A650F8F-08B0-4CBB-BB1C-DF390471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51596993-606A-4510-93A5-71E85F52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9586B-0AE9-4D4D-AE19-DA8FE89B6F49}" type="slidenum">
              <a:t>&lt;#&gt;</a:t>
            </a:fld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5238A0D2-EE50-44D5-AA74-2C018E4B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F4697B26-3369-4FD7-8380-88103E68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03DE34CB-A5EA-4E28-B867-26094236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21998CD4-9BBD-4BBF-A88C-6B0E0645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194EC1D9-5995-48DC-B9D2-2133A9B0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D062B2BF-420F-4BF1-AEF9-4476D0F6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E36E3E2C-90BC-45DD-B6E4-A4E7B726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427FD261-4E76-400F-98EF-04269CC3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6BFF54C8-0D35-4CED-A64D-AA6AB63A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5FAFD039-7DF0-4BA8-9880-FFC2B79D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2536-7403-4962-913A-A49EAFAD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BB78C-537A-4F88-8C65-AADAB51F6A16}" type="slidenum">
              <a:t>&lt;#&gt;</a:t>
            </a:fld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4E6B4F6B-E313-4102-8AD9-C614432B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3359A295-E2DD-47FC-8D8E-AB3BD74C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431A5FDF-1232-49C8-9342-9B939FD6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883E8714-BD7E-409C-B3D0-E8A6A549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88618321-56E2-448C-A24D-3E44FCCAF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6317EEE8-8902-4D9F-B7C7-8A90C7CAF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9ADACB00-747F-485B-B23B-B3D87771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43F25B74-3E31-4650-8560-C8DB7478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F0AB2F24-4882-4B3A-BE16-DF4F4A22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28BC0034-3010-47AB-8743-4B831B86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022C2-D411-46D7-A481-46377393C307}" type="slidenum">
              <a:t>&lt;#&gt;</a:t>
            </a:fld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EEF5764B-7C50-4490-99E7-31C86632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578552EC-9F0B-42CF-97FB-C5A8987B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D6711EF5-8E83-47A1-A0DF-D733011D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E63983FB-B6C2-4656-91C9-AF73F4BC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4EE7E3D0-BD69-463D-B06C-BE2FA2D4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32D9F5A2-6457-41A5-B7F3-D8D54D10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4274DC67-B7BE-460E-A6CC-1DF44172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87629014-8F8F-4A67-B93C-E943A383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116DB089-B42E-4F2F-8336-6A6BB02B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C7D4AC84-ED0D-464E-A398-9D5A403E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1A63F-1FCF-4841-B207-8632A46AB784}" type="slidenum">
              <a:t>&lt;#&gt;</a:t>
            </a:fld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C8CE0BC9-E081-43DA-B60C-881B78E6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52328055-3BEE-438A-92D0-527C8F14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7293F4FE-49EE-470D-B6C0-340EE147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FCD94728-2C7B-4FAB-A9F9-8AB90F90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0357E02B-BF43-4673-915A-7774545F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FEB7E814-9578-4669-B400-933CEC90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D15C96A3-2B7F-4EB4-B8EF-E5C62476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0F6AE438-F6C3-41DB-8EE1-D1BF49A29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60DCAD98-EF2F-44BC-A14F-BE9AE86E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8635205A-99D6-43E6-8624-201A0D36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0D586-F316-444F-A8E7-C751664085B0}" type="slidenum">
              <a:t>&lt;#&gt;</a:t>
            </a:fld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3A632325-CCA0-4DAF-BA1A-7309A7EF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9AC55DD0-BCA6-45AA-A5DE-32058407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ED82E250-D0B2-4A40-8384-B9E634FD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8A608B2E-2F06-4E90-991E-3456C401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502BB31A-B723-4458-90C6-D46AD209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6F4FCD94-3E52-4807-BB9F-14DF1D81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B7F81B5C-C917-4526-9CB6-A56C084E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FC6CA853-0283-4E94-99D1-7A99D1EC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8920D8BD-24F2-4672-924C-807162EB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83B55D87-0FE7-4779-BFD9-9A435346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5E0F9-9A80-4800-8C05-F4A9CD80BC03}" type="slidenum">
              <a:t>&lt;#&gt;</a:t>
            </a:fld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09131AF0-BBAE-4843-AB2F-CD20208C4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DF72EAE0-3561-458A-A9B8-CF6D5278D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ED93C0E9-0ED2-408F-849F-3DB25686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8463F006-C556-42FD-B49B-53A36A3A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02CFACC3-FEE0-4276-ABAE-88B621DF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D4762803-2EF5-4C15-AA43-AD2DF141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B1B932B9-4C0D-41EA-80F2-01D81288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2D4294C3-2378-418E-A9BA-3805FE68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FDB07076-24BF-494C-8507-5F1ECDC3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D3507E87-F69A-43CD-B0BA-FD8F5E20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6C9E5-3D9E-4A6F-BDD3-37A5D80F448D}" type="slidenum">
              <a:t>&lt;#&gt;</a:t>
            </a:fld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431D1A4B-FAB5-43FC-98C8-EE49AA32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2A686564-2CDF-4957-9D83-62128754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53C42BB1-A67E-4368-A938-18112F2D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3B882FA9-1306-4B97-B918-0B208E4C4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5849FDA2-D436-4112-8A50-A20B5394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1DA3559D-4BA6-4297-992F-E202F388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4750DDE3-BF2D-40CE-B1F9-2CEF07AA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7CD6E3BE-6011-486F-9B06-C7820DB8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6114487B-17E5-460F-9485-5613AB80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B9B92802-12DC-4760-B816-DB93BD9B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D1857-04A5-4541-BC52-06913887BC53}" type="slidenum">
              <a:t>&lt;#&gt;</a:t>
            </a:fld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F1AF8845-C672-4BA5-8129-459A9B65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CCEDEC58-C24A-49DB-9DC7-6668C90F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7CCD7A55-644F-41A8-BF43-78E93DB3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9CF63214-A031-45A9-AB8F-A0FF00639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21E5A96C-D770-46EC-B118-A7811247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C7DFED71-6E63-4F82-B632-26656201E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64C108AD-CCC6-4B19-8F50-EA0C6594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47FCE463-033C-4946-9259-D8FAC656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D9CF45AA-95DE-4C06-A6B6-DE80D06D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95C95D5A-3890-43E9-A76C-A9AE0156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FFDFB-7ED5-428A-B491-0C8754BB2C8C}" type="slidenum">
              <a:t>&lt;#&gt;</a:t>
            </a:fld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F87771B1-8EA1-4A25-BF85-9671160A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CCC27217-A507-40B5-AAFD-BABECA3C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2A4A86F9-7E0F-4088-BD32-DF5C2BC8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D6C4861F-D9F4-4E4A-9A52-4E94B231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0F3D9064-D9FB-4C00-AA57-7DFD7059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C99026A4-AD63-435C-86CD-BEFAE994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84FB2657-AE10-4C38-8B58-0DDC7FE43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8D6126C9-2B07-4691-B879-3D3D488EE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3740B1D7-46AD-42C6-B79F-9E7A8213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38815203-A579-4213-BD8B-74D2B036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64265-FA9B-48C1-A84B-0EBC7C3A4B03}" type="slidenum">
              <a:t>&lt;#&gt;</a:t>
            </a:fld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F078BDCE-2287-4863-8B31-6BC2D1FF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0A43DAB7-47CB-47A3-9FEC-999B39FD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66BBB814-8479-40F4-90D0-CC7846EA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CD6EE02A-D403-4148-BEED-D7C39512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30DEA387-9075-488A-8F59-28DDDD9F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66DA7B88-8155-4A06-BC31-F99649EF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FD1FD700-10FF-4388-8978-8B4B1CE8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05305F19-05B4-4A89-A972-BEAA0C15C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1493684B-B7E8-42F6-870F-4038DD33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159F868F-9353-4650-8789-294E3DD2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4479D-B4E8-4BDD-B506-C316C8D6042C}" type="slidenum">
              <a:t>&lt;#&gt;</a:t>
            </a:fld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E2A084FD-DA43-4D12-9A6B-5E62A0A5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3884D769-4488-4848-A06C-A259F380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E4C906B4-D62B-4997-9FE5-9FD06957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E3F1A045-AAB1-4812-8AAC-F187865B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9C4AEF98-2294-4661-9C60-77E6BB76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D1EF57AE-9703-40EC-AF57-FCADB25B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65B5D317-F435-4E65-96E0-6F5CEEB5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AEE08AF1-5C9D-43E0-9760-D495721A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974B255F-F3ED-49E0-9DF0-81E01129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BF6E59C4-65E5-4FF7-8DFD-86199700B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D41E-5F33-485D-90BD-C3F37957F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99EBD-C9D5-46B5-8FBD-3ACD7FC8DE52}" type="slidenum">
              <a:t>&lt;#&gt;</a:t>
            </a:fld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A1152BA0-87D3-4E32-A2F1-46934AC9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F33A5129-2D5F-442E-8055-3D81D5BA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7B539CDE-A9C6-49E8-AAD6-EB0AF86B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DE00725E-6750-495C-9424-114F9617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31C67713-31B3-4A41-9B06-E50E6BF7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8848E9F2-5767-41A7-A89E-405C6916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152FFC18-F299-4596-87D4-1BDDF379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20B3CB03-5C21-4577-B4C3-20B4F93B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33498F72-1151-4B3E-9C45-51B00F66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23F9C158-C404-4771-8192-7A839A52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896915-D568-4CB0-B694-7F3511D0E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81A01B9C-4DED-4F51-82A1-68161CC1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622397F1-8064-40B3-A308-0A6FB362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C5820DB5-0F13-4690-B4BD-70BEED4F1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771D2BC9-768A-431E-8D38-4579691AB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E6417754-4582-4301-A676-465908FB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7D71CB10-0062-4757-880B-08DFC56D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CEE0EC0B-536C-49E4-AAD8-96490A61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34E02627-4B48-4659-AC24-91E5D6C3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27B9A735-458B-4231-9A07-AE107E5A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97189F0F-D555-4151-94AE-FED630AE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E9EA56-685B-49EB-B204-54F0CFBB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F1D6D688-B26D-443D-8ADC-01D9F90F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EEB14569-014F-4596-9E2A-89AF6002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3BAE0AA3-D2F2-49B9-A3CA-1B7BEA80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A5CB5C63-520E-43AE-AC4B-76BCA3AD6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3C728002-35AA-4533-B574-BC4B54E09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74108E3C-5557-4AD7-AB98-8BC1D194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A51E6084-9EFA-4CCD-A46C-D88BFC4B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8398270D-6EEB-456C-AAB8-EDAACEF3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0900D264-20B7-4F5D-A9DE-5F9A3965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5F8EFBA9-56D0-4272-9089-23C88FD8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946791-C8C2-4151-9F25-44B8F4FE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018FC48C-D1E8-45B0-9691-226CC9A2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0E9165CF-D828-4647-ADD5-A01215C3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1A9F068B-2614-4049-8DB2-91955822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9AE374D2-37FA-446C-97AF-1B50EF07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51FA65A0-7FB7-4695-A4B9-A71B7398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F6A556E7-5C6C-4472-8E7F-C53DE9FC1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DD18310A-F9B5-45F7-8D69-88566E7E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6C5A6A70-ED91-43E5-A31D-5606BD9D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6DCA8342-3EFE-41B5-BD8D-BE212D84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FEE35765-0CCC-40C3-B763-5DC86010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015A08-2A52-4FAC-96E7-B5C28011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683A2BF7-3F7D-4753-92D7-03A5471F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C2F760A2-F4CA-46AD-A91E-FDA652A7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6378BCB8-B9A5-4397-A462-6285CF7B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490181CD-5B55-45A3-A259-6A87F219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62CEC129-930B-4574-BF4F-73CAC1B4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A028B9F1-91BC-4DC6-994E-4012D246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AD329FBE-4577-4E14-8499-5FBC0105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032A84BB-070C-431B-9DCC-6657B284D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F3DEA74F-B38C-418E-8A16-F9BA7DACF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2F945A29-3ADE-48A6-B712-A51357F65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F232C5-C881-4A4B-AF2E-37179E45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54521888-FE1B-44F3-8884-09AD4BE1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B68B933A-3D6C-46AA-8C81-A111EA42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E5F56E55-77A8-4653-A9F2-5984B327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1F840A96-E24E-4DDB-8EA7-AE4CE7F3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2205C3DE-1611-4A16-8F5A-ADABAEBE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B44490CF-17DB-4508-B92B-0DD55E5F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C4D66775-5833-4B0F-9139-0F7CB33B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EA648522-E09A-408D-8F05-39A4313F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FC80363C-6943-491D-8956-623A8819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C3ED45CB-189F-45A7-B309-16BBA69FD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5FB86E-7AB4-42E0-B535-C03BC2AA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DDA54256-8E8E-4181-98EB-257A537EA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3108AE-7E6A-464E-B82C-465B9548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67BF12-7E23-40CE-8D9D-A26EEDE3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059DF7-AE77-4514-9EAF-ABD8F517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3CF4-C883-484E-8628-361C0D5D8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3DD145-AF3D-4A84-BDDF-4559644A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865980-77F1-4427-96FB-CF8A576B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966974-AFA8-4D21-B1C3-BCDCE5C0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2F9D0B-BA17-431F-9799-14DAA065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EB652D-101B-45E9-89D0-4447D9EC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B76265-7687-4898-A2EA-9F7BEF54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1F545B-A375-4D2D-811A-4903A39F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40D3A5-435F-412E-92BF-50B4E36D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F4F420-A408-4932-B014-01C11687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D1A21B-5BF6-4033-9BEC-A7C22760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C9FA-8BBD-4CAC-A378-8DED8DEB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F004D0-3166-4EE7-AD87-75061E59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06C959-EFBB-422E-9A29-DAC78DAC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EADF06-24EF-48E1-804A-A4D74E4D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69C9AF-30C0-4DD1-90DE-81A5E92D0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0C807B-5336-42C1-8A94-66B86770F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22FA502-AF48-41EA-9811-9AF0EDA0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E8DD3D9-0664-425A-910E-674F906A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8BC192-8A57-44E8-99E1-299E737C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DC89A18-EB87-4E8C-825C-E1E0F526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0746A7-A0ED-47D9-96A1-32A8012B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4051-532B-473F-83C6-B44ECB61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EC915E8-5F10-4889-8F79-15FECEF2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C57148-B7EB-49BB-98B2-C55B972F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06EA911-031E-4CE5-A4D6-FD48BAE1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494E13-BE99-4221-A733-E3689B50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724F83E-15EC-46E4-9550-0B29E20E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335DD3F-D894-4DB7-A478-905582E82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6CE8461-C06F-453C-9B1A-ADEE0D2B8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15537A-EE52-43B6-9E0E-90A47ECDA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95175D-6649-46E2-A8A5-5F864E1C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D024AF-C2BF-4E02-93FB-1FE08995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B98B-7682-407F-AAB7-CA18B329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585242-1583-40FD-BDA5-B2E717DC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177E6C-AC7C-4C35-B5D7-9D9BB644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662E14-485E-47C2-BF17-CBD2A3BB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FCB599-8B83-4B79-9A76-89542C84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EFD290-8698-47CC-BA7D-9DBABAA6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74AA33-0012-4F73-BA34-2BAFF092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2D09B6-95D6-416C-A6E9-3413489F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4734AD-FA49-4AF4-AD9F-DD03734A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127A4D-B01E-40AA-9482-2E63EE23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08F0BD3-75F2-497F-A970-8156F048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A5F0-BF56-4E00-9F25-350E2962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9D1B4C5-CA3D-4BB4-980A-80A93416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E2DAAED-327A-425D-AF77-9E5AE4CC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D12EB7A-65C0-4C6A-92B0-5CFF9F58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14B2905-9109-4446-89B2-BADD2A15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6B0B160-B0F5-4264-B2CC-CFA8779D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6E5EE9C-2B8E-4732-901A-8C6C2E45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6142870-B524-4B2F-8667-6738A971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614944B-A783-49B6-A9C1-45014A24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6ACB64A-659B-4C04-8E7D-B365F771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A3D9DC3-27AB-462C-98BC-E85AE7334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A863-1760-4208-8107-60841198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44B36E9-684F-4231-B4B6-BC03D7F41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0B7DEFB-7CEC-4491-A180-76CA1B00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5481EDD-F364-4A02-98D3-630455D7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D07D1CC-144D-4715-887E-A2A0379F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246A5CF-B9D6-4A95-8322-52F50B1B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0CADD52-0686-4ECC-9A43-D4F696E2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C899715-D78F-45CE-8DDC-18E8A8B2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847E24F-A33C-4099-BBC4-15EA2C00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99962F2-2910-48C2-80D4-F5E2CAD8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698E251-382E-475F-8244-8C58D2F3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02E4-FAE2-44EC-930E-67E3D8F3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F56ABDC-4267-40B8-8207-74F51C97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F1260C1-3CAA-47BD-99B0-032D4717F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A626001-D3BD-4ADC-9D34-F17D089C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A42760B-4CCA-4FA7-8E56-FAC12D53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DBA9956-8ADC-4D89-9539-FDE00966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F3DC99C-C439-4A1E-B6CE-16D33F43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40B6E13-2368-42A6-B7C7-F9BDB13D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FBBB57A-5AC4-4219-AB8D-821FD25C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8EF10F6-6D9F-45FB-9902-84827E1F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5A0A225-AFAC-46CC-A4BC-94C6033F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E602-30B2-43D7-9922-F3F0C613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3813-268C-458D-BD4F-7E63CD3A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E4DB4E1-9DBA-4E5D-8035-897A6FBD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3A0B447-21AE-44BE-8855-B4F0DF7D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733770B-0E29-4D01-AD3F-02BCAC92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7CB9125-1059-4C53-A34E-659EB74C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3E70D51-28C3-4454-919F-34D0E980D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CB1F03A-5E95-49A6-8376-29FB82008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0A09B72-646A-4B26-AB7B-E4B3ED90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F8E99FE-1C96-4C35-985C-723712B4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D0CDFDD-4D16-4C22-AB45-CD28597E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0A70C3B-F398-49AA-9299-89343B5F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69A7-EB14-4A1D-AE68-45EC41CF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C4BF274-EC40-42A2-AE9D-F818EC8A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B5E5B5F-A081-4F3D-8E62-520FA7A7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AD156DE-1AD6-43C7-A4B9-C727B926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D6A1B4D-676F-41E1-BEBD-5B08A5BE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40602E0-06B5-4ACF-8374-F19F58CE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9780200-679F-46BE-AA86-44EACAAC2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57D1E60-0E1B-4E3D-8F8E-896F1271E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31812A0-F161-4CA3-A003-B4C923E67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00EE2D0-9C17-4387-8860-D93A7D49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E56941B-EFC2-4E54-BD40-1C32B127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1608-6102-459B-8E9B-3FB616E8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5B1B0CF-6304-41F9-9DCE-9C6C1DF1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34DF719-B432-4707-85A0-35C4FF41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B0F1F0E-6C86-4A36-ABB1-C8DD9396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F33C8F7-CF76-4A68-9B46-BC19277E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96A7D9B-1382-4C18-B8D7-D147ADDB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6456DA9-00CC-4E63-80C8-B42A0281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18DD466-DA3A-4C92-BCE5-EAB8CB46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BBBB5ED-645C-446A-9CA0-85E79BA4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F76A6F2-3844-4ED2-8025-64FB213B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5AD589A-EE76-4E05-98BF-0624AF40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5EF4-CE7D-441C-93DD-077F45812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AB2058F-98ED-4F19-8400-35F7233B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F2C9693-B946-47A4-A1BF-592FEAD8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9BEF5D6-A523-4B9C-B0A4-15FEF808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9595943-29CC-4D3A-A43D-D365A3C0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A8B0DAF-C151-4F7C-9ABC-28FBED1D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DFCFE0C-11C3-4D4C-8487-A097495D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A5EEB23-928F-4E3E-8CE5-B6F31D43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4C4D1CD-E449-45B8-B77A-29815BE2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34D8E60-8646-4EE8-BBCC-AA97DA3E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3D0DD83-7444-4D57-9A6E-9623F0445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9F49-20ED-4734-BBB1-F5D7F39F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4081D00-C237-4321-A426-E7442528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522CD62-43D7-44F3-B928-829CFF68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F3BC730-2CE6-40E3-8B6A-2D77D83C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9968919-D47E-476F-A5D4-010B9D25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C9EC83E-D957-4572-9BEB-1E72B037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4139A84-4633-4FB1-846F-F8A4894D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8616B19-239C-4516-B836-5AADD05A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F2CB631-CC83-4434-9C5B-2C3511A8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5D3F484-3D63-4068-8EC6-0F0A5ACF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4649461-9357-457A-80EC-5E9B4CD1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1D74E-C9B7-435A-BA37-244769E9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C263A67-ECCA-4061-B8D3-BFA6C792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CBD4A7C-471D-4EB9-BCFC-5BB5C844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25E5208-FA3B-4F8A-8550-ECB0001A9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7B34359-A6CC-4D65-B74E-EFE35F88A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6DFDAB7-D26E-4A61-90E6-7499392C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945A354-7684-49AA-9035-721F35A4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1FBC7BE-2350-4E68-ACCE-FC12AC7D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D0025EE-B286-4247-A795-56BA6B7F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2122F2B-CF8F-45B6-A596-EEE75972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EF467B2-D622-4C4F-A8BD-461E4805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4AF95-7D24-4F5A-AF64-2DEA0C4B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8756A09-102C-46DB-A8DE-88CD561F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0EBEEF4-B6A9-4C6B-81B4-B6F3F5DF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B5E21FD-F2D7-4224-B5D7-778A45E6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6959524-8805-48AD-B5CB-513348B4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E38B07C-D4AF-4979-8439-B7B5322EA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FFDABE0-D72B-4F08-BBCA-DBDA48B3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2F0B78B-0FCC-4CE9-B845-3700DEA2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757F34D-60F3-4F19-9269-86A87101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2C874E6-D146-4D97-90FE-28A3082B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8E39A62-E82C-465B-8EFD-DEFC0607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2D42D-01C6-426F-B47A-A25DF758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286761A-2897-476F-BC08-04F3BE25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37606EF-615B-410F-8328-468F73A1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90627A2-A29A-422D-97B4-F50353C7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6CAB86F-41F5-4AD2-AA9A-5191AEF2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2BF0AAA-CE03-493B-909A-52AC44F1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CC288B7-5BC3-4ADB-98E2-02B59A3A6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B2EA3D7-08FB-4FCE-A5C8-364CBEE9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32D4B21-FEFF-4462-BD15-815F6ADF3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34D1035-381C-4790-8B05-B1A3FA2B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F50DF88-6807-4E49-8396-3C6617E5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F147E-5ABF-4D95-84C3-683A6C9A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1ABCD5A-E00C-4084-917C-A77F51E2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ECEF38C-9EC7-4B47-BDA3-5A1BF7B4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0835ACC-0441-4081-8AB2-1E65702A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907F4D6-6225-482B-BCF2-42CF0F81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31A1BAB-43DA-481D-A83A-7276B416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69C4081-7388-4C84-BB94-A459F02A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4181FBA-5123-4A09-8ED9-9FC62BC8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A32B63E-671C-4D2D-8D0D-4BA1E337E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5B0688E-45E2-40CD-8223-0179AB05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D4D033E-CC76-484E-B8CB-38CAF12C8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F8230-BDA1-42B4-89BE-770DB51A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67F29A6-67C1-4F44-9676-ED098A89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60D715D-D28D-4142-AE3F-508B633A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1BADE75-1F96-461A-AFDA-FF8E7569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58A464D-81A5-4F29-99C8-CA10A08B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A0CE158-84DC-49B7-B447-3C3E9673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D504B04-6FBE-46C0-AFEC-8F26A563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14F3C9B-DB36-4A7F-B25B-29E2FD72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1ECD775-6B71-4BE0-BC5A-55C949EF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0A5B9B4-AF10-4040-9578-D251352D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6C497E2-1077-490F-A484-EB762443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2B1A-B830-4828-9A2C-B7F064EB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55C10-9220-41CD-B12F-9E84DC90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30F7939-F33D-4395-87FD-27DA6332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8A4EFFD-5EDC-49C3-90F7-AAB79BEFA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AEFD38F-469A-4B79-90D5-8A247C8A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6F3CBEB-CA72-4D05-AC37-3122FAA2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BF0FA60-AF65-4276-846C-A256321E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64C5E69-4D30-4DA1-817E-D07D3118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703F796-DFDC-4E23-AB2B-AA83258C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040C3D2-93F4-4332-92F6-7B0C5663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15FFEFB-F516-44AC-A32C-C890DA35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01B50E8-18C2-49E3-9D45-6A226E42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78DDB-3A70-4F8B-9AE4-499EFDD7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CBC7985-501D-44F7-978C-14F094C9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D0B1AC6-A783-445B-BEE9-72E944EA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475D5CD-97F4-421F-904B-2C273F1F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831BB3F-DA25-46ED-BEC2-70DDD649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F11DA7F-1648-4E4F-84A9-ECCE9A37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46D178C-6020-47AD-BC53-B358EDDD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E944417-CF38-4961-AAD8-039180D1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694172C-40C5-46D9-8128-0A2C4AC3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9764DE0-999E-49B4-B193-679C23D7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915EE7B-9FF8-470C-9271-3BDABFF3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36014-B17D-45C9-8DF3-DD264B62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AEA2DD9-C3B1-4803-B610-29876259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113BBCB-66D3-4BD5-B0F9-F92C5F3E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D81BF5C-7D54-437C-8BC3-BABBAD1C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A4CD5D6-6981-47EC-90FA-72B3702AF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338C4E8-F91A-432F-8EF7-E693EF9C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C89BC56-DD62-42FC-83A3-86753B22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FD0F9AB-E44C-46A2-B8E7-AEAB53F4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8AEAD52-624B-4E15-A606-9B55A4BB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CEC76FF-441F-42DC-B028-F7AF6BDD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EADD6DB-4E07-46C7-AC92-19957301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EDA1C-D252-4D40-9473-23B87D20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658ED59-6938-4844-BE4B-78C74916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BBC154C-216A-4D56-B811-CD29168D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0AD4C06-39F4-4F76-BBBA-4EBE6318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C2B837C-314B-4FCD-83D2-08187BFB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799C4FA-5C29-4361-BD4E-9E9A4113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E5CE060-545A-43AD-9995-7E881E10A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7E1CFA7-17C9-46B1-92F2-680ECBF3A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76F2932-F16A-448E-952C-D4A7B2BB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CD89699-B844-4A9C-B115-01E46508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357FFF3-A013-47D8-994D-D357A510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DCC66-8E3A-41C2-B22A-8CCDBBB2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C7C19D2-28E0-45D3-8D80-8639BD5D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21AD6F9-3E83-4CBF-A3CC-B6491E90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B868615-E084-487B-B522-D96BC250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B6BAF15-81BE-49AB-8DDC-5718D317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5ECEEAA-2716-4DFC-880D-642EDEA9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684B8E3-58C6-47EC-BFE1-945A1627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B2A4453-0107-4AF5-B877-3F3B5686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22887CD-7934-47A9-9217-FB7D5D08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EE5BFDF-E1F6-4B1F-8521-E4CD65B9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D88D69D-F19E-46BB-BD15-16C67C9D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06998-15DB-4D78-8657-C3E9CBD3B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2E22B6F-FDEF-41B5-AC23-C343A29A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13C6FE9-9544-4E27-8464-108E5D1F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728FA46-7127-4CF9-977F-D326BD2D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D7237BB-A58D-41BD-96CA-7296A702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CFA8D68-9973-4711-982D-387D51FD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00A6A3B-F23B-4F72-95B1-D9AF3301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82BC63F-C151-4A28-874C-48C14273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BAC806C-F8CC-4374-B38F-F7899DAE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CA71D75-C4D7-48F9-995D-9E2C31B5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636FE81-FBB8-4E37-96B4-1A637F86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4F46D-CEE4-4BC2-9D05-6F676A65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AE6EBA1-853A-4BFB-ADD0-872DACC7D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BA3CC421-C9B3-46BA-A2CE-B2FED1D54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B16C90D-F39C-41A6-B328-FB4C5BF4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05DB5606-16B5-4C55-ABAF-6A62AC19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F8B0811-E059-4CFA-B141-30B7CC95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27258DA6-D5FE-408C-B06E-C7F20033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0074965C-329A-4214-A6B2-CD60157A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BC5326F-FA86-4CA4-9217-EA875FAE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7D5FDC3-D6C2-4B79-92BA-F5ED6A93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01416F63-E84F-4242-85F7-EC03EC7F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B5C9B-0CD4-4A16-8FC2-AD776ED7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F04724F-0FBE-4DB6-9FC0-8C830CFD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C04E2C7-40AB-4C6D-ACCF-D4CAB6B6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91D6A82-B4E4-4764-A35A-9CBE9E2E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8A70DF9-B419-4E40-91EA-9F642751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DCED99B-AC25-4239-86EB-1F53E847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AA66EE0-A90B-4E73-BF02-468B84DF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2BCF74A-4C4B-4047-837A-1EF1AFE3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D332D8A-BEC0-4B7C-B9DA-546970D9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8450C9C-6C74-479E-9745-B8BB12B1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B5D5094-DD5C-41C7-A59F-24F37BF7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4AB01-9F18-4C2F-88FE-76E43060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05405DB-4142-4E6D-8D70-34E0A039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14A0D98-B9EA-4458-B9A4-BA80ABD5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C7B1E43-AFA0-4FDC-8E6F-5B8D1BFA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D5E3596-CFE0-42EA-A989-6D34745C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C338C44-01E1-4F95-B372-2787B9E5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433BD66-8274-4EDB-B5A8-DA80D4AB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BC433B1-173F-4D48-B981-5CBD0573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7B6FF56-F03F-4AC6-8000-61870859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0FA929A0-6631-4226-8D23-35A92757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4DC1CDA-7C42-49C5-80AD-5BCAC5B9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622D4-4F2F-4001-BFAC-2DE5AD67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27E547A7-E90B-4112-98E5-24AFC371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97D4A7D4-35E2-4B19-965E-E0BF7181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F360D37-98EE-46E5-881F-5F1A6A8A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BD5A660-B26F-4895-86EA-0D6E60AC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C71E373-390D-4DE7-9368-AB248F6B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C8B6DB0-895C-49C6-88A3-68D0C73B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BFB47A3-C6DD-49B1-AB9D-0376EDC0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C8B30A7-A018-4027-8251-6D4C851AC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D22258E-AE93-4B7C-A925-BC7CD7AC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C892D76-DBC7-462C-98FE-08E24CD7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90E5-7AB0-46A7-BE56-12074498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0CCD6-4FD4-4D41-80D0-261724D4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D7EB3BA-8111-4A9B-86C1-2DA3B117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A8CCC6E-189F-45EB-BA1F-9E8945A2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D8ED578-3ECC-47AF-B25D-7358E13C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B4D566C-7D41-4939-AB77-CFA060A8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E0F2E40-5F3C-48BF-9582-EF8C71BB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3294FB4-A40E-46C5-9EE8-8E582C78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4F45A91-F191-40EA-B26F-1E40F48D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1FF655C-C317-4FB4-B0D2-B488E005A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0CE2B61-5C43-4F30-B90B-369EE767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C348B98-0D7E-4F62-B547-33AC01CC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BE9A8-8962-4593-84E7-BF82B1B2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328E304-E62B-4239-A8A2-8EE44AAD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523328F-D853-4F89-8BA8-996E7C53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72175A8-1434-4227-B1FC-8DDDED71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4A4E8A7-FAAA-489D-A8F8-7A6F34B1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FAFB325-140B-4631-9F28-34B43EF4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B30030D-FC2A-4328-BC41-6CCCAE83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E1C98B0-807D-43BF-8197-1D413D5E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FBFAB82-44CD-4010-A930-A1D51F04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1734C0F-0FF4-4009-9B21-D92A3FDE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54F7337-9DD2-429E-B48E-A7E528E52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04F25-E384-488D-B28A-2A60C0B8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1FCE011-3CAB-4B86-BC83-CCA8D99E1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E88FAA1-5654-439F-93AD-4BDC02165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E16964F-7BB8-4F52-B082-FED03E7F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DAEEF70-7BE8-4D26-B552-1AAE3C40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255DFEE-0786-4488-8E6D-3058C1DD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8EDC623-9E4D-4557-8890-31CF346B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DC275A7-FC69-4C5B-A99D-84386ED5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5C747E9-E1F3-456B-B603-0009D3C6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8CB4C83-EB11-4AA2-A465-C3A64CFC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20A7639-2FF4-45E5-A6E0-F4E93054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2A2EA-96D0-4718-8931-DCD4876E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D3DCA4B-F3A6-4296-B7A4-A191043F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BDC0C55-A93C-446C-A3AD-1844B59EB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799B528-56A1-4D04-9767-6C129948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546D4977-7A41-403D-B474-3ABE1357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C0AEA0A-03B8-4DAF-A61C-FF8213ED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93DFBB3F-8883-4110-80CF-96E0E16F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63A4326-C31D-4BE0-89F7-C85E6B31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8373EE1-E966-4735-98DB-3DAC653E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59427B33-9412-403A-A9C7-D68CD938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C130476C-BFC1-44E7-91DB-A056B8F7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DED40-6720-45DF-9C28-5007939A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6B809C5B-61E0-46E5-B061-857A7AC4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4DCBDFC-E814-46FA-9BDF-288C0471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CBEDD944-8FBB-4C8C-AB06-F3574753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6F627D2-C99F-4B44-B5F4-E80912BD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6C7EEAB9-961B-4D9C-B27C-7CE87718B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44EFA6E-F316-4E81-A27D-551D0F05F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265A67A-1F09-4E6E-86C4-3C9E16F6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7169B62-EE45-47E6-BC64-1FD73F49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0505B44-D86C-4780-BE56-89661B01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8C1A413-5647-4AB9-98C3-F40DA65E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E8B24-1CF5-4C61-A89B-062EE9E2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21A02EF-B220-4A19-8824-C199556B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45AEABF-632C-4EB8-9938-478AC63F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9915F48-A26D-4C44-9454-6F69BDE9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20D02A6-1E33-4765-9A6F-AB61F20B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965DC48-215F-4545-A673-480ECA20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5A568C7-DCDD-4804-B404-8005A09B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8A1BB8B-DF21-40FA-A59D-E8B2C945C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4A097E3B-BE65-4999-AD6B-7A006479A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999BC3F7-45B2-4EED-80A6-292CD620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3AF5094F-91D1-4CA3-9CD1-D468F289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93372-2654-45D6-8953-6CF27970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F21A5624-2CB8-41F4-B343-4312BF20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E245A3D2-4741-4BD9-BCC5-FBB984F7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22BD0F9-73E2-4F67-8BF2-97F87A8C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5252262C-CD05-4835-937B-ACB2FE70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C5B2083A-1687-4A99-8B77-2564E200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79569E9-79B4-42AE-BC50-EE390A32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DA1032C-29A2-423D-B83E-123AAB14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C581305C-4E84-40A4-AD8F-40444119E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B1B6119-3450-4151-86F0-3F9242F17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967B88B-8CBF-400F-BE65-52ACB103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D63D1-75E1-40C6-B0DC-70F2EBFC6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CD0EFA2-5360-4272-973A-B8366A94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12CFBA4D-DF12-4F28-8584-BC459EC9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3A251E4-5338-4D29-A9A7-29530307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2F9A9121-7641-4054-BA1A-9E3CD8E4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EAE1D940-DC92-407D-8291-39C8F44A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15F53663-1CC9-488B-B8CF-20FB22AF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8B4D8DD-4A44-40F1-BEA8-E2879ADD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B073FA4-69FA-4F8C-8D3E-1177E146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8DB4511-3DD1-4C2D-92F1-CE9DED65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5387BE4-EA7F-44AF-A0D0-4257C494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FFEE4-3354-4CFA-92FD-0D1742D89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E4C5941-37A3-4623-9BAC-58FE07A9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59C422EE-0505-4E33-AA84-88381DF2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7BB1883F-FBC7-4C0F-AEEE-6B92158D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B51596C8-5247-4FF8-A7B5-568286DB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FDFD30A8-7675-4DDD-86C4-D31E243B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5643D859-95EE-4EBE-86C4-BE9D9F5F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2ACDE3D5-083A-495E-9C51-A62C96DB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B2271367-7C90-45E8-851D-F955B65A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6599A9C9-4990-4E11-A857-23AAB4CF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FC038985-7716-4C1F-B453-A6B376CC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30668-F6DC-4D02-805D-C1C5FE58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284EC983-1B62-4990-93FF-C9BB5F43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248A2DB4-9EC4-4E9C-B6CC-BB28487C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960C59DD-2554-45E8-A73F-599859C65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2F748297-4556-4AE9-874D-42C5EADE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4E9DE9ED-B919-4284-979F-EBBE2DA6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78AD968D-2F21-4BE6-A17C-6762F803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87ACDD5D-E28E-4085-B3F9-CC26B15D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9EA45875-A704-4622-87D1-F7031057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F65AF740-C8F0-4402-B02A-01B6976F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B6805112-5782-44E9-9E6D-DF91E952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D607-09ED-44B0-B50F-C858FC24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59B91-F37F-4398-BA01-58D0F332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755E1BFF-99E0-4F5D-AE63-C5CBD2D4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0B2F1DA3-CCE5-48A7-89AB-7944B6AF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A7F3A9FC-95DB-48CE-950A-E3EA388A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0FD79C2F-A959-429B-862F-AB55B7F5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4B685167-71B2-46CC-9B77-186A2747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0E750E4E-6C96-4179-B63F-FB23DACE1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0C7B5A57-CCF1-4EFD-B337-3166930F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ABD27FB9-2796-4A2B-99DE-05343E0B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E51A2989-8B84-469E-9A3B-4ACA7916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0A79275A-2B76-4732-9BA7-FFF3A677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54126-71FE-4893-A524-BF013ED4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DD2E0D3D-A05B-4CFA-A0E9-6F8E0476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E8DE63EB-D61F-4EE5-A944-6210A096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7080E6C4-259A-408E-9A5A-D9D5D186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8D8CA53C-9142-4F2F-A4A5-D8F9893D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0B710AEB-85D5-404A-B7F0-83DD92C1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8636367F-C22D-429D-8257-1ACD7C78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06DDD53B-06B8-47C5-A0FC-21E28EBF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E50E6401-06DC-44C8-B21B-D805C430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F73C0A9D-DF6C-49C2-9CDC-DC99EBB2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2326F8FA-AAC7-4909-8C0F-C155F333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38731-D76C-4361-AB8B-373A1869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69D04EE1-8B1C-4C57-8A08-01225CB4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88C35A56-1C03-40DA-BAFC-820024FC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406F4159-1249-41CD-8196-0848BA34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BE44BFEC-1CA0-47EA-8057-377C0D38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2F36E3BE-9CFD-418D-B16C-AF0FBEDB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EF943B9A-0972-41AE-9DE0-D7108F99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B364A8A2-EF65-4C9E-B164-9CD42F28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2A07A6ED-4093-4959-9448-0F64823C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E7573AB4-5FF3-43E7-8AB6-AF838C9C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17C8A6B4-97A2-48EB-A72D-79778A3D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533A6-C9E2-4341-9B43-EB5CD21F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7384F575-217D-4CA9-9F1A-78348170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2104AAFC-31AB-4245-B3BA-93EBFAE2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38FD6143-55E3-45B6-8778-E20C56B9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C4D87253-4D87-4401-9E1E-0088D13B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4A453B00-4B3D-479E-B330-3A729EC1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51126806-F8CC-41DD-B5D0-DCF40AC9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5DDFB617-3B45-405A-8A66-DA6BB418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5DA06E94-698F-41D2-AB6A-80990C93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9378E195-F4D0-4513-B753-3B18E68A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7CB9C278-644C-4CCE-ADAB-81E0B03C5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784E8-3BCA-43BB-8611-F123B4AA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C8BF6030-0963-450E-A9AA-313DECB14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4D9E125F-542D-43D4-BD29-82426466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88DC04D9-D3DF-4ED6-BDAF-CB4C5590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B3ABC163-8B35-486F-928B-7A967D18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9AD883B-CAC3-48B5-A2FF-49519F50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169CE618-4575-489F-8672-7C0F3A88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3C3D7316-F2E9-4F2E-8EDA-446AA720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73A24B69-13A1-4D2C-BEF4-0762A519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8DA4F17-05ED-4625-A800-9B429962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7DC8FD7E-0678-4A12-A801-9E38FAF1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912CD-BCD4-4E5E-B8D4-A0D09161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C5DF42B-819B-489B-AD0D-59EB83EB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7C703480-42F8-477E-BDC0-E51B8E9EE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86851A5E-CE11-4548-A323-F23E3D583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73D1F56F-724A-41CC-A4DF-622CEC223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4D3B45BC-B4CA-490B-A293-7D879E1D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C0391E98-B901-4C69-B48C-5F97CD5F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6407B979-6BD5-4755-9302-6396FDA2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6F5B5B26-F9AD-48D4-8411-1C32BBBF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89B5517D-927B-4EBE-BC8F-F2B5AD78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9CF9313A-2315-474A-96CC-509628E9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765EB-87A2-4A50-A07D-24917F49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70C4C388-F735-4D00-917B-0099313E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4ECC0DE3-A4C7-4A9A-840C-C573745A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07FCB087-94AE-42E8-B62D-ACCE44E3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7B29BB20-917B-448B-B454-1779DB031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96D44359-34DE-4CAC-ABA2-5968FDFB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DFC85-CBCC-4133-9F60-BFC44AE2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B1954-1F86-4317-B095-23C8F6C6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A86D5-0E0F-4892-B12B-9DB35ABD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1423-1E4E-4569-B354-B73B0409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4BD9A-B0FA-4424-B2CC-969D50C64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5E5BF-8E79-49EF-861D-A73EB6BE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12CA4-049F-4972-A8F4-D379EDBE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62323-876C-4E38-ADF3-EDE1C3F8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0FD1A974-3AF6-4FDF-898B-D5EE8585DA7E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5D0DF7A7-EC9E-42C7-9509-5B2C3AE611CE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269B76B2-79E9-4B01-8D37-F6590953289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A62DA-5498-4680-A276-E86C89B2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710C3899-A410-4543-8CA5-97B3EC594638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7269B3B2-C341-4ED8-85FB-92C8AC461EFE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720B998F-026E-43EC-A900-4602EC719A10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0F933201-125B-4D0E-A171-5022AA9EB99A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BFF29D37-669A-407A-90DF-65E767B01E27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0AC25C86-C948-4F2F-B16E-D0E52E828CCB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DDFA05EB-93FE-42B4-8F6E-3DB886DEF6B7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DD402DE2-97F0-41F4-8512-3EFC56753E93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7C25BE4A-0921-4DFF-93A5-1EA8FE215C5E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C574024B-75AE-4E64-918B-30E8EAD9876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DB32A-EE2F-4763-A568-A5C2A5AE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2BB96DBD-70D4-416D-AE6B-3FCEF7420C99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254584EF-7AAC-416F-A7D1-02A0CB17DC71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22B1C320-7C49-4A9C-A6FF-563467C79562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1874D694-52B2-457B-9F07-8AEF599A98BA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52BC4B7B-7CF9-43AA-A17F-5B1433D701C5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B8EE3868-2AC4-4C6D-9D22-1CA834F279A0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5D9B6FFE-E2DD-4BB4-B4DF-72ADCF25B3BC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716A7978-C2A2-4DD3-9277-6E6B7FD93C28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76099DE7-9B15-47DE-A38C-80814066D92E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D3F50DEB-336F-4512-9CFB-58240C6E56F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E1DC1-5F52-4F6A-9C54-34AD205F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B88F4A19-EB9A-4808-9FC7-DCC4349A8D87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F841921-AEF0-44D0-A887-13C5CC6F6630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D283E0E-A370-49AA-B785-13956D6D5D99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53D45D5-6D92-4EDF-A8AF-CF015C056B73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5CCCBB8-888A-4DFF-B3A1-034E8330B75C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1A12D66-FB0F-489D-8DBD-59201422BAE5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385E526-1EEB-4DD5-A5B5-4DDF54C5798B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367291C-DF6A-4B8B-B243-25949D9F1EA4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02D86B7-94CD-41A9-B9BF-D436DC126E80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133F143-8D36-42DE-8641-051724569DD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22A1C-8D32-463F-94EC-0B8823A4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0694002-FC9B-4DF7-8E98-D51DA58EAD91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5B00788-895F-454F-896C-C0FED35CE10A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CC01289-5C74-48B6-979B-1266B1DA4E73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5BB09EAF-A6B3-4E4A-951E-8A809DD633AF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9FBAD594-AAAD-4C11-BB73-BEEB850B260F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5CB58FA9-B23D-490F-BF0C-ED61F2305712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9CD335EC-2BB9-4663-BC2B-D946AAB2E748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C76EEF63-A997-46EC-8E52-456A413B487D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B4E71C10-87D7-4986-A7E0-898AF86CFEF6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59CF0D34-92EE-4F49-A01D-D9D54E8DDD5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ABA4C-B841-4986-A6D7-DC52675D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C402F30A-4BA9-4BBF-948C-6F1CD53FDC4F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5C6762C3-8AF1-44D5-ADA6-64499A4EC345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39370542-E47C-4308-B173-732B403DE447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E3AE7BD5-5A83-4E96-A4A5-C306C55C1AC6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69508A79-FFFD-49AE-9E2F-5CBFFC09CACB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1CC6D28A-F0D1-4DE5-8AD7-2CBD1ED46E3E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B49BD4D1-03F7-43A9-995A-D81A1A3F9181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DBC9BBD2-E910-45C6-BAA7-56986C9146DD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1643BA15-D52B-45D2-A265-BD880465E73B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9722DD7-5001-4EDA-860D-1F97F74CBF6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8F589-C588-4909-8C5E-873201F0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D7DBD0F5-702B-41EE-88DD-F0B81ACA670F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9C935304-9361-4188-A3DE-A1A954B6928D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194B94D8-09C2-41A5-A985-5FA98B2375C0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BFB89404-2339-45CD-8880-60868750D17C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09D9E2CD-ACD1-4DC6-84C7-DE0EB3D75DA2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DEEDD763-73AA-43B3-B763-C78B319D9759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FDE9772C-47B2-486F-BE5C-075692D246AC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C11CD30-FB80-4CA4-ACF9-E50C3D2D49BE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4C50F2B-A4BA-4981-A1A7-49BC6672BE2B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29D9991-CDC6-4822-880F-6C26322F0C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0FD8-3DC7-4705-8E57-10AE8EEE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A28A1-E68F-47C0-A28D-030172E4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64CCE66-6177-4040-9122-DFBE18CBF9AD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B372CA9-4C41-4E74-A3C9-1E402F492FF3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C9CD5B7-E280-4604-A551-A91E53B498BB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35F44C9-73D3-4B21-8780-43356BD66BD0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AF4EB43-71A4-4B31-88CD-470A439215A4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DA52150-5A81-47E9-A391-5541B78A6AF7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4641303-0631-4AED-8ABB-149BEF108A53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11B087D-00EF-4A5D-B2A0-C82206EC418E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72A1DF4-1B0C-4D3E-822E-CBD32A740F91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3422CB0C-4526-4757-B990-D05C18227BD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C2F21-DDF1-41CC-A4EB-1FDB15E5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C234534A-1155-4C62-B15A-EA30362D0311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6F55C2D4-99F6-408D-BB60-B93C2873D3FE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B1A11FAC-1B29-4964-AB09-B37B0F016564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19BC2549-5AD0-4B92-B710-1D31FF4FC8E7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0C2F60B7-E271-48A8-9D3B-29F7DD7068BF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08D5C738-0BB4-4138-AF33-1CB05CBA1F27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8A87D274-E0B6-481C-B3C1-4B898A3779FC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1711D1F6-E4D9-49EF-8CAA-2581936FC055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78E0AE3B-FC84-4A5B-942D-2BA9B775BC0A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3B9F220F-AB22-4849-800B-25D9808AAD7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8E171-DFE5-41E6-A9E9-257A5974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958BB99A-43B3-44C1-8064-3E86607326EF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C790DC9A-1D42-4E89-BB72-0B0C026670CC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2425884-B307-4828-9012-6665913CC028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52D7627-EC25-48C5-8346-2116969E9F71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0434C0B-A4D1-4688-BE5E-F152EE2F12D9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69D98CF7-ADFA-4AC7-8C1A-890703C1E420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B4AD7DA7-94D4-4906-8F2E-69A9F99A0DC9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D6C7FF0A-0F3A-4260-88DA-E639C031436F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189B93DE-4AD9-493F-BB59-443667E621D0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7BF38EB1-F078-4AB1-8686-8596B0D556C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98214F59-0930-41A0-9EED-2748B7B086B5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DAFB0F66-F8DB-44FB-96A7-8FD73555696F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DA77381E-2C4C-41E6-830E-6E6DE3DE0729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D84E0BE-FD88-43D9-9C64-0060F5D20999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F1AA534-4BCD-41A4-8AA1-C852BB68C901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5B1806C-83D8-4165-83DE-DDB65F1F7C3B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38303BF-C83E-4B3F-B534-75D9A47412CB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21AA6DE-B54D-4DB7-9FE0-5CB243F5FBF0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72D0634-1DD9-43B2-8578-09EE89CACCDF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96CF343-F9E1-47EC-9DDC-0A935D9AD85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F5DCF54-DCC7-477E-9983-0754EF6E44AC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66067F0-A5A3-401A-BBEF-44789FE8F674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95B95B5-5DD4-4D4F-9FE8-1D7BFE2363D1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121E47E-A35E-4234-A7A1-736BC886BD35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7A5A4E6-585F-48E1-9A5C-CEE52F621EE5}" type="slidenum">
              <a:t>&lt;#&gt;</a:t>
            </a:fld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4B533E3F-BD00-4558-A3E9-89B71FCEFF67}" type="slidenum">
              <a:t>&lt;#&gt;</a:t>
            </a:fld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A5B8EB0C-958B-44D6-8FE1-A7F0EFE348DC}" type="slidenum">
              <a:t>&lt;#&gt;</a:t>
            </a:fld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BBFB56D0-5101-4B6C-A474-88355569C3C0}" type="slidenum">
              <a:t>&lt;#&gt;</a:t>
            </a:fld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0F460BD2-187E-4ECC-8E49-1AE314E92C28}" type="slidenum">
              <a:t>&lt;#&gt;</a:t>
            </a:fld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78B8DF6E-D447-413F-9269-928E88C0E14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E056C67B-A570-4BE3-AD0E-0893F5BCDC62}" type="slidenum">
              <a:t>&lt;#&gt;</a:t>
            </a:fld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1EF2FFBD-7EA9-49AD-A09C-87FCA00E0C21}" type="slidenum">
              <a:t>&lt;#&gt;</a:t>
            </a:fld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9EF540DF-E6E1-4BB2-95C4-AF7DF26ACD58}" type="slidenum">
              <a:t>&lt;#&gt;</a:t>
            </a:fld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B8B51FB9-E14D-4992-9348-0CA038A7B220}" type="slidenum">
              <a:t>&lt;#&gt;</a:t>
            </a:fld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D3C15965-28B4-4C19-A20C-82C427AEE8D0}" type="slidenum">
              <a:t>&lt;#&gt;</a:t>
            </a:fld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96E0E119-273A-4A42-8E0A-257F17D24DA1}" type="slidenum">
              <a:t>&lt;#&gt;</a:t>
            </a:fld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53624375-BB6B-4808-B89C-DAF48D21DEB8}" type="slidenum">
              <a:t>&lt;#&gt;</a:t>
            </a:fld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A42B6C34-B1FD-4532-87D9-B553C425A9F3}" type="slidenum">
              <a:t>&lt;#&gt;</a:t>
            </a:fld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C3E4D41B-EF96-4F1D-B971-EB171DEEAEDE}" type="slidenum">
              <a:t>&lt;#&gt;</a:t>
            </a:fld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6D44EBD6-3127-4866-88DF-39F28DDD862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1AF1D7B9-ECF6-4C6F-A99E-E2C312AA91DA}" type="slidenum">
              <a:t>&lt;#&gt;</a:t>
            </a:fld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89EBA429-A276-4765-A26B-1203C98E1EEE}" type="slidenum">
              <a:t>&lt;#&gt;</a:t>
            </a:fld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A162AF08-0989-44F2-AA36-B1CAD5D4407B}" type="slidenum">
              <a:t>&lt;#&gt;</a:t>
            </a:fld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18B9E036-6D1F-43AA-8960-E33C3960B345}" type="slidenum">
              <a:t>&lt;#&gt;</a:t>
            </a:fld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3DA70DB6-8C9C-45BB-904E-42114979185B}" type="slidenum">
              <a:t>&lt;#&gt;</a:t>
            </a:fld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298F944B-8B5E-4937-9B7F-77D92C2C2426}" type="slidenum">
              <a:t>&lt;#&gt;</a:t>
            </a:fld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F630C42B-FAE9-4CAB-BB97-2A9531770812}" type="slidenum">
              <a:t>&lt;#&gt;</a:t>
            </a:fld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F846E709-FBEB-48F3-BC90-659F1C247CFE}" type="slidenum">
              <a:t>&lt;#&gt;</a:t>
            </a:fld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259F0446-2718-4CD7-86B8-974F71CBC577}" type="slidenum">
              <a:t>&lt;#&gt;</a:t>
            </a:fld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5E90C3A-BF98-47DF-A966-B9D4248C6AB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739FDCA-6C66-4896-99DA-5063A270CC17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4BF6527-9D97-4364-AB7D-1521F8AA3B4E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2C0BED1-8A53-4BAE-9932-071B7AFCC768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CB7077D-61AF-48B3-B59C-AF850F09A751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C128F10-D016-4246-901E-4FBA334CBDC4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4E1DB2E-DBB1-4176-8BE7-C437C31555EC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F4DE16A-A880-4470-8894-8841FBB33EF4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AB61826-8F07-49DA-B4E5-7B2D04992852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4E076A6-0216-48FD-BD06-ED9940F9FF83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7B316FB-5BC7-456D-BE58-BFAAAF5D332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E20A689-F3A1-4965-B767-A7D10B7C8453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F0653643-E534-4FCF-B676-178BB24E740B}" type="slidenum">
              <a:t>&lt;#&gt;</a:t>
            </a:fld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21713C87-8D12-4C03-903F-FA75B7B0633D}" type="slidenum">
              <a:t>&lt;#&gt;</a:t>
            </a:fld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7841EF0A-FAC9-4397-A93B-FF11DB349D8C}" type="slidenum">
              <a:t>&lt;#&gt;</a:t>
            </a:fld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6ECED2E4-5D66-4AAD-8AA5-5A6ABE2BCD07}" type="slidenum">
              <a:t>&lt;#&gt;</a:t>
            </a:fld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D6396276-19A8-491F-BC8D-4B078E85FC0D}" type="slidenum">
              <a:t>&lt;#&gt;</a:t>
            </a:fld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62D1C8F3-EACB-4AB1-871B-AD0BE032D2C8}" type="slidenum">
              <a:t>&lt;#&gt;</a:t>
            </a:fld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FF916BCD-11FC-4794-AEC4-31741A052A62}" type="slidenum">
              <a:t>&lt;#&gt;</a:t>
            </a:fld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FF077942-CE81-43A0-8D94-B9B172DA76B6}" type="slidenum">
              <a:t>&lt;#&gt;</a:t>
            </a:fld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947A77CB-A046-48BD-83FA-9708210069C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41C01987-7E81-4E48-B7B7-808E8CE6129C}" type="slidenum">
              <a:t>&lt;#&gt;</a:t>
            </a:fld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7CB9C889-3DFF-43DA-982A-F1F8EC79934C}" type="slidenum">
              <a:t>&lt;#&gt;</a:t>
            </a:fld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9E9D80F1-6A96-41CF-82C9-A8555CBF7542}" type="slidenum">
              <a:t>&lt;#&gt;</a:t>
            </a:fld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C804202E-DD19-4CD8-A6D6-333BEE38A73E}" type="slidenum">
              <a:t>&lt;#&gt;</a:t>
            </a:fld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ADB6595-3383-4C03-B5C7-6BEFC23D3B76}" type="slidenum">
              <a:t>&lt;#&gt;</a:t>
            </a:fld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1BDB9A33-CD37-4AA3-B584-A21C6963DE71}" type="slidenum">
              <a:t>&lt;#&gt;</a:t>
            </a:fld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239731DE-FD70-445B-A5F0-6FA45554BD10}" type="slidenum">
              <a:t>&lt;#&gt;</a:t>
            </a:fld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9BFEB19C-35DD-440E-A34A-CFDF0D8C1C25}" type="slidenum">
              <a:t>&lt;#&gt;</a:t>
            </a:fld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807BC6F6-9216-44EC-BDBE-4FC1811B2737}" type="slidenum">
              <a:t>&lt;#&gt;</a:t>
            </a:fld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CBAB7031-38A4-42A4-ACE1-0BD6C7F7C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619C-0823-4AA7-9CDE-32BF213F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883F2264-0354-4431-BBB0-D004D7CEC062}" type="slidenum">
              <a:t>&lt;#&gt;</a:t>
            </a:fld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B8D80BAE-F98C-484A-B7E3-862B620F56DD}" type="slidenum">
              <a:t>&lt;#&gt;</a:t>
            </a:fld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3F8D61A-4E49-424B-ACE8-5DB91975FA5A}" type="slidenum">
              <a:t>&lt;#&gt;</a:t>
            </a:fld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88044BB1-2644-41FC-95B9-E0BD0C5ECEC8}" type="slidenum">
              <a:t>&lt;#&gt;</a:t>
            </a:fld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A0A6F821-F7F5-4A9B-82B1-5FEAF58F4C8D}" type="slidenum">
              <a:t>&lt;#&gt;</a:t>
            </a:fld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23FF394-DB86-4149-A986-0ED003D3B294}" type="slidenum">
              <a:t>&lt;#&gt;</a:t>
            </a:fld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66207E3-9C7E-48A3-BE94-32344D3AFF44}" type="slidenum">
              <a:t>&lt;#&gt;</a:t>
            </a:fld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0D1120A-ABEA-44DB-B380-65BF439E3681}" type="slidenum">
              <a:t>&lt;#&gt;</a:t>
            </a:fld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F0DB822-87A0-4050-9D03-1370E13A3627}" type="slidenum">
              <a:t>&lt;#&gt;</a:t>
            </a:fld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7FED144-980B-4C6B-AC87-77BA56E4780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008C94C-2A31-4ED7-AB88-65D788585557}" type="slidenum">
              <a:t>&lt;#&gt;</a:t>
            </a:fld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55F554D-15C4-4D4D-9746-813AB5B6AE98}" type="slidenum">
              <a:t>&lt;#&gt;</a:t>
            </a:fld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5416E8E-EDDF-496C-B393-06994C7C9D2F}" type="slidenum">
              <a:t>&lt;#&gt;</a:t>
            </a:fld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A36838E-C7B1-4A02-8544-7713906411C3}" type="slidenum">
              <a:t>&lt;#&gt;</a:t>
            </a:fld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FA4002D-6F77-4208-A228-E52DEDDA5568}" type="slidenum">
              <a:t>&lt;#&gt;</a:t>
            </a:fld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9B52D4D-76F0-4428-B20D-D22E29416910}" type="slidenum">
              <a:t>&lt;#&gt;</a:t>
            </a:fld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1971EA0-AA1B-40A9-AFC7-EEF6684724BD}" type="slidenum">
              <a:t>&lt;#&gt;</a:t>
            </a:fld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A6CCBA6A-3615-4693-99BA-DEC9A275DE28}" type="slidenum">
              <a:t>&lt;#&gt;</a:t>
            </a:fld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00749909-D635-44AB-B109-12D58B2931FF}" type="slidenum">
              <a:t>&lt;#&gt;</a:t>
            </a:fld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CA3F0855-B93E-418F-9C17-7F45229098A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CB7E3035-2AC7-437F-9E7C-5DD821B2868C}" type="slidenum">
              <a:t>&lt;#&gt;</a:t>
            </a:fld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F6A975EB-2CCB-43F7-A27A-6ADD0A5742F2}" type="slidenum">
              <a:t>&lt;#&gt;</a:t>
            </a:fld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CDB011B2-A235-4548-A4B1-0AA92F7929FF}" type="slidenum">
              <a:t>&lt;#&gt;</a:t>
            </a:fld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89B1B130-E6E9-4021-A7C2-15DB096B7576}" type="slidenum">
              <a:t>&lt;#&gt;</a:t>
            </a:fld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D410546A-77BA-41CB-9093-3585FEC22183}" type="slidenum">
              <a:t>&lt;#&gt;</a:t>
            </a:fld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D047DE71-9324-4C59-8C7E-E240941B878E}" type="slidenum">
              <a:t>&lt;#&gt;</a:t>
            </a:fld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3FBF0A5D-4DFB-460F-B9C1-34BC9FA51D58}" type="slidenum">
              <a:t>&lt;#&gt;</a:t>
            </a:fld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87F11B01-776B-47E3-88E5-35F3EE97A6D5}" type="slidenum">
              <a:t>&lt;#&gt;</a:t>
            </a:fld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B3F4EF39-F1F3-4016-9FBC-27408359AC65}" type="slidenum">
              <a:t>&lt;#&gt;</a:t>
            </a:fld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8CD37060-D75F-401B-8CF2-C09D72DD678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57F76F4C-3FF5-4DF0-A2ED-4F19A2175AE0}" type="slidenum">
              <a:t>&lt;#&gt;</a:t>
            </a:fld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767F81FD-BD49-4022-AF8D-45322B2A6075}" type="slidenum">
              <a:t>&lt;#&gt;</a:t>
            </a:fld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1777281F-6F14-4F65-8C53-A46CF70A16E2}" type="slidenum">
              <a:t>&lt;#&gt;</a:t>
            </a:fld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039A1090-0941-4196-80D5-4D9976457765}" type="slidenum">
              <a:t>&lt;#&gt;</a:t>
            </a:fld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759D8CC7-4F9E-41F0-8061-221D8185D48E}" type="slidenum">
              <a:t>&lt;#&gt;</a:t>
            </a:fld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C588B728-CA2D-4218-9236-FC384F6EF221}" type="slidenum">
              <a:t>&lt;#&gt;</a:t>
            </a:fld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9941C564-CC65-4340-BD69-699339963B81}" type="slidenum">
              <a:t>&lt;#&gt;</a:t>
            </a:fld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E5F5B0A7-07F7-4680-B649-B0F8D075FD55}" type="slidenum">
              <a:t>&lt;#&gt;</a:t>
            </a:fld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4D162AB9-8F29-4B7E-AB01-2E05B8F6F763}" type="slidenum">
              <a:t>&lt;#&gt;</a:t>
            </a:fld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1016012F-AB23-4828-A6C3-9B0C7871F91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A5575B86-39B9-4B92-A982-B02AEA0D888A}" type="slidenum">
              <a:t>&lt;#&gt;</a:t>
            </a:fld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BABADBA-4A6F-4296-B221-1986FACD83AD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AFC38A6-A3ED-4597-BF14-08FD0795E621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1A33BE8-FFE8-4C76-B8D5-C66AD65DA9E3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0352142-F899-4D7C-B495-8E9D0C482F01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8902046-1DD7-4E99-B067-3CBDFA3F1A7C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9E34793-113A-4FFC-BDBB-5FD666E465F3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E1CEA79-B5E6-41B1-9FE1-CE88A7BA2AA5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70FCBF4-4987-42D5-8AA2-F6B9BC2A8941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0D5FF9E-BFFC-40E4-AAC9-CBE5103F543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D055CBD-EC38-41D5-8D7E-4201D8A199D7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1C19FDF-446C-4E91-A9FE-10BAF2D4C78E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312B178-7AA6-475F-8088-4812D8C1533E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F6A7F80F-350E-47EC-AE30-39D582206A7A}" type="slidenum">
              <a:t>&lt;#&gt;</a:t>
            </a:fld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E31BBA9A-A289-4468-9BEF-7001F77B8450}" type="slidenum">
              <a:t>&lt;#&gt;</a:t>
            </a:fld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EDB4CF3C-CA7B-4EBB-B773-E7480A183F6E}" type="slidenum">
              <a:t>&lt;#&gt;</a:t>
            </a:fld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37FCA7ED-E671-4388-AD29-0609F1C7F4DC}" type="slidenum">
              <a:t>&lt;#&gt;</a:t>
            </a:fld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479E0E0C-343B-44CB-88DC-9C4A03224A62}" type="slidenum">
              <a:t>&lt;#&gt;</a:t>
            </a:fld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122DC71C-8AA2-4EA5-8CE4-E47EBB5D9A2B}" type="slidenum">
              <a:t>&lt;#&gt;</a:t>
            </a:fld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6A2FCFB8-48F2-4EAC-8091-BC0CA6F4203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E25BCBC3-DB60-470A-BBB6-0031E06C2E76}" type="slidenum">
              <a:t>&lt;#&gt;</a:t>
            </a:fld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7A6C41BE-4E5A-4314-88E5-8A9D9689C888}" type="slidenum">
              <a:t>&lt;#&gt;</a:t>
            </a:fld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B730C201-E08F-4D41-AF30-49D2D8F5FB85}" type="slidenum">
              <a:t>&lt;#&gt;</a:t>
            </a:fld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09DA5551-F0B3-4800-A86A-7CF6A62DA178}" type="slidenum">
              <a:t>&lt;#&gt;</a:t>
            </a:fld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47D83D08-98C1-40E0-8C75-EC24A747FAC9}" type="slidenum">
              <a:t>&lt;#&gt;</a:t>
            </a:fld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42991E1F-5CDC-4F62-B038-DAF5E833EF32}" type="slidenum">
              <a:t>&lt;#&gt;</a:t>
            </a:fld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C5F6F8EF-CEA5-4E10-9D53-4FD2B8CE81F7}" type="slidenum">
              <a:t>&lt;#&gt;</a:t>
            </a:fld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9EB1744F-50D0-4F02-8D01-80CCC00519FE}" type="slidenum">
              <a:t>&lt;#&gt;</a:t>
            </a:fld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35379E87-B726-4F9F-9E9B-C99C2B81CB7A}" type="slidenum">
              <a:t>&lt;#&gt;</a:t>
            </a:fld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4A5BA0F2-9C63-4B1C-B303-A84AE283DDB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F458ADB0-79AA-4D79-BD6A-D8C7459592DF}" type="slidenum">
              <a:t>&lt;#&gt;</a:t>
            </a:fld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1F1DAE36-90BE-4C58-B767-7BEFD17CC8AF}" type="slidenum">
              <a:t>&lt;#&gt;</a:t>
            </a:fld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CCFA56F9-6DD2-459A-90D6-0D15CB7601FF}" type="slidenum">
              <a:t>&lt;#&gt;</a:t>
            </a:fld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B87AC373-19F3-4007-8283-A952D5186D8E}" type="slidenum">
              <a:t>&lt;#&gt;</a:t>
            </a:fld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F9797A93-0837-44C2-9F4D-7BB502054826}" type="slidenum">
              <a:t>&lt;#&gt;</a:t>
            </a:fld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5F501463-0D02-4BC3-A0FD-CC792B74D5AE}" type="slidenum">
              <a:t>&lt;#&gt;</a:t>
            </a:fld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6D977C0F-8730-4E3E-9343-482C517F7504}" type="slidenum">
              <a:t>&lt;#&gt;</a:t>
            </a:fld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B8455E4-29AF-420B-92C0-E39628F78AE8}" type="slidenum">
              <a:t>&lt;#&gt;</a:t>
            </a:fld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5A6EF34-1726-4E1B-BF27-3CC9FE3AF383}" type="slidenum">
              <a:t>&lt;#&gt;</a:t>
            </a:fld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8A2811C-48E5-49D0-BF81-166C3DB760B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201471E-70F6-4A87-B881-B0A79752A382}" type="slidenum">
              <a:t>&lt;#&gt;</a:t>
            </a:fld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26CEF5A-3B42-4968-A565-A767DA1B3A6C}" type="slidenum">
              <a:t>&lt;#&gt;</a:t>
            </a:fld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AD1D5B3-4F20-4CCF-83A1-2D8494C24BF1}" type="slidenum">
              <a:t>&lt;#&gt;</a:t>
            </a:fld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B0D0748-0862-409A-9F94-3092AF105EA4}" type="slidenum">
              <a:t>&lt;#&gt;</a:t>
            </a:fld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9D5D0D1-68D5-4DB4-850E-4A6B082FAB1D}" type="slidenum">
              <a:t>&lt;#&gt;</a:t>
            </a:fld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354AAA4-B525-448A-9FD7-1F083ACC8930}" type="slidenum">
              <a:t>&lt;#&gt;</a:t>
            </a:fld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3CC7B62-F17C-4572-A234-2084EFF3C66E}" type="slidenum">
              <a:t>&lt;#&gt;</a:t>
            </a:fld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9C476E1-EE13-40AE-B39E-9B5F9E94FFF1}" type="slidenum">
              <a:t>&lt;#&gt;</a:t>
            </a:fld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53CC0B1-069E-4673-B2C2-A475024E4196}" type="slidenum">
              <a:t>&lt;#&gt;</a:t>
            </a:fld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81976690-5987-47B2-9CDA-7014A08573F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4CDD9780-D116-4707-8C8F-7086D7CA132C}" type="slidenum">
              <a:t>&lt;#&gt;</a:t>
            </a:fld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64C30598-9570-4C34-AD7E-2F612BF9BDF5}" type="slidenum">
              <a:t>&lt;#&gt;</a:t>
            </a:fld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C59F82AC-D903-406C-8D8C-1229060E8B1E}" type="slidenum">
              <a:t>&lt;#&gt;</a:t>
            </a:fld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4779A837-B02E-4717-8A10-3B0411017BF4}" type="slidenum">
              <a:t>&lt;#&gt;</a:t>
            </a:fld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C80D1D90-C36F-4250-9927-D8C5BA84E3EB}" type="slidenum">
              <a:t>&lt;#&gt;</a:t>
            </a:fld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EAE34787-A6CF-4697-94F6-D079DB8EBF3E}" type="slidenum">
              <a:t>&lt;#&gt;</a:t>
            </a:fld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9752A385-838B-4C26-94E4-120E8E3DDF8B}" type="slidenum">
              <a:t>&lt;#&gt;</a:t>
            </a:fld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F8212B7A-3FA8-4FB3-8CA6-4B0266D014E5}" type="slidenum">
              <a:t>&lt;#&gt;</a:t>
            </a:fld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87C956B5-871F-4A47-8895-AE2CDBDA24D5}" type="slidenum">
              <a:t>&lt;#&gt;</a:t>
            </a:fld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9B9C22B7-CB77-4952-842B-00A73F6593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4359-0CE9-4577-AD54-96100CE2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58243161-9BEB-4732-AB48-25E42B27C2D5}" type="slidenum">
              <a:t>&lt;#&gt;</a:t>
            </a:fld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01268B05-38B2-44F0-97D1-BE0DBB611E62}" type="slidenum">
              <a:t>&lt;#&gt;</a:t>
            </a:fld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21D88343-3D53-4900-A900-7197F15ACF8B}" type="slidenum">
              <a:t>&lt;#&gt;</a:t>
            </a:fld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2556CBCF-2E1A-42E0-808B-03631F7CB248}" type="slidenum">
              <a:t>&lt;#&gt;</a:t>
            </a:fld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FF02FE72-AF65-4884-BE54-CFC168F5B271}" type="slidenum">
              <a:t>&lt;#&gt;</a:t>
            </a:fld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C1BB510-049D-4203-A0D2-824992145D78}" type="slidenum">
              <a:t>&lt;#&gt;</a:t>
            </a:fld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0661C920-2AAF-48FF-B4A0-CCB7098E7002}" type="slidenum">
              <a:t>&lt;#&gt;</a:t>
            </a:fld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86A2D74-26A2-4E5A-8A83-BF6EC4BC10EC}" type="slidenum">
              <a:t>&lt;#&gt;</a:t>
            </a:fld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C4645F1F-64B8-4DE6-B9A0-D90380303E0A}" type="slidenum">
              <a:t>&lt;#&gt;</a:t>
            </a:fld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503DF821-EA5C-4753-8266-7591811783F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00342F4F-9F3D-4BFC-BAC4-B981F9C550AC}" type="slidenum">
              <a:t>&lt;#&gt;</a:t>
            </a:fld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3AEABEDB-D25F-478E-A2A0-AE62C2D5CDF9}" type="slidenum">
              <a:t>&lt;#&gt;</a:t>
            </a:fld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1147BED3-9127-4C3D-8A38-F55B45F5B98E}" type="slidenum">
              <a:t>&lt;#&gt;</a:t>
            </a:fld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FE2A0DC-A470-4B9F-964F-530E5B65E199}" type="slidenum">
              <a:t>&lt;#&gt;</a:t>
            </a:fld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67B116C-3857-4A33-9E44-E6C396210D7A}" type="slidenum">
              <a:t>&lt;#&gt;</a:t>
            </a:fld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9F562F9-0E15-4FB0-83AF-7AB1AFE863B9}" type="slidenum">
              <a:t>&lt;#&gt;</a:t>
            </a:fld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B409680-1F65-4A7F-8B05-DA5A14BD2FFF}" type="slidenum">
              <a:t>&lt;#&gt;</a:t>
            </a:fld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0B1B844-7ABC-4F21-92CC-CE527BBAF663}" type="slidenum">
              <a:t>&lt;#&gt;</a:t>
            </a:fld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E8AF2F4-9F2C-40EE-A94C-1A9CDA214B8F}" type="slidenum">
              <a:t>&lt;#&gt;</a:t>
            </a:fld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BC958ED-58A6-495F-8FCA-364143313A8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1F1ED14-059E-4670-98DD-61BAAE1ECBCE}" type="slidenum">
              <a:t>&lt;#&gt;</a:t>
            </a:fld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6788B73-1243-4F55-9D00-305CCF77C7BD}" type="slidenum">
              <a:t>&lt;#&gt;</a:t>
            </a:fld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8A172BE-87E2-4347-B79C-69EA671D3BB7}" type="slidenum">
              <a:t>&lt;#&gt;</a:t>
            </a:fld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CC7923F-802D-4142-A5AD-F9212D34057B}" type="slidenum">
              <a:t>&lt;#&gt;</a:t>
            </a:fld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B5B0723-D488-4A38-8E16-5697204468C1}" type="slidenum">
              <a:t>&lt;#&gt;</a:t>
            </a:fld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A686A6C-6FDE-4E77-9F61-73211B08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6A3DA9DC-33CF-41E9-80BC-1E5AF2B3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1C159073-E2DE-4147-B90F-7C8E5B2F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9E66478C-C7EB-43CA-96E5-3B24389F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EDFB7D78-4955-4BD8-91CE-71CD170F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757445B3-54AF-4422-8E9C-D09AED1C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DAC514EB-9960-414F-B4AE-A0F35AEC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AA24075E-B0A0-47A8-8B3A-77ED3675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1F5711B-73D4-4491-A446-E21BDF19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8D6DD94-A878-4879-AFA2-76C07DC1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8816D5E2-9B88-44DC-AB13-84DE7972E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D220808B-C871-439C-A49E-5D5297C92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FE18FAD3-6376-4CDD-BFC7-BF57A332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A255B73D-1529-4B5D-9FB2-9EE3B7C0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795577B9-12AF-44EE-8ED5-ED5F76C8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7E783673-F256-47C8-8612-721FE147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9FC65346-C513-41C8-A614-199D85A0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FD047E9A-7EE5-43C3-8CAC-1B44F0EC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FFE43A7F-0C08-4277-8F1A-4438C562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7B13A8DF-1875-421D-9ECA-1C327A34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88CFE308-17F1-4577-9B6E-53930546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B71FE505-59C7-4DF9-B9D7-3B77E7BC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5C90C05D-BDF2-4401-9527-1A676ECB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F5B17D34-66AB-4EC1-A653-F101CED6C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C427B456-9DAE-44F0-95CC-71A37B1B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605A2ECD-B79A-4884-948F-5356E9E3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054F42C0-EDD0-4288-B241-72F93A07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2BFF5299-5147-48BA-B487-916F78DA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F5FD97FE-68EB-4CFB-8451-741608F0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D71D3BAF-62BE-4280-AEEE-281CCB4B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3F363DEB-1F28-4E8F-944B-FF71A4F0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F694A348-889C-493F-AF92-DE893FD2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A29A48EA-85A0-4F8D-8FA0-7A482495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A8E822DD-DEF7-42C3-B761-2C9DDEA3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D4BAEDB0-4F4B-4763-B169-D4196004B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771F0D81-61D1-43CB-A14E-5C753B8D9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351C6190-D1E8-4491-AEE7-EB18C021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FCF37CE9-384D-4697-9EF8-6159C269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547C8C2D-35AC-49D5-8F9C-02B7CC8A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FB2A17B9-89C4-49A4-B95D-D17561D3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5FCDB934-B717-4CE5-9DC3-7A96893D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D25CF99A-F64D-4D3B-AD94-9E6BB0FF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FEB4E1CB-B268-46F4-B7FE-FC83ADF3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7E17EA5E-D258-4F24-A58E-20807751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9006759D-B9BA-41FC-9674-CD6DDB61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A8FB4C-90BF-40B2-8CBF-54B576BD59F6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8BD639EB-4FD3-4A57-BEB3-97E722D9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412AEE84-ED42-4926-8F21-23A879CDA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DB6945EC-1A69-456B-BBD0-4E97EBABD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21968B71-341C-4E85-9C1F-FE12B8E5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C51578DF-EB0B-46F2-80EF-318B7436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50B34502-68B3-4ED3-AA0A-8EBE72FC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F084D457-0BE3-4F62-B754-7E2A4C3A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0932B74C-67D9-4E28-9937-797DFA76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2269A0B2-A49D-4242-8BE3-F2D0342E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461EF268-3376-4396-B61B-A08E6D77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82A7E4-6AA4-4BDA-80E7-79DF86CB11B7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B68A3358-A063-4B6A-BBEC-18868582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DAEDE650-65AC-482B-90C2-F4BC1D5C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45686686-36F9-45D8-A8E5-9989A6EB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B52E9E46-FCD7-4F46-AD13-8092A067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C0E99F04-AC06-4D84-A44C-6B939850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FEB5A3F7-6A35-4323-958D-7789A251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62272A9B-024D-4E77-9A35-FFDA74EC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610C93A4-F451-4AF4-AEC3-6B38F8E5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CE809410-2760-4B17-9511-6131B3CD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2476D737-97E5-475D-B499-EA4A77BD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E93FC6-2FC2-471F-9004-DEBCCEA3C3BF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DD84057D-3B1D-4425-8541-82F2C474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23B1909F-1D83-42A2-88AF-6A9D6597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41939F91-470E-4798-98B5-65B91FF8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FC476824-CA2B-4C11-9EB2-57B86A07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5D3F8240-6B74-4DA7-ABC4-4F544C00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20A3C2DE-8072-4BE0-AC3A-206DA155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B2DBD764-640B-4094-B966-1D69E9B6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22C29BD3-3208-45AB-8497-2D760B43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7B484A74-C8E7-422B-8419-01FB721D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766AE45F-E5B4-41AC-8B5B-AB020714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89.xml"/><Relationship Id="rId4" Type="http://schemas.openxmlformats.org/officeDocument/2006/relationships/slideLayout" Target="../slideLayouts/slideLayout1190.xml"/><Relationship Id="rId5" Type="http://schemas.openxmlformats.org/officeDocument/2006/relationships/slideLayout" Target="../slideLayouts/slideLayout1191.xml"/><Relationship Id="rId6" Type="http://schemas.openxmlformats.org/officeDocument/2006/relationships/slideLayout" Target="../slideLayouts/slideLayout1192.xml"/><Relationship Id="rId7" Type="http://schemas.openxmlformats.org/officeDocument/2006/relationships/slideLayout" Target="../slideLayouts/slideLayout1193.xml"/><Relationship Id="rId8" Type="http://schemas.openxmlformats.org/officeDocument/2006/relationships/slideLayout" Target="../slideLayouts/slideLayout1194.xml"/><Relationship Id="rId9" Type="http://schemas.openxmlformats.org/officeDocument/2006/relationships/slideLayout" Target="../slideLayouts/slideLayout1195.xml"/><Relationship Id="rId10" Type="http://schemas.openxmlformats.org/officeDocument/2006/relationships/slideLayout" Target="../slideLayouts/slideLayout1196.xml"/><Relationship Id="rId11" Type="http://schemas.openxmlformats.org/officeDocument/2006/relationships/slideLayout" Target="../slideLayouts/slideLayout1197.xml"/><Relationship Id="rId12" Type="http://schemas.openxmlformats.org/officeDocument/2006/relationships/slideLayout" Target="../slideLayouts/slideLayout1198.xml"/><Relationship Id="rId13" Type="http://schemas.openxmlformats.org/officeDocument/2006/relationships/slideLayout" Target="../slideLayouts/slideLayout1199.xml"/><Relationship Id="rId14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01.xml"/><Relationship Id="rId4" Type="http://schemas.openxmlformats.org/officeDocument/2006/relationships/slideLayout" Target="../slideLayouts/slideLayout1202.xml"/><Relationship Id="rId5" Type="http://schemas.openxmlformats.org/officeDocument/2006/relationships/slideLayout" Target="../slideLayouts/slideLayout1203.xml"/><Relationship Id="rId6" Type="http://schemas.openxmlformats.org/officeDocument/2006/relationships/slideLayout" Target="../slideLayouts/slideLayout1204.xml"/><Relationship Id="rId7" Type="http://schemas.openxmlformats.org/officeDocument/2006/relationships/slideLayout" Target="../slideLayouts/slideLayout1205.xml"/><Relationship Id="rId8" Type="http://schemas.openxmlformats.org/officeDocument/2006/relationships/slideLayout" Target="../slideLayouts/slideLayout1206.xml"/><Relationship Id="rId9" Type="http://schemas.openxmlformats.org/officeDocument/2006/relationships/slideLayout" Target="../slideLayouts/slideLayout1207.xml"/><Relationship Id="rId10" Type="http://schemas.openxmlformats.org/officeDocument/2006/relationships/slideLayout" Target="../slideLayouts/slideLayout1208.xml"/><Relationship Id="rId11" Type="http://schemas.openxmlformats.org/officeDocument/2006/relationships/slideLayout" Target="../slideLayouts/slideLayout1209.xml"/><Relationship Id="rId12" Type="http://schemas.openxmlformats.org/officeDocument/2006/relationships/slideLayout" Target="../slideLayouts/slideLayout1210.xml"/><Relationship Id="rId13" Type="http://schemas.openxmlformats.org/officeDocument/2006/relationships/slideLayout" Target="../slideLayouts/slideLayout1211.xml"/><Relationship Id="rId14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3.xml"/><Relationship Id="rId4" Type="http://schemas.openxmlformats.org/officeDocument/2006/relationships/slideLayout" Target="../slideLayouts/slideLayout1214.xml"/><Relationship Id="rId5" Type="http://schemas.openxmlformats.org/officeDocument/2006/relationships/slideLayout" Target="../slideLayouts/slideLayout1215.xml"/><Relationship Id="rId6" Type="http://schemas.openxmlformats.org/officeDocument/2006/relationships/slideLayout" Target="../slideLayouts/slideLayout1216.xml"/><Relationship Id="rId7" Type="http://schemas.openxmlformats.org/officeDocument/2006/relationships/slideLayout" Target="../slideLayouts/slideLayout1217.xml"/><Relationship Id="rId8" Type="http://schemas.openxmlformats.org/officeDocument/2006/relationships/slideLayout" Target="../slideLayouts/slideLayout1218.xml"/><Relationship Id="rId9" Type="http://schemas.openxmlformats.org/officeDocument/2006/relationships/slideLayout" Target="../slideLayouts/slideLayout1219.xml"/><Relationship Id="rId10" Type="http://schemas.openxmlformats.org/officeDocument/2006/relationships/slideLayout" Target="../slideLayouts/slideLayout1220.xml"/><Relationship Id="rId11" Type="http://schemas.openxmlformats.org/officeDocument/2006/relationships/slideLayout" Target="../slideLayouts/slideLayout1221.xml"/><Relationship Id="rId12" Type="http://schemas.openxmlformats.org/officeDocument/2006/relationships/slideLayout" Target="../slideLayouts/slideLayout1222.xml"/><Relationship Id="rId13" Type="http://schemas.openxmlformats.org/officeDocument/2006/relationships/slideLayout" Target="../slideLayouts/slideLayout1223.xml"/><Relationship Id="rId14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25.xml"/><Relationship Id="rId4" Type="http://schemas.openxmlformats.org/officeDocument/2006/relationships/slideLayout" Target="../slideLayouts/slideLayout1226.xml"/><Relationship Id="rId5" Type="http://schemas.openxmlformats.org/officeDocument/2006/relationships/slideLayout" Target="../slideLayouts/slideLayout1227.xml"/><Relationship Id="rId6" Type="http://schemas.openxmlformats.org/officeDocument/2006/relationships/slideLayout" Target="../slideLayouts/slideLayout1228.xml"/><Relationship Id="rId7" Type="http://schemas.openxmlformats.org/officeDocument/2006/relationships/slideLayout" Target="../slideLayouts/slideLayout1229.xml"/><Relationship Id="rId8" Type="http://schemas.openxmlformats.org/officeDocument/2006/relationships/slideLayout" Target="../slideLayouts/slideLayout1230.xml"/><Relationship Id="rId9" Type="http://schemas.openxmlformats.org/officeDocument/2006/relationships/slideLayout" Target="../slideLayouts/slideLayout1231.xml"/><Relationship Id="rId10" Type="http://schemas.openxmlformats.org/officeDocument/2006/relationships/slideLayout" Target="../slideLayouts/slideLayout1232.xml"/><Relationship Id="rId11" Type="http://schemas.openxmlformats.org/officeDocument/2006/relationships/slideLayout" Target="../slideLayouts/slideLayout1233.xml"/><Relationship Id="rId12" Type="http://schemas.openxmlformats.org/officeDocument/2006/relationships/slideLayout" Target="../slideLayouts/slideLayout1234.xml"/><Relationship Id="rId13" Type="http://schemas.openxmlformats.org/officeDocument/2006/relationships/slideLayout" Target="../slideLayouts/slideLayout1235.xml"/><Relationship Id="rId14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37.xml"/><Relationship Id="rId4" Type="http://schemas.openxmlformats.org/officeDocument/2006/relationships/slideLayout" Target="../slideLayouts/slideLayout1238.xml"/><Relationship Id="rId5" Type="http://schemas.openxmlformats.org/officeDocument/2006/relationships/slideLayout" Target="../slideLayouts/slideLayout1239.xml"/><Relationship Id="rId6" Type="http://schemas.openxmlformats.org/officeDocument/2006/relationships/slideLayout" Target="../slideLayouts/slideLayout1240.xml"/><Relationship Id="rId7" Type="http://schemas.openxmlformats.org/officeDocument/2006/relationships/slideLayout" Target="../slideLayouts/slideLayout1241.xml"/><Relationship Id="rId8" Type="http://schemas.openxmlformats.org/officeDocument/2006/relationships/slideLayout" Target="../slideLayouts/slideLayout1242.xml"/><Relationship Id="rId9" Type="http://schemas.openxmlformats.org/officeDocument/2006/relationships/slideLayout" Target="../slideLayouts/slideLayout1243.xml"/><Relationship Id="rId10" Type="http://schemas.openxmlformats.org/officeDocument/2006/relationships/slideLayout" Target="../slideLayouts/slideLayout1244.xml"/><Relationship Id="rId11" Type="http://schemas.openxmlformats.org/officeDocument/2006/relationships/slideLayout" Target="../slideLayouts/slideLayout1245.xml"/><Relationship Id="rId12" Type="http://schemas.openxmlformats.org/officeDocument/2006/relationships/slideLayout" Target="../slideLayouts/slideLayout1246.xml"/><Relationship Id="rId13" Type="http://schemas.openxmlformats.org/officeDocument/2006/relationships/slideLayout" Target="../slideLayouts/slideLayout1247.xml"/><Relationship Id="rId14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49.xml"/><Relationship Id="rId4" Type="http://schemas.openxmlformats.org/officeDocument/2006/relationships/slideLayout" Target="../slideLayouts/slideLayout1250.xml"/><Relationship Id="rId5" Type="http://schemas.openxmlformats.org/officeDocument/2006/relationships/slideLayout" Target="../slideLayouts/slideLayout1251.xml"/><Relationship Id="rId6" Type="http://schemas.openxmlformats.org/officeDocument/2006/relationships/slideLayout" Target="../slideLayouts/slideLayout1252.xml"/><Relationship Id="rId7" Type="http://schemas.openxmlformats.org/officeDocument/2006/relationships/slideLayout" Target="../slideLayouts/slideLayout1253.xml"/><Relationship Id="rId8" Type="http://schemas.openxmlformats.org/officeDocument/2006/relationships/slideLayout" Target="../slideLayouts/slideLayout1254.xml"/><Relationship Id="rId9" Type="http://schemas.openxmlformats.org/officeDocument/2006/relationships/slideLayout" Target="../slideLayouts/slideLayout1255.xml"/><Relationship Id="rId10" Type="http://schemas.openxmlformats.org/officeDocument/2006/relationships/slideLayout" Target="../slideLayouts/slideLayout1256.xml"/><Relationship Id="rId11" Type="http://schemas.openxmlformats.org/officeDocument/2006/relationships/slideLayout" Target="../slideLayouts/slideLayout1257.xml"/><Relationship Id="rId12" Type="http://schemas.openxmlformats.org/officeDocument/2006/relationships/slideLayout" Target="../slideLayouts/slideLayout1258.xml"/><Relationship Id="rId13" Type="http://schemas.openxmlformats.org/officeDocument/2006/relationships/slideLayout" Target="../slideLayouts/slideLayout1259.xml"/><Relationship Id="rId14" Type="http://schemas.openxmlformats.org/officeDocument/2006/relationships/slideLayout" Target="../slideLayouts/slideLayout126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89.xml"/><Relationship Id="rId6" Type="http://schemas.openxmlformats.org/officeDocument/2006/relationships/slideLayout" Target="../slideLayouts/slideLayout590.xml"/><Relationship Id="rId7" Type="http://schemas.openxmlformats.org/officeDocument/2006/relationships/slideLayout" Target="../slideLayouts/slideLayout591.xml"/><Relationship Id="rId8" Type="http://schemas.openxmlformats.org/officeDocument/2006/relationships/slideLayout" Target="../slideLayouts/slideLayout592.xml"/><Relationship Id="rId9" Type="http://schemas.openxmlformats.org/officeDocument/2006/relationships/slideLayout" Target="../slideLayouts/slideLayout593.xml"/><Relationship Id="rId10" Type="http://schemas.openxmlformats.org/officeDocument/2006/relationships/slideLayout" Target="../slideLayouts/slideLayout594.xml"/><Relationship Id="rId11" Type="http://schemas.openxmlformats.org/officeDocument/2006/relationships/slideLayout" Target="../slideLayouts/slideLayout595.xml"/><Relationship Id="rId12" Type="http://schemas.openxmlformats.org/officeDocument/2006/relationships/slideLayout" Target="../slideLayouts/slideLayout596.xml"/><Relationship Id="rId13" Type="http://schemas.openxmlformats.org/officeDocument/2006/relationships/slideLayout" Target="../slideLayouts/slideLayout597.xml"/><Relationship Id="rId14" Type="http://schemas.openxmlformats.org/officeDocument/2006/relationships/slideLayout" Target="../slideLayouts/slideLayout598.xml"/><Relationship Id="rId15" Type="http://schemas.openxmlformats.org/officeDocument/2006/relationships/slideLayout" Target="../slideLayouts/slideLayout599.xml"/><Relationship Id="rId16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5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5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21.xml"/><Relationship Id="rId5" Type="http://schemas.openxmlformats.org/officeDocument/2006/relationships/slideLayout" Target="../slideLayouts/slideLayout722.xml"/><Relationship Id="rId6" Type="http://schemas.openxmlformats.org/officeDocument/2006/relationships/slideLayout" Target="../slideLayouts/slideLayout723.xml"/><Relationship Id="rId7" Type="http://schemas.openxmlformats.org/officeDocument/2006/relationships/slideLayout" Target="../slideLayouts/slideLayout724.xml"/><Relationship Id="rId8" Type="http://schemas.openxmlformats.org/officeDocument/2006/relationships/slideLayout" Target="../slideLayouts/slideLayout725.xml"/><Relationship Id="rId9" Type="http://schemas.openxmlformats.org/officeDocument/2006/relationships/slideLayout" Target="../slideLayouts/slideLayout726.xml"/><Relationship Id="rId10" Type="http://schemas.openxmlformats.org/officeDocument/2006/relationships/slideLayout" Target="../slideLayouts/slideLayout727.xml"/><Relationship Id="rId11" Type="http://schemas.openxmlformats.org/officeDocument/2006/relationships/slideLayout" Target="../slideLayouts/slideLayout728.xml"/><Relationship Id="rId12" Type="http://schemas.openxmlformats.org/officeDocument/2006/relationships/slideLayout" Target="../slideLayouts/slideLayout729.xml"/><Relationship Id="rId13" Type="http://schemas.openxmlformats.org/officeDocument/2006/relationships/slideLayout" Target="../slideLayouts/slideLayout730.xml"/><Relationship Id="rId14" Type="http://schemas.openxmlformats.org/officeDocument/2006/relationships/slideLayout" Target="../slideLayouts/slideLayout731.xml"/><Relationship Id="rId15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33.xml"/><Relationship Id="rId5" Type="http://schemas.openxmlformats.org/officeDocument/2006/relationships/slideLayout" Target="../slideLayouts/slideLayout734.xml"/><Relationship Id="rId6" Type="http://schemas.openxmlformats.org/officeDocument/2006/relationships/slideLayout" Target="../slideLayouts/slideLayout735.xml"/><Relationship Id="rId7" Type="http://schemas.openxmlformats.org/officeDocument/2006/relationships/slideLayout" Target="../slideLayouts/slideLayout736.xml"/><Relationship Id="rId8" Type="http://schemas.openxmlformats.org/officeDocument/2006/relationships/slideLayout" Target="../slideLayouts/slideLayout737.xml"/><Relationship Id="rId9" Type="http://schemas.openxmlformats.org/officeDocument/2006/relationships/slideLayout" Target="../slideLayouts/slideLayout738.xml"/><Relationship Id="rId10" Type="http://schemas.openxmlformats.org/officeDocument/2006/relationships/slideLayout" Target="../slideLayouts/slideLayout739.xml"/><Relationship Id="rId11" Type="http://schemas.openxmlformats.org/officeDocument/2006/relationships/slideLayout" Target="../slideLayouts/slideLayout740.xml"/><Relationship Id="rId12" Type="http://schemas.openxmlformats.org/officeDocument/2006/relationships/slideLayout" Target="../slideLayouts/slideLayout741.xml"/><Relationship Id="rId13" Type="http://schemas.openxmlformats.org/officeDocument/2006/relationships/slideLayout" Target="../slideLayouts/slideLayout742.xml"/><Relationship Id="rId14" Type="http://schemas.openxmlformats.org/officeDocument/2006/relationships/slideLayout" Target="../slideLayouts/slideLayout743.xml"/><Relationship Id="rId15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45.xml"/><Relationship Id="rId5" Type="http://schemas.openxmlformats.org/officeDocument/2006/relationships/slideLayout" Target="../slideLayouts/slideLayout746.xml"/><Relationship Id="rId6" Type="http://schemas.openxmlformats.org/officeDocument/2006/relationships/slideLayout" Target="../slideLayouts/slideLayout747.xml"/><Relationship Id="rId7" Type="http://schemas.openxmlformats.org/officeDocument/2006/relationships/slideLayout" Target="../slideLayouts/slideLayout748.xml"/><Relationship Id="rId8" Type="http://schemas.openxmlformats.org/officeDocument/2006/relationships/slideLayout" Target="../slideLayouts/slideLayout749.xml"/><Relationship Id="rId9" Type="http://schemas.openxmlformats.org/officeDocument/2006/relationships/slideLayout" Target="../slideLayouts/slideLayout750.xml"/><Relationship Id="rId10" Type="http://schemas.openxmlformats.org/officeDocument/2006/relationships/slideLayout" Target="../slideLayouts/slideLayout751.xml"/><Relationship Id="rId11" Type="http://schemas.openxmlformats.org/officeDocument/2006/relationships/slideLayout" Target="../slideLayouts/slideLayout752.xml"/><Relationship Id="rId12" Type="http://schemas.openxmlformats.org/officeDocument/2006/relationships/slideLayout" Target="../slideLayouts/slideLayout753.xml"/><Relationship Id="rId13" Type="http://schemas.openxmlformats.org/officeDocument/2006/relationships/slideLayout" Target="../slideLayouts/slideLayout754.xml"/><Relationship Id="rId14" Type="http://schemas.openxmlformats.org/officeDocument/2006/relationships/slideLayout" Target="../slideLayouts/slideLayout755.xml"/><Relationship Id="rId15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57.xml"/><Relationship Id="rId5" Type="http://schemas.openxmlformats.org/officeDocument/2006/relationships/slideLayout" Target="../slideLayouts/slideLayout758.xml"/><Relationship Id="rId6" Type="http://schemas.openxmlformats.org/officeDocument/2006/relationships/slideLayout" Target="../slideLayouts/slideLayout759.xml"/><Relationship Id="rId7" Type="http://schemas.openxmlformats.org/officeDocument/2006/relationships/slideLayout" Target="../slideLayouts/slideLayout760.xml"/><Relationship Id="rId8" Type="http://schemas.openxmlformats.org/officeDocument/2006/relationships/slideLayout" Target="../slideLayouts/slideLayout761.xml"/><Relationship Id="rId9" Type="http://schemas.openxmlformats.org/officeDocument/2006/relationships/slideLayout" Target="../slideLayouts/slideLayout762.xml"/><Relationship Id="rId10" Type="http://schemas.openxmlformats.org/officeDocument/2006/relationships/slideLayout" Target="../slideLayouts/slideLayout763.xml"/><Relationship Id="rId11" Type="http://schemas.openxmlformats.org/officeDocument/2006/relationships/slideLayout" Target="../slideLayouts/slideLayout764.xml"/><Relationship Id="rId12" Type="http://schemas.openxmlformats.org/officeDocument/2006/relationships/slideLayout" Target="../slideLayouts/slideLayout765.xml"/><Relationship Id="rId13" Type="http://schemas.openxmlformats.org/officeDocument/2006/relationships/slideLayout" Target="../slideLayouts/slideLayout766.xml"/><Relationship Id="rId14" Type="http://schemas.openxmlformats.org/officeDocument/2006/relationships/slideLayout" Target="../slideLayouts/slideLayout767.xml"/><Relationship Id="rId15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69.xml"/><Relationship Id="rId5" Type="http://schemas.openxmlformats.org/officeDocument/2006/relationships/slideLayout" Target="../slideLayouts/slideLayout770.xml"/><Relationship Id="rId6" Type="http://schemas.openxmlformats.org/officeDocument/2006/relationships/slideLayout" Target="../slideLayouts/slideLayout771.xml"/><Relationship Id="rId7" Type="http://schemas.openxmlformats.org/officeDocument/2006/relationships/slideLayout" Target="../slideLayouts/slideLayout772.xml"/><Relationship Id="rId8" Type="http://schemas.openxmlformats.org/officeDocument/2006/relationships/slideLayout" Target="../slideLayouts/slideLayout773.xml"/><Relationship Id="rId9" Type="http://schemas.openxmlformats.org/officeDocument/2006/relationships/slideLayout" Target="../slideLayouts/slideLayout774.xml"/><Relationship Id="rId10" Type="http://schemas.openxmlformats.org/officeDocument/2006/relationships/slideLayout" Target="../slideLayouts/slideLayout775.xml"/><Relationship Id="rId11" Type="http://schemas.openxmlformats.org/officeDocument/2006/relationships/slideLayout" Target="../slideLayouts/slideLayout776.xml"/><Relationship Id="rId12" Type="http://schemas.openxmlformats.org/officeDocument/2006/relationships/slideLayout" Target="../slideLayouts/slideLayout777.xml"/><Relationship Id="rId13" Type="http://schemas.openxmlformats.org/officeDocument/2006/relationships/slideLayout" Target="../slideLayouts/slideLayout778.xml"/><Relationship Id="rId14" Type="http://schemas.openxmlformats.org/officeDocument/2006/relationships/slideLayout" Target="../slideLayouts/slideLayout779.xml"/><Relationship Id="rId15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81.xml"/><Relationship Id="rId5" Type="http://schemas.openxmlformats.org/officeDocument/2006/relationships/slideLayout" Target="../slideLayouts/slideLayout782.xml"/><Relationship Id="rId6" Type="http://schemas.openxmlformats.org/officeDocument/2006/relationships/slideLayout" Target="../slideLayouts/slideLayout783.xml"/><Relationship Id="rId7" Type="http://schemas.openxmlformats.org/officeDocument/2006/relationships/slideLayout" Target="../slideLayouts/slideLayout784.xml"/><Relationship Id="rId8" Type="http://schemas.openxmlformats.org/officeDocument/2006/relationships/slideLayout" Target="../slideLayouts/slideLayout785.xml"/><Relationship Id="rId9" Type="http://schemas.openxmlformats.org/officeDocument/2006/relationships/slideLayout" Target="../slideLayouts/slideLayout786.xml"/><Relationship Id="rId10" Type="http://schemas.openxmlformats.org/officeDocument/2006/relationships/slideLayout" Target="../slideLayouts/slideLayout787.xml"/><Relationship Id="rId11" Type="http://schemas.openxmlformats.org/officeDocument/2006/relationships/slideLayout" Target="../slideLayouts/slideLayout788.xml"/><Relationship Id="rId12" Type="http://schemas.openxmlformats.org/officeDocument/2006/relationships/slideLayout" Target="../slideLayouts/slideLayout789.xml"/><Relationship Id="rId13" Type="http://schemas.openxmlformats.org/officeDocument/2006/relationships/slideLayout" Target="../slideLayouts/slideLayout790.xml"/><Relationship Id="rId14" Type="http://schemas.openxmlformats.org/officeDocument/2006/relationships/slideLayout" Target="../slideLayouts/slideLayout791.xml"/><Relationship Id="rId15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93.xml"/><Relationship Id="rId5" Type="http://schemas.openxmlformats.org/officeDocument/2006/relationships/slideLayout" Target="../slideLayouts/slideLayout794.xml"/><Relationship Id="rId6" Type="http://schemas.openxmlformats.org/officeDocument/2006/relationships/slideLayout" Target="../slideLayouts/slideLayout795.xml"/><Relationship Id="rId7" Type="http://schemas.openxmlformats.org/officeDocument/2006/relationships/slideLayout" Target="../slideLayouts/slideLayout796.xml"/><Relationship Id="rId8" Type="http://schemas.openxmlformats.org/officeDocument/2006/relationships/slideLayout" Target="../slideLayouts/slideLayout797.xml"/><Relationship Id="rId9" Type="http://schemas.openxmlformats.org/officeDocument/2006/relationships/slideLayout" Target="../slideLayouts/slideLayout798.xml"/><Relationship Id="rId10" Type="http://schemas.openxmlformats.org/officeDocument/2006/relationships/slideLayout" Target="../slideLayouts/slideLayout799.xml"/><Relationship Id="rId11" Type="http://schemas.openxmlformats.org/officeDocument/2006/relationships/slideLayout" Target="../slideLayouts/slideLayout800.xml"/><Relationship Id="rId12" Type="http://schemas.openxmlformats.org/officeDocument/2006/relationships/slideLayout" Target="../slideLayouts/slideLayout801.xml"/><Relationship Id="rId13" Type="http://schemas.openxmlformats.org/officeDocument/2006/relationships/slideLayout" Target="../slideLayouts/slideLayout802.xml"/><Relationship Id="rId14" Type="http://schemas.openxmlformats.org/officeDocument/2006/relationships/slideLayout" Target="../slideLayouts/slideLayout803.xml"/><Relationship Id="rId15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05.xml"/><Relationship Id="rId5" Type="http://schemas.openxmlformats.org/officeDocument/2006/relationships/slideLayout" Target="../slideLayouts/slideLayout806.xml"/><Relationship Id="rId6" Type="http://schemas.openxmlformats.org/officeDocument/2006/relationships/slideLayout" Target="../slideLayouts/slideLayout807.xml"/><Relationship Id="rId7" Type="http://schemas.openxmlformats.org/officeDocument/2006/relationships/slideLayout" Target="../slideLayouts/slideLayout808.xml"/><Relationship Id="rId8" Type="http://schemas.openxmlformats.org/officeDocument/2006/relationships/slideLayout" Target="../slideLayouts/slideLayout809.xml"/><Relationship Id="rId9" Type="http://schemas.openxmlformats.org/officeDocument/2006/relationships/slideLayout" Target="../slideLayouts/slideLayout810.xml"/><Relationship Id="rId10" Type="http://schemas.openxmlformats.org/officeDocument/2006/relationships/slideLayout" Target="../slideLayouts/slideLayout811.xml"/><Relationship Id="rId11" Type="http://schemas.openxmlformats.org/officeDocument/2006/relationships/slideLayout" Target="../slideLayouts/slideLayout812.xml"/><Relationship Id="rId12" Type="http://schemas.openxmlformats.org/officeDocument/2006/relationships/slideLayout" Target="../slideLayouts/slideLayout813.xml"/><Relationship Id="rId13" Type="http://schemas.openxmlformats.org/officeDocument/2006/relationships/slideLayout" Target="../slideLayouts/slideLayout814.xml"/><Relationship Id="rId14" Type="http://schemas.openxmlformats.org/officeDocument/2006/relationships/slideLayout" Target="../slideLayouts/slideLayout815.xml"/><Relationship Id="rId15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17.xml"/><Relationship Id="rId5" Type="http://schemas.openxmlformats.org/officeDocument/2006/relationships/slideLayout" Target="../slideLayouts/slideLayout818.xml"/><Relationship Id="rId6" Type="http://schemas.openxmlformats.org/officeDocument/2006/relationships/slideLayout" Target="../slideLayouts/slideLayout819.xml"/><Relationship Id="rId7" Type="http://schemas.openxmlformats.org/officeDocument/2006/relationships/slideLayout" Target="../slideLayouts/slideLayout820.xml"/><Relationship Id="rId8" Type="http://schemas.openxmlformats.org/officeDocument/2006/relationships/slideLayout" Target="../slideLayouts/slideLayout821.xml"/><Relationship Id="rId9" Type="http://schemas.openxmlformats.org/officeDocument/2006/relationships/slideLayout" Target="../slideLayouts/slideLayout822.xml"/><Relationship Id="rId10" Type="http://schemas.openxmlformats.org/officeDocument/2006/relationships/slideLayout" Target="../slideLayouts/slideLayout823.xml"/><Relationship Id="rId11" Type="http://schemas.openxmlformats.org/officeDocument/2006/relationships/slideLayout" Target="../slideLayouts/slideLayout824.xml"/><Relationship Id="rId12" Type="http://schemas.openxmlformats.org/officeDocument/2006/relationships/slideLayout" Target="../slideLayouts/slideLayout825.xml"/><Relationship Id="rId13" Type="http://schemas.openxmlformats.org/officeDocument/2006/relationships/slideLayout" Target="../slideLayouts/slideLayout826.xml"/><Relationship Id="rId14" Type="http://schemas.openxmlformats.org/officeDocument/2006/relationships/slideLayout" Target="../slideLayouts/slideLayout827.xml"/><Relationship Id="rId15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29.xml"/><Relationship Id="rId5" Type="http://schemas.openxmlformats.org/officeDocument/2006/relationships/slideLayout" Target="../slideLayouts/slideLayout830.xml"/><Relationship Id="rId6" Type="http://schemas.openxmlformats.org/officeDocument/2006/relationships/slideLayout" Target="../slideLayouts/slideLayout831.xml"/><Relationship Id="rId7" Type="http://schemas.openxmlformats.org/officeDocument/2006/relationships/slideLayout" Target="../slideLayouts/slideLayout832.xml"/><Relationship Id="rId8" Type="http://schemas.openxmlformats.org/officeDocument/2006/relationships/slideLayout" Target="../slideLayouts/slideLayout833.xml"/><Relationship Id="rId9" Type="http://schemas.openxmlformats.org/officeDocument/2006/relationships/slideLayout" Target="../slideLayouts/slideLayout834.xml"/><Relationship Id="rId10" Type="http://schemas.openxmlformats.org/officeDocument/2006/relationships/slideLayout" Target="../slideLayouts/slideLayout835.xml"/><Relationship Id="rId11" Type="http://schemas.openxmlformats.org/officeDocument/2006/relationships/slideLayout" Target="../slideLayouts/slideLayout836.xml"/><Relationship Id="rId12" Type="http://schemas.openxmlformats.org/officeDocument/2006/relationships/slideLayout" Target="../slideLayouts/slideLayout837.xml"/><Relationship Id="rId13" Type="http://schemas.openxmlformats.org/officeDocument/2006/relationships/slideLayout" Target="../slideLayouts/slideLayout838.xml"/><Relationship Id="rId14" Type="http://schemas.openxmlformats.org/officeDocument/2006/relationships/slideLayout" Target="../slideLayouts/slideLayout839.xml"/><Relationship Id="rId15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41.xml"/><Relationship Id="rId5" Type="http://schemas.openxmlformats.org/officeDocument/2006/relationships/slideLayout" Target="../slideLayouts/slideLayout842.xml"/><Relationship Id="rId6" Type="http://schemas.openxmlformats.org/officeDocument/2006/relationships/slideLayout" Target="../slideLayouts/slideLayout843.xml"/><Relationship Id="rId7" Type="http://schemas.openxmlformats.org/officeDocument/2006/relationships/slideLayout" Target="../slideLayouts/slideLayout844.xml"/><Relationship Id="rId8" Type="http://schemas.openxmlformats.org/officeDocument/2006/relationships/slideLayout" Target="../slideLayouts/slideLayout845.xml"/><Relationship Id="rId9" Type="http://schemas.openxmlformats.org/officeDocument/2006/relationships/slideLayout" Target="../slideLayouts/slideLayout846.xml"/><Relationship Id="rId10" Type="http://schemas.openxmlformats.org/officeDocument/2006/relationships/slideLayout" Target="../slideLayouts/slideLayout847.xml"/><Relationship Id="rId11" Type="http://schemas.openxmlformats.org/officeDocument/2006/relationships/slideLayout" Target="../slideLayouts/slideLayout848.xml"/><Relationship Id="rId12" Type="http://schemas.openxmlformats.org/officeDocument/2006/relationships/slideLayout" Target="../slideLayouts/slideLayout849.xml"/><Relationship Id="rId13" Type="http://schemas.openxmlformats.org/officeDocument/2006/relationships/slideLayout" Target="../slideLayouts/slideLayout850.xml"/><Relationship Id="rId14" Type="http://schemas.openxmlformats.org/officeDocument/2006/relationships/slideLayout" Target="../slideLayouts/slideLayout851.xml"/><Relationship Id="rId15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3.xml"/><Relationship Id="rId5" Type="http://schemas.openxmlformats.org/officeDocument/2006/relationships/slideLayout" Target="../slideLayouts/slideLayout854.xml"/><Relationship Id="rId6" Type="http://schemas.openxmlformats.org/officeDocument/2006/relationships/slideLayout" Target="../slideLayouts/slideLayout855.xml"/><Relationship Id="rId7" Type="http://schemas.openxmlformats.org/officeDocument/2006/relationships/slideLayout" Target="../slideLayouts/slideLayout856.xml"/><Relationship Id="rId8" Type="http://schemas.openxmlformats.org/officeDocument/2006/relationships/slideLayout" Target="../slideLayouts/slideLayout857.xml"/><Relationship Id="rId9" Type="http://schemas.openxmlformats.org/officeDocument/2006/relationships/slideLayout" Target="../slideLayouts/slideLayout858.xml"/><Relationship Id="rId10" Type="http://schemas.openxmlformats.org/officeDocument/2006/relationships/slideLayout" Target="../slideLayouts/slideLayout859.xml"/><Relationship Id="rId11" Type="http://schemas.openxmlformats.org/officeDocument/2006/relationships/slideLayout" Target="../slideLayouts/slideLayout860.xml"/><Relationship Id="rId12" Type="http://schemas.openxmlformats.org/officeDocument/2006/relationships/slideLayout" Target="../slideLayouts/slideLayout861.xml"/><Relationship Id="rId13" Type="http://schemas.openxmlformats.org/officeDocument/2006/relationships/slideLayout" Target="../slideLayouts/slideLayout862.xml"/><Relationship Id="rId14" Type="http://schemas.openxmlformats.org/officeDocument/2006/relationships/slideLayout" Target="../slideLayouts/slideLayout863.xml"/><Relationship Id="rId15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65.xml"/><Relationship Id="rId5" Type="http://schemas.openxmlformats.org/officeDocument/2006/relationships/slideLayout" Target="../slideLayouts/slideLayout866.xml"/><Relationship Id="rId6" Type="http://schemas.openxmlformats.org/officeDocument/2006/relationships/slideLayout" Target="../slideLayouts/slideLayout867.xml"/><Relationship Id="rId7" Type="http://schemas.openxmlformats.org/officeDocument/2006/relationships/slideLayout" Target="../slideLayouts/slideLayout868.xml"/><Relationship Id="rId8" Type="http://schemas.openxmlformats.org/officeDocument/2006/relationships/slideLayout" Target="../slideLayouts/slideLayout869.xml"/><Relationship Id="rId9" Type="http://schemas.openxmlformats.org/officeDocument/2006/relationships/slideLayout" Target="../slideLayouts/slideLayout870.xml"/><Relationship Id="rId10" Type="http://schemas.openxmlformats.org/officeDocument/2006/relationships/slideLayout" Target="../slideLayouts/slideLayout871.xml"/><Relationship Id="rId11" Type="http://schemas.openxmlformats.org/officeDocument/2006/relationships/slideLayout" Target="../slideLayouts/slideLayout872.xml"/><Relationship Id="rId12" Type="http://schemas.openxmlformats.org/officeDocument/2006/relationships/slideLayout" Target="../slideLayouts/slideLayout873.xml"/><Relationship Id="rId13" Type="http://schemas.openxmlformats.org/officeDocument/2006/relationships/slideLayout" Target="../slideLayouts/slideLayout874.xml"/><Relationship Id="rId14" Type="http://schemas.openxmlformats.org/officeDocument/2006/relationships/slideLayout" Target="../slideLayouts/slideLayout875.xml"/><Relationship Id="rId15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77.xml"/><Relationship Id="rId5" Type="http://schemas.openxmlformats.org/officeDocument/2006/relationships/slideLayout" Target="../slideLayouts/slideLayout878.xml"/><Relationship Id="rId6" Type="http://schemas.openxmlformats.org/officeDocument/2006/relationships/slideLayout" Target="../slideLayouts/slideLayout879.xml"/><Relationship Id="rId7" Type="http://schemas.openxmlformats.org/officeDocument/2006/relationships/slideLayout" Target="../slideLayouts/slideLayout880.xml"/><Relationship Id="rId8" Type="http://schemas.openxmlformats.org/officeDocument/2006/relationships/slideLayout" Target="../slideLayouts/slideLayout881.xml"/><Relationship Id="rId9" Type="http://schemas.openxmlformats.org/officeDocument/2006/relationships/slideLayout" Target="../slideLayouts/slideLayout882.xml"/><Relationship Id="rId10" Type="http://schemas.openxmlformats.org/officeDocument/2006/relationships/slideLayout" Target="../slideLayouts/slideLayout883.xml"/><Relationship Id="rId11" Type="http://schemas.openxmlformats.org/officeDocument/2006/relationships/slideLayout" Target="../slideLayouts/slideLayout884.xml"/><Relationship Id="rId12" Type="http://schemas.openxmlformats.org/officeDocument/2006/relationships/slideLayout" Target="../slideLayouts/slideLayout885.xml"/><Relationship Id="rId13" Type="http://schemas.openxmlformats.org/officeDocument/2006/relationships/slideLayout" Target="../slideLayouts/slideLayout886.xml"/><Relationship Id="rId14" Type="http://schemas.openxmlformats.org/officeDocument/2006/relationships/slideLayout" Target="../slideLayouts/slideLayout887.xml"/><Relationship Id="rId15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89.xml"/><Relationship Id="rId5" Type="http://schemas.openxmlformats.org/officeDocument/2006/relationships/slideLayout" Target="../slideLayouts/slideLayout890.xml"/><Relationship Id="rId6" Type="http://schemas.openxmlformats.org/officeDocument/2006/relationships/slideLayout" Target="../slideLayouts/slideLayout891.xml"/><Relationship Id="rId7" Type="http://schemas.openxmlformats.org/officeDocument/2006/relationships/slideLayout" Target="../slideLayouts/slideLayout892.xml"/><Relationship Id="rId8" Type="http://schemas.openxmlformats.org/officeDocument/2006/relationships/slideLayout" Target="../slideLayouts/slideLayout893.xml"/><Relationship Id="rId9" Type="http://schemas.openxmlformats.org/officeDocument/2006/relationships/slideLayout" Target="../slideLayouts/slideLayout894.xml"/><Relationship Id="rId10" Type="http://schemas.openxmlformats.org/officeDocument/2006/relationships/slideLayout" Target="../slideLayouts/slideLayout895.xml"/><Relationship Id="rId11" Type="http://schemas.openxmlformats.org/officeDocument/2006/relationships/slideLayout" Target="../slideLayouts/slideLayout896.xml"/><Relationship Id="rId12" Type="http://schemas.openxmlformats.org/officeDocument/2006/relationships/slideLayout" Target="../slideLayouts/slideLayout897.xml"/><Relationship Id="rId13" Type="http://schemas.openxmlformats.org/officeDocument/2006/relationships/slideLayout" Target="../slideLayouts/slideLayout898.xml"/><Relationship Id="rId14" Type="http://schemas.openxmlformats.org/officeDocument/2006/relationships/slideLayout" Target="../slideLayouts/slideLayout899.xml"/><Relationship Id="rId15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01.xml"/><Relationship Id="rId5" Type="http://schemas.openxmlformats.org/officeDocument/2006/relationships/slideLayout" Target="../slideLayouts/slideLayout902.xml"/><Relationship Id="rId6" Type="http://schemas.openxmlformats.org/officeDocument/2006/relationships/slideLayout" Target="../slideLayouts/slideLayout903.xml"/><Relationship Id="rId7" Type="http://schemas.openxmlformats.org/officeDocument/2006/relationships/slideLayout" Target="../slideLayouts/slideLayout904.xml"/><Relationship Id="rId8" Type="http://schemas.openxmlformats.org/officeDocument/2006/relationships/slideLayout" Target="../slideLayouts/slideLayout905.xml"/><Relationship Id="rId9" Type="http://schemas.openxmlformats.org/officeDocument/2006/relationships/slideLayout" Target="../slideLayouts/slideLayout906.xml"/><Relationship Id="rId10" Type="http://schemas.openxmlformats.org/officeDocument/2006/relationships/slideLayout" Target="../slideLayouts/slideLayout907.xml"/><Relationship Id="rId11" Type="http://schemas.openxmlformats.org/officeDocument/2006/relationships/slideLayout" Target="../slideLayouts/slideLayout908.xml"/><Relationship Id="rId12" Type="http://schemas.openxmlformats.org/officeDocument/2006/relationships/slideLayout" Target="../slideLayouts/slideLayout909.xml"/><Relationship Id="rId13" Type="http://schemas.openxmlformats.org/officeDocument/2006/relationships/slideLayout" Target="../slideLayouts/slideLayout910.xml"/><Relationship Id="rId14" Type="http://schemas.openxmlformats.org/officeDocument/2006/relationships/slideLayout" Target="../slideLayouts/slideLayout911.xml"/><Relationship Id="rId15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13.xml"/><Relationship Id="rId5" Type="http://schemas.openxmlformats.org/officeDocument/2006/relationships/slideLayout" Target="../slideLayouts/slideLayout914.xml"/><Relationship Id="rId6" Type="http://schemas.openxmlformats.org/officeDocument/2006/relationships/slideLayout" Target="../slideLayouts/slideLayout915.xml"/><Relationship Id="rId7" Type="http://schemas.openxmlformats.org/officeDocument/2006/relationships/slideLayout" Target="../slideLayouts/slideLayout916.xml"/><Relationship Id="rId8" Type="http://schemas.openxmlformats.org/officeDocument/2006/relationships/slideLayout" Target="../slideLayouts/slideLayout917.xml"/><Relationship Id="rId9" Type="http://schemas.openxmlformats.org/officeDocument/2006/relationships/slideLayout" Target="../slideLayouts/slideLayout918.xml"/><Relationship Id="rId10" Type="http://schemas.openxmlformats.org/officeDocument/2006/relationships/slideLayout" Target="../slideLayouts/slideLayout919.xml"/><Relationship Id="rId11" Type="http://schemas.openxmlformats.org/officeDocument/2006/relationships/slideLayout" Target="../slideLayouts/slideLayout920.xml"/><Relationship Id="rId12" Type="http://schemas.openxmlformats.org/officeDocument/2006/relationships/slideLayout" Target="../slideLayouts/slideLayout921.xml"/><Relationship Id="rId13" Type="http://schemas.openxmlformats.org/officeDocument/2006/relationships/slideLayout" Target="../slideLayouts/slideLayout922.xml"/><Relationship Id="rId14" Type="http://schemas.openxmlformats.org/officeDocument/2006/relationships/slideLayout" Target="../slideLayouts/slideLayout923.xml"/><Relationship Id="rId15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25.xml"/><Relationship Id="rId4" Type="http://schemas.openxmlformats.org/officeDocument/2006/relationships/slideLayout" Target="../slideLayouts/slideLayout926.xml"/><Relationship Id="rId5" Type="http://schemas.openxmlformats.org/officeDocument/2006/relationships/slideLayout" Target="../slideLayouts/slideLayout927.xml"/><Relationship Id="rId6" Type="http://schemas.openxmlformats.org/officeDocument/2006/relationships/slideLayout" Target="../slideLayouts/slideLayout928.xml"/><Relationship Id="rId7" Type="http://schemas.openxmlformats.org/officeDocument/2006/relationships/slideLayout" Target="../slideLayouts/slideLayout929.xml"/><Relationship Id="rId8" Type="http://schemas.openxmlformats.org/officeDocument/2006/relationships/slideLayout" Target="../slideLayouts/slideLayout930.xml"/><Relationship Id="rId9" Type="http://schemas.openxmlformats.org/officeDocument/2006/relationships/slideLayout" Target="../slideLayouts/slideLayout931.xml"/><Relationship Id="rId10" Type="http://schemas.openxmlformats.org/officeDocument/2006/relationships/slideLayout" Target="../slideLayouts/slideLayout932.xml"/><Relationship Id="rId11" Type="http://schemas.openxmlformats.org/officeDocument/2006/relationships/slideLayout" Target="../slideLayouts/slideLayout933.xml"/><Relationship Id="rId12" Type="http://schemas.openxmlformats.org/officeDocument/2006/relationships/slideLayout" Target="../slideLayouts/slideLayout934.xml"/><Relationship Id="rId13" Type="http://schemas.openxmlformats.org/officeDocument/2006/relationships/slideLayout" Target="../slideLayouts/slideLayout935.xml"/><Relationship Id="rId14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37.xml"/><Relationship Id="rId4" Type="http://schemas.openxmlformats.org/officeDocument/2006/relationships/slideLayout" Target="../slideLayouts/slideLayout938.xml"/><Relationship Id="rId5" Type="http://schemas.openxmlformats.org/officeDocument/2006/relationships/slideLayout" Target="../slideLayouts/slideLayout939.xml"/><Relationship Id="rId6" Type="http://schemas.openxmlformats.org/officeDocument/2006/relationships/slideLayout" Target="../slideLayouts/slideLayout940.xml"/><Relationship Id="rId7" Type="http://schemas.openxmlformats.org/officeDocument/2006/relationships/slideLayout" Target="../slideLayouts/slideLayout941.xml"/><Relationship Id="rId8" Type="http://schemas.openxmlformats.org/officeDocument/2006/relationships/slideLayout" Target="../slideLayouts/slideLayout942.xml"/><Relationship Id="rId9" Type="http://schemas.openxmlformats.org/officeDocument/2006/relationships/slideLayout" Target="../slideLayouts/slideLayout943.xml"/><Relationship Id="rId10" Type="http://schemas.openxmlformats.org/officeDocument/2006/relationships/slideLayout" Target="../slideLayouts/slideLayout944.xml"/><Relationship Id="rId11" Type="http://schemas.openxmlformats.org/officeDocument/2006/relationships/slideLayout" Target="../slideLayouts/slideLayout945.xml"/><Relationship Id="rId12" Type="http://schemas.openxmlformats.org/officeDocument/2006/relationships/slideLayout" Target="../slideLayouts/slideLayout946.xml"/><Relationship Id="rId13" Type="http://schemas.openxmlformats.org/officeDocument/2006/relationships/slideLayout" Target="../slideLayouts/slideLayout947.xml"/><Relationship Id="rId14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49.xml"/><Relationship Id="rId4" Type="http://schemas.openxmlformats.org/officeDocument/2006/relationships/slideLayout" Target="../slideLayouts/slideLayout950.xml"/><Relationship Id="rId5" Type="http://schemas.openxmlformats.org/officeDocument/2006/relationships/slideLayout" Target="../slideLayouts/slideLayout951.xml"/><Relationship Id="rId6" Type="http://schemas.openxmlformats.org/officeDocument/2006/relationships/slideLayout" Target="../slideLayouts/slideLayout952.xml"/><Relationship Id="rId7" Type="http://schemas.openxmlformats.org/officeDocument/2006/relationships/slideLayout" Target="../slideLayouts/slideLayout953.xml"/><Relationship Id="rId8" Type="http://schemas.openxmlformats.org/officeDocument/2006/relationships/slideLayout" Target="../slideLayouts/slideLayout954.xml"/><Relationship Id="rId9" Type="http://schemas.openxmlformats.org/officeDocument/2006/relationships/slideLayout" Target="../slideLayouts/slideLayout955.xml"/><Relationship Id="rId10" Type="http://schemas.openxmlformats.org/officeDocument/2006/relationships/slideLayout" Target="../slideLayouts/slideLayout956.xml"/><Relationship Id="rId11" Type="http://schemas.openxmlformats.org/officeDocument/2006/relationships/slideLayout" Target="../slideLayouts/slideLayout957.xml"/><Relationship Id="rId12" Type="http://schemas.openxmlformats.org/officeDocument/2006/relationships/slideLayout" Target="../slideLayouts/slideLayout958.xml"/><Relationship Id="rId13" Type="http://schemas.openxmlformats.org/officeDocument/2006/relationships/slideLayout" Target="../slideLayouts/slideLayout959.xml"/><Relationship Id="rId14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61.xml"/><Relationship Id="rId4" Type="http://schemas.openxmlformats.org/officeDocument/2006/relationships/slideLayout" Target="../slideLayouts/slideLayout962.xml"/><Relationship Id="rId5" Type="http://schemas.openxmlformats.org/officeDocument/2006/relationships/slideLayout" Target="../slideLayouts/slideLayout963.xml"/><Relationship Id="rId6" Type="http://schemas.openxmlformats.org/officeDocument/2006/relationships/slideLayout" Target="../slideLayouts/slideLayout964.xml"/><Relationship Id="rId7" Type="http://schemas.openxmlformats.org/officeDocument/2006/relationships/slideLayout" Target="../slideLayouts/slideLayout965.xml"/><Relationship Id="rId8" Type="http://schemas.openxmlformats.org/officeDocument/2006/relationships/slideLayout" Target="../slideLayouts/slideLayout966.xml"/><Relationship Id="rId9" Type="http://schemas.openxmlformats.org/officeDocument/2006/relationships/slideLayout" Target="../slideLayouts/slideLayout967.xml"/><Relationship Id="rId10" Type="http://schemas.openxmlformats.org/officeDocument/2006/relationships/slideLayout" Target="../slideLayouts/slideLayout968.xml"/><Relationship Id="rId11" Type="http://schemas.openxmlformats.org/officeDocument/2006/relationships/slideLayout" Target="../slideLayouts/slideLayout969.xml"/><Relationship Id="rId12" Type="http://schemas.openxmlformats.org/officeDocument/2006/relationships/slideLayout" Target="../slideLayouts/slideLayout970.xml"/><Relationship Id="rId13" Type="http://schemas.openxmlformats.org/officeDocument/2006/relationships/slideLayout" Target="../slideLayouts/slideLayout971.xml"/><Relationship Id="rId14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3.xml"/><Relationship Id="rId4" Type="http://schemas.openxmlformats.org/officeDocument/2006/relationships/slideLayout" Target="../slideLayouts/slideLayout974.xml"/><Relationship Id="rId5" Type="http://schemas.openxmlformats.org/officeDocument/2006/relationships/slideLayout" Target="../slideLayouts/slideLayout975.xml"/><Relationship Id="rId6" Type="http://schemas.openxmlformats.org/officeDocument/2006/relationships/slideLayout" Target="../slideLayouts/slideLayout976.xml"/><Relationship Id="rId7" Type="http://schemas.openxmlformats.org/officeDocument/2006/relationships/slideLayout" Target="../slideLayouts/slideLayout977.xml"/><Relationship Id="rId8" Type="http://schemas.openxmlformats.org/officeDocument/2006/relationships/slideLayout" Target="../slideLayouts/slideLayout978.xml"/><Relationship Id="rId9" Type="http://schemas.openxmlformats.org/officeDocument/2006/relationships/slideLayout" Target="../slideLayouts/slideLayout979.xml"/><Relationship Id="rId10" Type="http://schemas.openxmlformats.org/officeDocument/2006/relationships/slideLayout" Target="../slideLayouts/slideLayout980.xml"/><Relationship Id="rId11" Type="http://schemas.openxmlformats.org/officeDocument/2006/relationships/slideLayout" Target="../slideLayouts/slideLayout981.xml"/><Relationship Id="rId12" Type="http://schemas.openxmlformats.org/officeDocument/2006/relationships/slideLayout" Target="../slideLayouts/slideLayout982.xml"/><Relationship Id="rId13" Type="http://schemas.openxmlformats.org/officeDocument/2006/relationships/slideLayout" Target="../slideLayouts/slideLayout983.xml"/><Relationship Id="rId14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85.xml"/><Relationship Id="rId4" Type="http://schemas.openxmlformats.org/officeDocument/2006/relationships/slideLayout" Target="../slideLayouts/slideLayout986.xml"/><Relationship Id="rId5" Type="http://schemas.openxmlformats.org/officeDocument/2006/relationships/slideLayout" Target="../slideLayouts/slideLayout987.xml"/><Relationship Id="rId6" Type="http://schemas.openxmlformats.org/officeDocument/2006/relationships/slideLayout" Target="../slideLayouts/slideLayout988.xml"/><Relationship Id="rId7" Type="http://schemas.openxmlformats.org/officeDocument/2006/relationships/slideLayout" Target="../slideLayouts/slideLayout989.xml"/><Relationship Id="rId8" Type="http://schemas.openxmlformats.org/officeDocument/2006/relationships/slideLayout" Target="../slideLayouts/slideLayout990.xml"/><Relationship Id="rId9" Type="http://schemas.openxmlformats.org/officeDocument/2006/relationships/slideLayout" Target="../slideLayouts/slideLayout991.xml"/><Relationship Id="rId10" Type="http://schemas.openxmlformats.org/officeDocument/2006/relationships/slideLayout" Target="../slideLayouts/slideLayout992.xml"/><Relationship Id="rId11" Type="http://schemas.openxmlformats.org/officeDocument/2006/relationships/slideLayout" Target="../slideLayouts/slideLayout993.xml"/><Relationship Id="rId12" Type="http://schemas.openxmlformats.org/officeDocument/2006/relationships/slideLayout" Target="../slideLayouts/slideLayout994.xml"/><Relationship Id="rId13" Type="http://schemas.openxmlformats.org/officeDocument/2006/relationships/slideLayout" Target="../slideLayouts/slideLayout995.xml"/><Relationship Id="rId14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97.xml"/><Relationship Id="rId4" Type="http://schemas.openxmlformats.org/officeDocument/2006/relationships/slideLayout" Target="../slideLayouts/slideLayout998.xml"/><Relationship Id="rId5" Type="http://schemas.openxmlformats.org/officeDocument/2006/relationships/slideLayout" Target="../slideLayouts/slideLayout999.xml"/><Relationship Id="rId6" Type="http://schemas.openxmlformats.org/officeDocument/2006/relationships/slideLayout" Target="../slideLayouts/slideLayout1000.xml"/><Relationship Id="rId7" Type="http://schemas.openxmlformats.org/officeDocument/2006/relationships/slideLayout" Target="../slideLayouts/slideLayout1001.xml"/><Relationship Id="rId8" Type="http://schemas.openxmlformats.org/officeDocument/2006/relationships/slideLayout" Target="../slideLayouts/slideLayout1002.xml"/><Relationship Id="rId9" Type="http://schemas.openxmlformats.org/officeDocument/2006/relationships/slideLayout" Target="../slideLayouts/slideLayout1003.xml"/><Relationship Id="rId10" Type="http://schemas.openxmlformats.org/officeDocument/2006/relationships/slideLayout" Target="../slideLayouts/slideLayout1004.xml"/><Relationship Id="rId11" Type="http://schemas.openxmlformats.org/officeDocument/2006/relationships/slideLayout" Target="../slideLayouts/slideLayout1005.xml"/><Relationship Id="rId12" Type="http://schemas.openxmlformats.org/officeDocument/2006/relationships/slideLayout" Target="../slideLayouts/slideLayout1006.xml"/><Relationship Id="rId13" Type="http://schemas.openxmlformats.org/officeDocument/2006/relationships/slideLayout" Target="../slideLayouts/slideLayout1007.xml"/><Relationship Id="rId14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09.xml"/><Relationship Id="rId4" Type="http://schemas.openxmlformats.org/officeDocument/2006/relationships/slideLayout" Target="../slideLayouts/slideLayout1010.xml"/><Relationship Id="rId5" Type="http://schemas.openxmlformats.org/officeDocument/2006/relationships/slideLayout" Target="../slideLayouts/slideLayout1011.xml"/><Relationship Id="rId6" Type="http://schemas.openxmlformats.org/officeDocument/2006/relationships/slideLayout" Target="../slideLayouts/slideLayout1012.xml"/><Relationship Id="rId7" Type="http://schemas.openxmlformats.org/officeDocument/2006/relationships/slideLayout" Target="../slideLayouts/slideLayout1013.xml"/><Relationship Id="rId8" Type="http://schemas.openxmlformats.org/officeDocument/2006/relationships/slideLayout" Target="../slideLayouts/slideLayout1014.xml"/><Relationship Id="rId9" Type="http://schemas.openxmlformats.org/officeDocument/2006/relationships/slideLayout" Target="../slideLayouts/slideLayout1015.xml"/><Relationship Id="rId10" Type="http://schemas.openxmlformats.org/officeDocument/2006/relationships/slideLayout" Target="../slideLayouts/slideLayout1016.xml"/><Relationship Id="rId11" Type="http://schemas.openxmlformats.org/officeDocument/2006/relationships/slideLayout" Target="../slideLayouts/slideLayout1017.xml"/><Relationship Id="rId12" Type="http://schemas.openxmlformats.org/officeDocument/2006/relationships/slideLayout" Target="../slideLayouts/slideLayout1018.xml"/><Relationship Id="rId13" Type="http://schemas.openxmlformats.org/officeDocument/2006/relationships/slideLayout" Target="../slideLayouts/slideLayout1019.xml"/><Relationship Id="rId14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21.xml"/><Relationship Id="rId4" Type="http://schemas.openxmlformats.org/officeDocument/2006/relationships/slideLayout" Target="../slideLayouts/slideLayout1022.xml"/><Relationship Id="rId5" Type="http://schemas.openxmlformats.org/officeDocument/2006/relationships/slideLayout" Target="../slideLayouts/slideLayout1023.xml"/><Relationship Id="rId6" Type="http://schemas.openxmlformats.org/officeDocument/2006/relationships/slideLayout" Target="../slideLayouts/slideLayout1024.xml"/><Relationship Id="rId7" Type="http://schemas.openxmlformats.org/officeDocument/2006/relationships/slideLayout" Target="../slideLayouts/slideLayout1025.xml"/><Relationship Id="rId8" Type="http://schemas.openxmlformats.org/officeDocument/2006/relationships/slideLayout" Target="../slideLayouts/slideLayout1026.xml"/><Relationship Id="rId9" Type="http://schemas.openxmlformats.org/officeDocument/2006/relationships/slideLayout" Target="../slideLayouts/slideLayout1027.xml"/><Relationship Id="rId10" Type="http://schemas.openxmlformats.org/officeDocument/2006/relationships/slideLayout" Target="../slideLayouts/slideLayout1028.xml"/><Relationship Id="rId11" Type="http://schemas.openxmlformats.org/officeDocument/2006/relationships/slideLayout" Target="../slideLayouts/slideLayout1029.xml"/><Relationship Id="rId12" Type="http://schemas.openxmlformats.org/officeDocument/2006/relationships/slideLayout" Target="../slideLayouts/slideLayout1030.xml"/><Relationship Id="rId13" Type="http://schemas.openxmlformats.org/officeDocument/2006/relationships/slideLayout" Target="../slideLayouts/slideLayout1031.xml"/><Relationship Id="rId14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33.xml"/><Relationship Id="rId4" Type="http://schemas.openxmlformats.org/officeDocument/2006/relationships/slideLayout" Target="../slideLayouts/slideLayout1034.xml"/><Relationship Id="rId5" Type="http://schemas.openxmlformats.org/officeDocument/2006/relationships/slideLayout" Target="../slideLayouts/slideLayout1035.xml"/><Relationship Id="rId6" Type="http://schemas.openxmlformats.org/officeDocument/2006/relationships/slideLayout" Target="../slideLayouts/slideLayout1036.xml"/><Relationship Id="rId7" Type="http://schemas.openxmlformats.org/officeDocument/2006/relationships/slideLayout" Target="../slideLayouts/slideLayout1037.xml"/><Relationship Id="rId8" Type="http://schemas.openxmlformats.org/officeDocument/2006/relationships/slideLayout" Target="../slideLayouts/slideLayout1038.xml"/><Relationship Id="rId9" Type="http://schemas.openxmlformats.org/officeDocument/2006/relationships/slideLayout" Target="../slideLayouts/slideLayout1039.xml"/><Relationship Id="rId10" Type="http://schemas.openxmlformats.org/officeDocument/2006/relationships/slideLayout" Target="../slideLayouts/slideLayout1040.xml"/><Relationship Id="rId11" Type="http://schemas.openxmlformats.org/officeDocument/2006/relationships/slideLayout" Target="../slideLayouts/slideLayout1041.xml"/><Relationship Id="rId12" Type="http://schemas.openxmlformats.org/officeDocument/2006/relationships/slideLayout" Target="../slideLayouts/slideLayout1042.xml"/><Relationship Id="rId13" Type="http://schemas.openxmlformats.org/officeDocument/2006/relationships/slideLayout" Target="../slideLayouts/slideLayout1043.xml"/><Relationship Id="rId14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45.xml"/><Relationship Id="rId4" Type="http://schemas.openxmlformats.org/officeDocument/2006/relationships/slideLayout" Target="../slideLayouts/slideLayout1046.xml"/><Relationship Id="rId5" Type="http://schemas.openxmlformats.org/officeDocument/2006/relationships/slideLayout" Target="../slideLayouts/slideLayout1047.xml"/><Relationship Id="rId6" Type="http://schemas.openxmlformats.org/officeDocument/2006/relationships/slideLayout" Target="../slideLayouts/slideLayout1048.xml"/><Relationship Id="rId7" Type="http://schemas.openxmlformats.org/officeDocument/2006/relationships/slideLayout" Target="../slideLayouts/slideLayout1049.xml"/><Relationship Id="rId8" Type="http://schemas.openxmlformats.org/officeDocument/2006/relationships/slideLayout" Target="../slideLayouts/slideLayout1050.xml"/><Relationship Id="rId9" Type="http://schemas.openxmlformats.org/officeDocument/2006/relationships/slideLayout" Target="../slideLayouts/slideLayout1051.xml"/><Relationship Id="rId10" Type="http://schemas.openxmlformats.org/officeDocument/2006/relationships/slideLayout" Target="../slideLayouts/slideLayout1052.xml"/><Relationship Id="rId11" Type="http://schemas.openxmlformats.org/officeDocument/2006/relationships/slideLayout" Target="../slideLayouts/slideLayout1053.xml"/><Relationship Id="rId12" Type="http://schemas.openxmlformats.org/officeDocument/2006/relationships/slideLayout" Target="../slideLayouts/slideLayout1054.xml"/><Relationship Id="rId13" Type="http://schemas.openxmlformats.org/officeDocument/2006/relationships/slideLayout" Target="../slideLayouts/slideLayout1055.xml"/><Relationship Id="rId14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57.xml"/><Relationship Id="rId4" Type="http://schemas.openxmlformats.org/officeDocument/2006/relationships/slideLayout" Target="../slideLayouts/slideLayout1058.xml"/><Relationship Id="rId5" Type="http://schemas.openxmlformats.org/officeDocument/2006/relationships/slideLayout" Target="../slideLayouts/slideLayout1059.xml"/><Relationship Id="rId6" Type="http://schemas.openxmlformats.org/officeDocument/2006/relationships/slideLayout" Target="../slideLayouts/slideLayout1060.xml"/><Relationship Id="rId7" Type="http://schemas.openxmlformats.org/officeDocument/2006/relationships/slideLayout" Target="../slideLayouts/slideLayout1061.xml"/><Relationship Id="rId8" Type="http://schemas.openxmlformats.org/officeDocument/2006/relationships/slideLayout" Target="../slideLayouts/slideLayout1062.xml"/><Relationship Id="rId9" Type="http://schemas.openxmlformats.org/officeDocument/2006/relationships/slideLayout" Target="../slideLayouts/slideLayout1063.xml"/><Relationship Id="rId10" Type="http://schemas.openxmlformats.org/officeDocument/2006/relationships/slideLayout" Target="../slideLayouts/slideLayout1064.xml"/><Relationship Id="rId11" Type="http://schemas.openxmlformats.org/officeDocument/2006/relationships/slideLayout" Target="../slideLayouts/slideLayout1065.xml"/><Relationship Id="rId12" Type="http://schemas.openxmlformats.org/officeDocument/2006/relationships/slideLayout" Target="../slideLayouts/slideLayout1066.xml"/><Relationship Id="rId13" Type="http://schemas.openxmlformats.org/officeDocument/2006/relationships/slideLayout" Target="../slideLayouts/slideLayout1067.xml"/><Relationship Id="rId14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69.xml"/><Relationship Id="rId4" Type="http://schemas.openxmlformats.org/officeDocument/2006/relationships/slideLayout" Target="../slideLayouts/slideLayout1070.xml"/><Relationship Id="rId5" Type="http://schemas.openxmlformats.org/officeDocument/2006/relationships/slideLayout" Target="../slideLayouts/slideLayout1071.xml"/><Relationship Id="rId6" Type="http://schemas.openxmlformats.org/officeDocument/2006/relationships/slideLayout" Target="../slideLayouts/slideLayout1072.xml"/><Relationship Id="rId7" Type="http://schemas.openxmlformats.org/officeDocument/2006/relationships/slideLayout" Target="../slideLayouts/slideLayout1073.xml"/><Relationship Id="rId8" Type="http://schemas.openxmlformats.org/officeDocument/2006/relationships/slideLayout" Target="../slideLayouts/slideLayout1074.xml"/><Relationship Id="rId9" Type="http://schemas.openxmlformats.org/officeDocument/2006/relationships/slideLayout" Target="../slideLayouts/slideLayout1075.xml"/><Relationship Id="rId10" Type="http://schemas.openxmlformats.org/officeDocument/2006/relationships/slideLayout" Target="../slideLayouts/slideLayout1076.xml"/><Relationship Id="rId11" Type="http://schemas.openxmlformats.org/officeDocument/2006/relationships/slideLayout" Target="../slideLayouts/slideLayout1077.xml"/><Relationship Id="rId12" Type="http://schemas.openxmlformats.org/officeDocument/2006/relationships/slideLayout" Target="../slideLayouts/slideLayout1078.xml"/><Relationship Id="rId13" Type="http://schemas.openxmlformats.org/officeDocument/2006/relationships/slideLayout" Target="../slideLayouts/slideLayout1079.xml"/><Relationship Id="rId14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81.xml"/><Relationship Id="rId4" Type="http://schemas.openxmlformats.org/officeDocument/2006/relationships/slideLayout" Target="../slideLayouts/slideLayout1082.xml"/><Relationship Id="rId5" Type="http://schemas.openxmlformats.org/officeDocument/2006/relationships/slideLayout" Target="../slideLayouts/slideLayout1083.xml"/><Relationship Id="rId6" Type="http://schemas.openxmlformats.org/officeDocument/2006/relationships/slideLayout" Target="../slideLayouts/slideLayout1084.xml"/><Relationship Id="rId7" Type="http://schemas.openxmlformats.org/officeDocument/2006/relationships/slideLayout" Target="../slideLayouts/slideLayout1085.xml"/><Relationship Id="rId8" Type="http://schemas.openxmlformats.org/officeDocument/2006/relationships/slideLayout" Target="../slideLayouts/slideLayout1086.xml"/><Relationship Id="rId9" Type="http://schemas.openxmlformats.org/officeDocument/2006/relationships/slideLayout" Target="../slideLayouts/slideLayout1087.xml"/><Relationship Id="rId10" Type="http://schemas.openxmlformats.org/officeDocument/2006/relationships/slideLayout" Target="../slideLayouts/slideLayout1088.xml"/><Relationship Id="rId11" Type="http://schemas.openxmlformats.org/officeDocument/2006/relationships/slideLayout" Target="../slideLayouts/slideLayout1089.xml"/><Relationship Id="rId12" Type="http://schemas.openxmlformats.org/officeDocument/2006/relationships/slideLayout" Target="../slideLayouts/slideLayout1090.xml"/><Relationship Id="rId13" Type="http://schemas.openxmlformats.org/officeDocument/2006/relationships/slideLayout" Target="../slideLayouts/slideLayout1091.xml"/><Relationship Id="rId14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3.xml"/><Relationship Id="rId4" Type="http://schemas.openxmlformats.org/officeDocument/2006/relationships/slideLayout" Target="../slideLayouts/slideLayout1094.xml"/><Relationship Id="rId5" Type="http://schemas.openxmlformats.org/officeDocument/2006/relationships/slideLayout" Target="../slideLayouts/slideLayout1095.xml"/><Relationship Id="rId6" Type="http://schemas.openxmlformats.org/officeDocument/2006/relationships/slideLayout" Target="../slideLayouts/slideLayout1096.xml"/><Relationship Id="rId7" Type="http://schemas.openxmlformats.org/officeDocument/2006/relationships/slideLayout" Target="../slideLayouts/slideLayout1097.xml"/><Relationship Id="rId8" Type="http://schemas.openxmlformats.org/officeDocument/2006/relationships/slideLayout" Target="../slideLayouts/slideLayout1098.xml"/><Relationship Id="rId9" Type="http://schemas.openxmlformats.org/officeDocument/2006/relationships/slideLayout" Target="../slideLayouts/slideLayout1099.xml"/><Relationship Id="rId10" Type="http://schemas.openxmlformats.org/officeDocument/2006/relationships/slideLayout" Target="../slideLayouts/slideLayout1100.xml"/><Relationship Id="rId11" Type="http://schemas.openxmlformats.org/officeDocument/2006/relationships/slideLayout" Target="../slideLayouts/slideLayout1101.xml"/><Relationship Id="rId12" Type="http://schemas.openxmlformats.org/officeDocument/2006/relationships/slideLayout" Target="../slideLayouts/slideLayout1102.xml"/><Relationship Id="rId13" Type="http://schemas.openxmlformats.org/officeDocument/2006/relationships/slideLayout" Target="../slideLayouts/slideLayout1103.xml"/><Relationship Id="rId14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05.xml"/><Relationship Id="rId4" Type="http://schemas.openxmlformats.org/officeDocument/2006/relationships/slideLayout" Target="../slideLayouts/slideLayout1106.xml"/><Relationship Id="rId5" Type="http://schemas.openxmlformats.org/officeDocument/2006/relationships/slideLayout" Target="../slideLayouts/slideLayout1107.xml"/><Relationship Id="rId6" Type="http://schemas.openxmlformats.org/officeDocument/2006/relationships/slideLayout" Target="../slideLayouts/slideLayout1108.xml"/><Relationship Id="rId7" Type="http://schemas.openxmlformats.org/officeDocument/2006/relationships/slideLayout" Target="../slideLayouts/slideLayout1109.xml"/><Relationship Id="rId8" Type="http://schemas.openxmlformats.org/officeDocument/2006/relationships/slideLayout" Target="../slideLayouts/slideLayout1110.xml"/><Relationship Id="rId9" Type="http://schemas.openxmlformats.org/officeDocument/2006/relationships/slideLayout" Target="../slideLayouts/slideLayout1111.xml"/><Relationship Id="rId10" Type="http://schemas.openxmlformats.org/officeDocument/2006/relationships/slideLayout" Target="../slideLayouts/slideLayout1112.xml"/><Relationship Id="rId11" Type="http://schemas.openxmlformats.org/officeDocument/2006/relationships/slideLayout" Target="../slideLayouts/slideLayout1113.xml"/><Relationship Id="rId12" Type="http://schemas.openxmlformats.org/officeDocument/2006/relationships/slideLayout" Target="../slideLayouts/slideLayout1114.xml"/><Relationship Id="rId13" Type="http://schemas.openxmlformats.org/officeDocument/2006/relationships/slideLayout" Target="../slideLayouts/slideLayout1115.xml"/><Relationship Id="rId14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17.xml"/><Relationship Id="rId4" Type="http://schemas.openxmlformats.org/officeDocument/2006/relationships/slideLayout" Target="../slideLayouts/slideLayout1118.xml"/><Relationship Id="rId5" Type="http://schemas.openxmlformats.org/officeDocument/2006/relationships/slideLayout" Target="../slideLayouts/slideLayout1119.xml"/><Relationship Id="rId6" Type="http://schemas.openxmlformats.org/officeDocument/2006/relationships/slideLayout" Target="../slideLayouts/slideLayout1120.xml"/><Relationship Id="rId7" Type="http://schemas.openxmlformats.org/officeDocument/2006/relationships/slideLayout" Target="../slideLayouts/slideLayout1121.xml"/><Relationship Id="rId8" Type="http://schemas.openxmlformats.org/officeDocument/2006/relationships/slideLayout" Target="../slideLayouts/slideLayout1122.xml"/><Relationship Id="rId9" Type="http://schemas.openxmlformats.org/officeDocument/2006/relationships/slideLayout" Target="../slideLayouts/slideLayout1123.xml"/><Relationship Id="rId10" Type="http://schemas.openxmlformats.org/officeDocument/2006/relationships/slideLayout" Target="../slideLayouts/slideLayout1124.xml"/><Relationship Id="rId11" Type="http://schemas.openxmlformats.org/officeDocument/2006/relationships/slideLayout" Target="../slideLayouts/slideLayout1125.xml"/><Relationship Id="rId12" Type="http://schemas.openxmlformats.org/officeDocument/2006/relationships/slideLayout" Target="../slideLayouts/slideLayout1126.xml"/><Relationship Id="rId13" Type="http://schemas.openxmlformats.org/officeDocument/2006/relationships/slideLayout" Target="../slideLayouts/slideLayout1127.xml"/><Relationship Id="rId14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29.xml"/><Relationship Id="rId4" Type="http://schemas.openxmlformats.org/officeDocument/2006/relationships/slideLayout" Target="../slideLayouts/slideLayout1130.xml"/><Relationship Id="rId5" Type="http://schemas.openxmlformats.org/officeDocument/2006/relationships/slideLayout" Target="../slideLayouts/slideLayout1131.xml"/><Relationship Id="rId6" Type="http://schemas.openxmlformats.org/officeDocument/2006/relationships/slideLayout" Target="../slideLayouts/slideLayout1132.xml"/><Relationship Id="rId7" Type="http://schemas.openxmlformats.org/officeDocument/2006/relationships/slideLayout" Target="../slideLayouts/slideLayout1133.xml"/><Relationship Id="rId8" Type="http://schemas.openxmlformats.org/officeDocument/2006/relationships/slideLayout" Target="../slideLayouts/slideLayout1134.xml"/><Relationship Id="rId9" Type="http://schemas.openxmlformats.org/officeDocument/2006/relationships/slideLayout" Target="../slideLayouts/slideLayout1135.xml"/><Relationship Id="rId10" Type="http://schemas.openxmlformats.org/officeDocument/2006/relationships/slideLayout" Target="../slideLayouts/slideLayout1136.xml"/><Relationship Id="rId11" Type="http://schemas.openxmlformats.org/officeDocument/2006/relationships/slideLayout" Target="../slideLayouts/slideLayout1137.xml"/><Relationship Id="rId12" Type="http://schemas.openxmlformats.org/officeDocument/2006/relationships/slideLayout" Target="../slideLayouts/slideLayout1138.xml"/><Relationship Id="rId13" Type="http://schemas.openxmlformats.org/officeDocument/2006/relationships/slideLayout" Target="../slideLayouts/slideLayout1139.xml"/><Relationship Id="rId14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41.xml"/><Relationship Id="rId4" Type="http://schemas.openxmlformats.org/officeDocument/2006/relationships/slideLayout" Target="../slideLayouts/slideLayout1142.xml"/><Relationship Id="rId5" Type="http://schemas.openxmlformats.org/officeDocument/2006/relationships/slideLayout" Target="../slideLayouts/slideLayout1143.xml"/><Relationship Id="rId6" Type="http://schemas.openxmlformats.org/officeDocument/2006/relationships/slideLayout" Target="../slideLayouts/slideLayout1144.xml"/><Relationship Id="rId7" Type="http://schemas.openxmlformats.org/officeDocument/2006/relationships/slideLayout" Target="../slideLayouts/slideLayout1145.xml"/><Relationship Id="rId8" Type="http://schemas.openxmlformats.org/officeDocument/2006/relationships/slideLayout" Target="../slideLayouts/slideLayout1146.xml"/><Relationship Id="rId9" Type="http://schemas.openxmlformats.org/officeDocument/2006/relationships/slideLayout" Target="../slideLayouts/slideLayout1147.xml"/><Relationship Id="rId10" Type="http://schemas.openxmlformats.org/officeDocument/2006/relationships/slideLayout" Target="../slideLayouts/slideLayout1148.xml"/><Relationship Id="rId11" Type="http://schemas.openxmlformats.org/officeDocument/2006/relationships/slideLayout" Target="../slideLayouts/slideLayout1149.xml"/><Relationship Id="rId12" Type="http://schemas.openxmlformats.org/officeDocument/2006/relationships/slideLayout" Target="../slideLayouts/slideLayout1150.xml"/><Relationship Id="rId13" Type="http://schemas.openxmlformats.org/officeDocument/2006/relationships/slideLayout" Target="../slideLayouts/slideLayout1151.xml"/><Relationship Id="rId14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53.xml"/><Relationship Id="rId4" Type="http://schemas.openxmlformats.org/officeDocument/2006/relationships/slideLayout" Target="../slideLayouts/slideLayout1154.xml"/><Relationship Id="rId5" Type="http://schemas.openxmlformats.org/officeDocument/2006/relationships/slideLayout" Target="../slideLayouts/slideLayout1155.xml"/><Relationship Id="rId6" Type="http://schemas.openxmlformats.org/officeDocument/2006/relationships/slideLayout" Target="../slideLayouts/slideLayout1156.xml"/><Relationship Id="rId7" Type="http://schemas.openxmlformats.org/officeDocument/2006/relationships/slideLayout" Target="../slideLayouts/slideLayout1157.xml"/><Relationship Id="rId8" Type="http://schemas.openxmlformats.org/officeDocument/2006/relationships/slideLayout" Target="../slideLayouts/slideLayout1158.xml"/><Relationship Id="rId9" Type="http://schemas.openxmlformats.org/officeDocument/2006/relationships/slideLayout" Target="../slideLayouts/slideLayout1159.xml"/><Relationship Id="rId10" Type="http://schemas.openxmlformats.org/officeDocument/2006/relationships/slideLayout" Target="../slideLayouts/slideLayout1160.xml"/><Relationship Id="rId11" Type="http://schemas.openxmlformats.org/officeDocument/2006/relationships/slideLayout" Target="../slideLayouts/slideLayout1161.xml"/><Relationship Id="rId12" Type="http://schemas.openxmlformats.org/officeDocument/2006/relationships/slideLayout" Target="../slideLayouts/slideLayout1162.xml"/><Relationship Id="rId13" Type="http://schemas.openxmlformats.org/officeDocument/2006/relationships/slideLayout" Target="../slideLayouts/slideLayout1163.xml"/><Relationship Id="rId14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65.xml"/><Relationship Id="rId4" Type="http://schemas.openxmlformats.org/officeDocument/2006/relationships/slideLayout" Target="../slideLayouts/slideLayout1166.xml"/><Relationship Id="rId5" Type="http://schemas.openxmlformats.org/officeDocument/2006/relationships/slideLayout" Target="../slideLayouts/slideLayout1167.xml"/><Relationship Id="rId6" Type="http://schemas.openxmlformats.org/officeDocument/2006/relationships/slideLayout" Target="../slideLayouts/slideLayout1168.xml"/><Relationship Id="rId7" Type="http://schemas.openxmlformats.org/officeDocument/2006/relationships/slideLayout" Target="../slideLayouts/slideLayout1169.xml"/><Relationship Id="rId8" Type="http://schemas.openxmlformats.org/officeDocument/2006/relationships/slideLayout" Target="../slideLayouts/slideLayout1170.xml"/><Relationship Id="rId9" Type="http://schemas.openxmlformats.org/officeDocument/2006/relationships/slideLayout" Target="../slideLayouts/slideLayout1171.xml"/><Relationship Id="rId10" Type="http://schemas.openxmlformats.org/officeDocument/2006/relationships/slideLayout" Target="../slideLayouts/slideLayout1172.xml"/><Relationship Id="rId11" Type="http://schemas.openxmlformats.org/officeDocument/2006/relationships/slideLayout" Target="../slideLayouts/slideLayout1173.xml"/><Relationship Id="rId12" Type="http://schemas.openxmlformats.org/officeDocument/2006/relationships/slideLayout" Target="../slideLayouts/slideLayout1174.xml"/><Relationship Id="rId13" Type="http://schemas.openxmlformats.org/officeDocument/2006/relationships/slideLayout" Target="../slideLayouts/slideLayout1175.xml"/><Relationship Id="rId14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77.xml"/><Relationship Id="rId4" Type="http://schemas.openxmlformats.org/officeDocument/2006/relationships/slideLayout" Target="../slideLayouts/slideLayout1178.xml"/><Relationship Id="rId5" Type="http://schemas.openxmlformats.org/officeDocument/2006/relationships/slideLayout" Target="../slideLayouts/slideLayout1179.xml"/><Relationship Id="rId6" Type="http://schemas.openxmlformats.org/officeDocument/2006/relationships/slideLayout" Target="../slideLayouts/slideLayout1180.xml"/><Relationship Id="rId7" Type="http://schemas.openxmlformats.org/officeDocument/2006/relationships/slideLayout" Target="../slideLayouts/slideLayout1181.xml"/><Relationship Id="rId8" Type="http://schemas.openxmlformats.org/officeDocument/2006/relationships/slideLayout" Target="../slideLayouts/slideLayout1182.xml"/><Relationship Id="rId9" Type="http://schemas.openxmlformats.org/officeDocument/2006/relationships/slideLayout" Target="../slideLayouts/slideLayout1183.xml"/><Relationship Id="rId10" Type="http://schemas.openxmlformats.org/officeDocument/2006/relationships/slideLayout" Target="../slideLayouts/slideLayout1184.xml"/><Relationship Id="rId11" Type="http://schemas.openxmlformats.org/officeDocument/2006/relationships/slideLayout" Target="../slideLayouts/slideLayout1185.xml"/><Relationship Id="rId12" Type="http://schemas.openxmlformats.org/officeDocument/2006/relationships/slideLayout" Target="../slideLayouts/slideLayout1186.xml"/><Relationship Id="rId13" Type="http://schemas.openxmlformats.org/officeDocument/2006/relationships/slideLayout" Target="../slideLayouts/slideLayout1187.xml"/><Relationship Id="rId14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2640-32AB-4CD0-B5CD-12030192E7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86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87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88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0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21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0EC32-56DC-4FBF-864D-A994473141D1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2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8" name="PlaceHolder 3"/>
          <p:cNvSpPr>
            <a:spLocks noGrp="1"/>
          </p:cNvSpPr>
          <p:nvPr>
            <p:ph type="dt" idx="24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99" name="PlaceHolder 4"/>
          <p:cNvSpPr>
            <a:spLocks noGrp="1"/>
          </p:cNvSpPr>
          <p:nvPr>
            <p:ph type="ftr" idx="2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00" name="PlaceHolder 5"/>
          <p:cNvSpPr>
            <a:spLocks noGrp="1"/>
          </p:cNvSpPr>
          <p:nvPr>
            <p:ph type="sldNum" idx="25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434C-3EFB-4E69-BBBB-D50353400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3"/>
    <p:sldLayoutId id="2147484937" r:id="rId4"/>
    <p:sldLayoutId id="2147484938" r:id="rId5"/>
    <p:sldLayoutId id="2147484939" r:id="rId6"/>
    <p:sldLayoutId id="2147484940" r:id="rId7"/>
    <p:sldLayoutId id="2147484941" r:id="rId8"/>
    <p:sldLayoutId id="2147484942" r:id="rId9"/>
    <p:sldLayoutId id="2147484943" r:id="rId10"/>
    <p:sldLayoutId id="2147484944" r:id="rId11"/>
    <p:sldLayoutId id="2147484945" r:id="rId12"/>
    <p:sldLayoutId id="2147484946" r:id="rId13"/>
    <p:sldLayoutId id="2147484947" r:id="rId14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PlaceHolder 3"/>
          <p:cNvSpPr>
            <a:spLocks noGrp="1"/>
          </p:cNvSpPr>
          <p:nvPr>
            <p:ph type="dt" idx="25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40" name="PlaceHolder 4"/>
          <p:cNvSpPr>
            <a:spLocks noGrp="1"/>
          </p:cNvSpPr>
          <p:nvPr>
            <p:ph type="ftr" idx="2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41" name="PlaceHolder 5"/>
          <p:cNvSpPr>
            <a:spLocks noGrp="1"/>
          </p:cNvSpPr>
          <p:nvPr>
            <p:ph type="sldNum" idx="25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2428-1EF2-4E11-AFA3-1170AEB91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3"/>
    <p:sldLayoutId id="2147484950" r:id="rId4"/>
    <p:sldLayoutId id="2147484951" r:id="rId5"/>
    <p:sldLayoutId id="2147484952" r:id="rId6"/>
    <p:sldLayoutId id="2147484953" r:id="rId7"/>
    <p:sldLayoutId id="2147484954" r:id="rId8"/>
    <p:sldLayoutId id="2147484955" r:id="rId9"/>
    <p:sldLayoutId id="2147484956" r:id="rId10"/>
    <p:sldLayoutId id="2147484957" r:id="rId11"/>
    <p:sldLayoutId id="2147484958" r:id="rId12"/>
    <p:sldLayoutId id="2147484959" r:id="rId13"/>
    <p:sldLayoutId id="2147484960" r:id="rId14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PlaceHolder 3"/>
          <p:cNvSpPr>
            <a:spLocks noGrp="1"/>
          </p:cNvSpPr>
          <p:nvPr>
            <p:ph type="dt" idx="25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81" name="PlaceHolder 4"/>
          <p:cNvSpPr>
            <a:spLocks noGrp="1"/>
          </p:cNvSpPr>
          <p:nvPr>
            <p:ph type="ftr" idx="2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82" name="PlaceHolder 5"/>
          <p:cNvSpPr>
            <a:spLocks noGrp="1"/>
          </p:cNvSpPr>
          <p:nvPr>
            <p:ph type="sldNum" idx="25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CEFF-B158-45C5-A3F7-7BAD9A7CC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3"/>
    <p:sldLayoutId id="2147484963" r:id="rId4"/>
    <p:sldLayoutId id="2147484964" r:id="rId5"/>
    <p:sldLayoutId id="2147484965" r:id="rId6"/>
    <p:sldLayoutId id="2147484966" r:id="rId7"/>
    <p:sldLayoutId id="2147484967" r:id="rId8"/>
    <p:sldLayoutId id="2147484968" r:id="rId9"/>
    <p:sldLayoutId id="2147484969" r:id="rId10"/>
    <p:sldLayoutId id="2147484970" r:id="rId11"/>
    <p:sldLayoutId id="2147484971" r:id="rId12"/>
    <p:sldLayoutId id="2147484972" r:id="rId13"/>
    <p:sldLayoutId id="2147484973" r:id="rId14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1" name="PlaceHolder 3"/>
          <p:cNvSpPr>
            <a:spLocks noGrp="1"/>
          </p:cNvSpPr>
          <p:nvPr>
            <p:ph type="dt" idx="25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22" name="PlaceHolder 4"/>
          <p:cNvSpPr>
            <a:spLocks noGrp="1"/>
          </p:cNvSpPr>
          <p:nvPr>
            <p:ph type="ftr" idx="2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23" name="PlaceHolder 5"/>
          <p:cNvSpPr>
            <a:spLocks noGrp="1"/>
          </p:cNvSpPr>
          <p:nvPr>
            <p:ph type="sldNum" idx="25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7B50-DEEE-42A5-81A5-38B42EE9B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3"/>
    <p:sldLayoutId id="2147484976" r:id="rId4"/>
    <p:sldLayoutId id="2147484977" r:id="rId5"/>
    <p:sldLayoutId id="2147484978" r:id="rId6"/>
    <p:sldLayoutId id="2147484979" r:id="rId7"/>
    <p:sldLayoutId id="2147484980" r:id="rId8"/>
    <p:sldLayoutId id="2147484981" r:id="rId9"/>
    <p:sldLayoutId id="2147484982" r:id="rId10"/>
    <p:sldLayoutId id="2147484983" r:id="rId11"/>
    <p:sldLayoutId id="2147484984" r:id="rId12"/>
    <p:sldLayoutId id="2147484985" r:id="rId13"/>
    <p:sldLayoutId id="2147484986" r:id="rId14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2" name="PlaceHolder 3"/>
          <p:cNvSpPr>
            <a:spLocks noGrp="1"/>
          </p:cNvSpPr>
          <p:nvPr>
            <p:ph type="dt" idx="26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63" name="PlaceHolder 4"/>
          <p:cNvSpPr>
            <a:spLocks noGrp="1"/>
          </p:cNvSpPr>
          <p:nvPr>
            <p:ph type="ftr" idx="2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64" name="PlaceHolder 5"/>
          <p:cNvSpPr>
            <a:spLocks noGrp="1"/>
          </p:cNvSpPr>
          <p:nvPr>
            <p:ph type="sldNum" idx="26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000A-5A89-419A-BA5E-F38E9B5D2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3"/>
    <p:sldLayoutId id="2147484989" r:id="rId4"/>
    <p:sldLayoutId id="2147484990" r:id="rId5"/>
    <p:sldLayoutId id="2147484991" r:id="rId6"/>
    <p:sldLayoutId id="2147484992" r:id="rId7"/>
    <p:sldLayoutId id="2147484993" r:id="rId8"/>
    <p:sldLayoutId id="2147484994" r:id="rId9"/>
    <p:sldLayoutId id="2147484995" r:id="rId10"/>
    <p:sldLayoutId id="2147484996" r:id="rId11"/>
    <p:sldLayoutId id="2147484997" r:id="rId12"/>
    <p:sldLayoutId id="2147484998" r:id="rId13"/>
    <p:sldLayoutId id="2147484999" r:id="rId14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3" name="PlaceHolder 3"/>
          <p:cNvSpPr>
            <a:spLocks noGrp="1"/>
          </p:cNvSpPr>
          <p:nvPr>
            <p:ph type="dt" idx="26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04" name="PlaceHolder 4"/>
          <p:cNvSpPr>
            <a:spLocks noGrp="1"/>
          </p:cNvSpPr>
          <p:nvPr>
            <p:ph type="ftr" idx="2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05" name="PlaceHolder 5"/>
          <p:cNvSpPr>
            <a:spLocks noGrp="1"/>
          </p:cNvSpPr>
          <p:nvPr>
            <p:ph type="sldNum" idx="26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01A5-D2EA-41AC-A392-AD5823B14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3"/>
    <p:sldLayoutId id="2147485002" r:id="rId4"/>
    <p:sldLayoutId id="2147485003" r:id="rId5"/>
    <p:sldLayoutId id="2147485004" r:id="rId6"/>
    <p:sldLayoutId id="2147485005" r:id="rId7"/>
    <p:sldLayoutId id="2147485006" r:id="rId8"/>
    <p:sldLayoutId id="2147485007" r:id="rId9"/>
    <p:sldLayoutId id="2147485008" r:id="rId10"/>
    <p:sldLayoutId id="2147485009" r:id="rId11"/>
    <p:sldLayoutId id="2147485010" r:id="rId12"/>
    <p:sldLayoutId id="2147485011" r:id="rId13"/>
    <p:sldLayoutId id="2147485012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14B6-78C2-4B09-8398-6CCA63223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720A-E901-42FE-965C-F34FAC95D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7" descr=""/>
          <p:cNvPicPr/>
          <p:nvPr/>
        </p:nvPicPr>
        <p:blipFill>
          <a:blip r:embed="rId3"/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0"/>
          </p:nvPr>
        </p:nvSpPr>
        <p:spPr>
          <a:xfrm>
            <a:off x="3124080" y="918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A68C-D7F8-4C26-AFFE-6BBA49C304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7" descr=""/>
          <p:cNvPicPr/>
          <p:nvPr/>
        </p:nvPicPr>
        <p:blipFill>
          <a:blip r:embed="rId3"/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33"/>
          </p:nvPr>
        </p:nvSpPr>
        <p:spPr>
          <a:xfrm>
            <a:off x="3124080" y="918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AF41-019A-4BCE-89E7-B7B114F973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DCE2-A5F1-4C6B-9652-9F2E7499F6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3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4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C4F4-940A-4A21-AC1A-F87E02F22C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4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8C67-085C-4F7C-A758-A82986E17E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7" descr=""/>
          <p:cNvPicPr/>
          <p:nvPr/>
        </p:nvPicPr>
        <p:blipFill>
          <a:blip r:embed="rId3"/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45"/>
          </p:nvPr>
        </p:nvSpPr>
        <p:spPr>
          <a:xfrm>
            <a:off x="3124080" y="918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4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4AC7-929A-416B-96F1-A51292266F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7" descr=""/>
          <p:cNvPicPr/>
          <p:nvPr/>
        </p:nvPicPr>
        <p:blipFill>
          <a:blip r:embed="rId3"/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dt" idx="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ftr" idx="48"/>
          </p:nvPr>
        </p:nvSpPr>
        <p:spPr>
          <a:xfrm>
            <a:off x="3124080" y="918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 type="sldNum" idx="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05FA-01CA-49B3-B022-B70C59FE5B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B4D1-1938-4D56-BF0E-9ABC0FCDE8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 type="dt" idx="5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 type="ftr" idx="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 type="sldNum" idx="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7966-419E-42DB-B133-A447B464D4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5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5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BF03-77EC-428A-9416-F7B45F63EF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1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5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5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5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ACD3-C8A9-4337-808A-6CED601527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944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5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6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7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 type="dt" idx="5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 type="ftr" idx="6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 type="sldNum" idx="6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ABFF-8C20-4AE2-A902-3C14BAA28F79}" type="slidenum">
              <a: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9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990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91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92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93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dt" idx="6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ftr" idx="6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sldNum" idx="6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4968-DE61-4E94-8EE3-3397B5BFC300}" type="slidenum">
              <a: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6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6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6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08C0-B7B6-4893-90B1-9BF140033529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dt" idx="6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ftr" idx="6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 type="sldNum" idx="7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0252-E9BB-4AD7-937A-9AC62ABE0863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 type="dt" idx="7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 type="ftr" idx="7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 type="sldNum" idx="7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3054-1D93-453C-B24B-0C144D9D3B6D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 type="dt" idx="7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 type="ftr" idx="7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 type="sldNum" idx="7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FFD2-AB06-4B7C-B08C-2CE87A778FA7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 type="dt" idx="7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 type="ftr" idx="7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 type="sldNum" idx="7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8B9E-10FE-42D9-939C-E1FB3803C849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85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BC14-2C4B-4ED5-93AB-9134FEECB171}" type="slidenum">
              <a: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 type="dt" idx="8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 type="ftr" idx="8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 type="sldNum" idx="8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CFCB-CCDF-48C2-B955-F0E1A08BAFDD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 type="dt" idx="8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 type="ftr" idx="8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 type="sldNum" idx="8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3008-9BF8-4A4E-BBBD-B875DD9ECE1E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 type="dt" idx="8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 type="ftr" idx="8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 type="sldNum" idx="8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86EB-A812-47D3-89D4-1C0BFCE01ECC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 type="dt" idx="8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 type="ftr" idx="9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 type="sldNum" idx="9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114E-ED6C-4AD7-BF0C-7F4C2FC6D163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 type="dt" idx="9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 type="ftr" idx="9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 type="sldNum" idx="9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9C5B-E627-4A56-B841-722A16C69141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 type="dt" idx="9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 type="ftr" idx="9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 type="sldNum" idx="9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44CC-D45E-4384-868B-99996A5E021A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 type="dt" idx="9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 type="ftr" idx="9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 type="sldNum" idx="10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ABA3-F016-47E0-B862-B319719B52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 type="dt" idx="10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 type="ftr" idx="10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 type="sldNum" idx="10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47BB-AA6D-43AF-B29A-BAB1CC4793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 type="dt" idx="10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 type="ftr" idx="10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 type="sldNum" idx="10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382E-FD20-4F5C-B2B6-F203508A1B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 type="dt" idx="10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 type="ftr" idx="10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 type="sldNum" idx="10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BC6E-242B-498B-8C1D-C990F4355D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3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9E5A-E961-442E-B22C-A10CFED70B93}" type="slidenum">
              <a: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 type="dt" idx="1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 type="ftr" idx="1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 type="sldNum" idx="1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8316-2BF6-430F-9D1D-F7EC26D8C4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 type="dt" idx="1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 type="ftr" idx="1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 type="sldNum" idx="1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DBA9-C196-459C-B1B8-8E17FE1B4B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 type="dt" idx="1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 type="ftr" idx="1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 type="sldNum" idx="1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E1F7-CE70-4E97-9E03-A33F1B708A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 type="dt" idx="1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 type="ftr" idx="1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 type="sldNum" idx="1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57B6-CDAC-4523-B745-B438FEA4B3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 type="dt" idx="1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 type="ftr" idx="1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 type="sldNum" idx="1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B353-1BF2-431E-BEF0-52F3EB63A8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 type="dt" idx="1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 type="ftr" idx="1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 type="sldNum" idx="1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E539-3546-46CC-8E6B-A6F4B5B7D7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 type="dt" idx="1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 type="ftr" idx="1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22" name="PlaceHolder 5"/>
          <p:cNvSpPr>
            <a:spLocks noGrp="1"/>
          </p:cNvSpPr>
          <p:nvPr>
            <p:ph type="sldNum" idx="1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0E28-7364-4DB8-92B3-D017F69198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 type="dt" idx="1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 type="ftr" idx="1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3" name="PlaceHolder 5"/>
          <p:cNvSpPr>
            <a:spLocks noGrp="1"/>
          </p:cNvSpPr>
          <p:nvPr>
            <p:ph type="sldNum" idx="1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9267-55D5-43EC-9CC3-CE0EBFBA78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Shape 13"/>
          <p:cNvSpPr/>
          <p:nvPr/>
        </p:nvSpPr>
        <p:spPr>
          <a:xfrm>
            <a:off x="8064360" y="958680"/>
            <a:ext cx="40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66b2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1" name="Shape 17"/>
          <p:cNvSpPr/>
          <p:nvPr/>
        </p:nvSpPr>
        <p:spPr>
          <a:xfrm>
            <a:off x="8064360" y="958680"/>
            <a:ext cx="40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66b2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2" name="Shape 20"/>
          <p:cNvSpPr/>
          <p:nvPr/>
        </p:nvSpPr>
        <p:spPr>
          <a:xfrm>
            <a:off x="8064360" y="958680"/>
            <a:ext cx="40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7315200" cy="1452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Arc 3"/>
          <p:cNvSpPr/>
          <p:nvPr/>
        </p:nvSpPr>
        <p:spPr>
          <a:xfrm rot="10800000">
            <a:off x="8178480" y="-1266840"/>
            <a:ext cx="3282840" cy="2766960"/>
          </a:xfrm>
          <a:custGeom>
            <a:avLst/>
            <a:gdLst/>
            <a:ahLst/>
            <a:rect l="l" t="t" r="r" b="b"/>
            <a:pathLst>
              <a:path stroke="0" w="3282950" h="2767013">
                <a:moveTo>
                  <a:pt x="2309823" y="119873"/>
                </a:moveTo>
                <a:cubicBezTo>
                  <a:pt x="2952213" y="361238"/>
                  <a:pt x="3340776" y="920718"/>
                  <a:pt x="3275966" y="1510994"/>
                </a:cubicBezTo>
                <a:lnTo>
                  <a:pt x="1641475" y="1383507"/>
                </a:lnTo>
                <a:lnTo>
                  <a:pt x="2309823" y="119873"/>
                </a:lnTo>
                <a:close/>
              </a:path>
              <a:path fill="none" w="3282950" h="2767013">
                <a:moveTo>
                  <a:pt x="2309823" y="119873"/>
                </a:moveTo>
                <a:cubicBezTo>
                  <a:pt x="2952213" y="361238"/>
                  <a:pt x="3340776" y="920718"/>
                  <a:pt x="3275966" y="1510994"/>
                </a:cubicBezTo>
              </a:path>
            </a:pathLst>
          </a:custGeom>
          <a:noFill/>
          <a:ln w="2844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2" name="Arc 4"/>
          <p:cNvSpPr/>
          <p:nvPr/>
        </p:nvSpPr>
        <p:spPr>
          <a:xfrm rot="10800000">
            <a:off x="7499520" y="-1842840"/>
            <a:ext cx="4867200" cy="3598920"/>
          </a:xfrm>
          <a:custGeom>
            <a:avLst/>
            <a:gdLst/>
            <a:ahLst/>
            <a:rect l="l" t="t" r="r" b="b"/>
            <a:pathLst>
              <a:path stroke="0" w="4867275" h="3598863">
                <a:moveTo>
                  <a:pt x="3206071" y="93045"/>
                </a:moveTo>
                <a:cubicBezTo>
                  <a:pt x="4203524" y="339896"/>
                  <a:pt x="4873612" y="1032631"/>
                  <a:pt x="4867231" y="1810348"/>
                </a:cubicBezTo>
                <a:lnTo>
                  <a:pt x="2433638" y="1799432"/>
                </a:lnTo>
                <a:lnTo>
                  <a:pt x="3206071" y="93045"/>
                </a:lnTo>
                <a:close/>
              </a:path>
              <a:path fill="none" w="4867275" h="3598863">
                <a:moveTo>
                  <a:pt x="3206071" y="93045"/>
                </a:moveTo>
                <a:cubicBezTo>
                  <a:pt x="4203524" y="339896"/>
                  <a:pt x="4873612" y="1032631"/>
                  <a:pt x="4867231" y="1810348"/>
                </a:cubicBezTo>
              </a:path>
            </a:pathLst>
          </a:custGeom>
          <a:noFill/>
          <a:ln w="6048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3" name="Arc 5"/>
          <p:cNvSpPr/>
          <p:nvPr/>
        </p:nvSpPr>
        <p:spPr>
          <a:xfrm rot="10800000">
            <a:off x="7304040" y="-1904760"/>
            <a:ext cx="4867200" cy="3760920"/>
          </a:xfrm>
          <a:custGeom>
            <a:avLst/>
            <a:gdLst/>
            <a:ahLst/>
            <a:rect l="l" t="t" r="r" b="b"/>
            <a:pathLst>
              <a:path stroke="0" w="4867275" h="3760788">
                <a:moveTo>
                  <a:pt x="3011833" y="53842"/>
                </a:moveTo>
                <a:cubicBezTo>
                  <a:pt x="4102622" y="259985"/>
                  <a:pt x="4869244" y="1016037"/>
                  <a:pt x="4867272" y="1883697"/>
                </a:cubicBezTo>
                <a:lnTo>
                  <a:pt x="2433638" y="1880394"/>
                </a:lnTo>
                <a:lnTo>
                  <a:pt x="3011833" y="53842"/>
                </a:lnTo>
                <a:close/>
              </a:path>
              <a:path fill="none" w="4867275" h="3760788">
                <a:moveTo>
                  <a:pt x="3011833" y="53842"/>
                </a:moveTo>
                <a:cubicBezTo>
                  <a:pt x="4102622" y="259985"/>
                  <a:pt x="4869244" y="1016037"/>
                  <a:pt x="4867272" y="1883697"/>
                </a:cubicBezTo>
              </a:path>
            </a:pathLst>
          </a:custGeom>
          <a:noFill/>
          <a:ln w="2844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4" name="Straight Connector 6"/>
          <p:cNvSpPr/>
          <p:nvPr/>
        </p:nvSpPr>
        <p:spPr>
          <a:xfrm flipV="1">
            <a:off x="457200" y="3122640"/>
            <a:ext cx="8229600" cy="9360"/>
          </a:xfrm>
          <a:prstGeom prst="line">
            <a:avLst/>
          </a:prstGeom>
          <a:ln w="50760">
            <a:solidFill>
              <a:srgbClr val="0096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5" name="Arc 7"/>
          <p:cNvSpPr/>
          <p:nvPr/>
        </p:nvSpPr>
        <p:spPr>
          <a:xfrm>
            <a:off x="-3052800" y="5184720"/>
            <a:ext cx="3282840" cy="3043440"/>
          </a:xfrm>
          <a:custGeom>
            <a:avLst/>
            <a:gdLst/>
            <a:ahLst/>
            <a:rect l="l" t="t" r="r" b="b"/>
            <a:pathLst>
              <a:path stroke="0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  <a:lnTo>
                  <a:pt x="1641476" y="1521619"/>
                </a:lnTo>
                <a:lnTo>
                  <a:pt x="3057924" y="752662"/>
                </a:lnTo>
                <a:close/>
              </a:path>
              <a:path fill="none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</a:path>
            </a:pathLst>
          </a:custGeom>
          <a:noFill/>
          <a:ln w="28440">
            <a:solidFill>
              <a:srgbClr val="ffffff">
                <a:alpha val="3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6" name="Arc 8"/>
          <p:cNvSpPr/>
          <p:nvPr/>
        </p:nvSpPr>
        <p:spPr>
          <a:xfrm>
            <a:off x="-3247920" y="486252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  <a:lnTo>
                  <a:pt x="2433638" y="1979613"/>
                </a:lnTo>
                <a:lnTo>
                  <a:pt x="3230734" y="109196"/>
                </a:lnTo>
                <a:close/>
              </a:path>
              <a:path fill="none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</a:path>
            </a:pathLst>
          </a:custGeom>
          <a:noFill/>
          <a:ln w="28440">
            <a:solidFill>
              <a:srgbClr val="ffffff">
                <a:alpha val="3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7" name="Arc 9"/>
          <p:cNvSpPr/>
          <p:nvPr/>
        </p:nvSpPr>
        <p:spPr>
          <a:xfrm>
            <a:off x="-3425760" y="487836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  <a:lnTo>
                  <a:pt x="2433638" y="1979613"/>
                </a:lnTo>
                <a:lnTo>
                  <a:pt x="3411136" y="166707"/>
                </a:lnTo>
                <a:close/>
              </a:path>
              <a:path fill="none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</a:path>
            </a:pathLst>
          </a:custGeom>
          <a:noFill/>
          <a:ln w="50760">
            <a:solidFill>
              <a:srgbClr val="ffffff">
                <a:alpha val="3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048" name="Picture 10" descr="SMARTER_logo_big.png"/>
          <p:cNvPicPr/>
          <p:nvPr/>
        </p:nvPicPr>
        <p:blipFill>
          <a:blip r:embed="rId3"/>
          <a:stretch/>
        </p:blipFill>
        <p:spPr>
          <a:xfrm>
            <a:off x="581040" y="358920"/>
            <a:ext cx="7981920" cy="2423880"/>
          </a:xfrm>
          <a:prstGeom prst="rect">
            <a:avLst/>
          </a:prstGeom>
          <a:ln w="0">
            <a:noFill/>
          </a:ln>
        </p:spPr>
      </p:pic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344520" y="320760"/>
            <a:ext cx="84549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64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644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00964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MS P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1868-1440-4926-BB6E-EA9359D0E578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Arc 3"/>
          <p:cNvSpPr/>
          <p:nvPr/>
        </p:nvSpPr>
        <p:spPr>
          <a:xfrm>
            <a:off x="-3052800" y="5184720"/>
            <a:ext cx="3282840" cy="3043440"/>
          </a:xfrm>
          <a:custGeom>
            <a:avLst/>
            <a:gdLst/>
            <a:ahLst/>
            <a:rect l="l" t="t" r="r" b="b"/>
            <a:pathLst>
              <a:path stroke="0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  <a:lnTo>
                  <a:pt x="1641476" y="1521619"/>
                </a:lnTo>
                <a:lnTo>
                  <a:pt x="3057924" y="752662"/>
                </a:lnTo>
                <a:close/>
              </a:path>
              <a:path fill="none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</a:path>
            </a:pathLst>
          </a:custGeom>
          <a:noFill/>
          <a:ln w="28440">
            <a:solidFill>
              <a:srgbClr val="009644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8" name="Arc 4"/>
          <p:cNvSpPr/>
          <p:nvPr/>
        </p:nvSpPr>
        <p:spPr>
          <a:xfrm>
            <a:off x="-3247920" y="486252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  <a:lnTo>
                  <a:pt x="2433638" y="1979613"/>
                </a:lnTo>
                <a:lnTo>
                  <a:pt x="3230734" y="109196"/>
                </a:lnTo>
                <a:close/>
              </a:path>
              <a:path fill="none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</a:path>
            </a:pathLst>
          </a:custGeom>
          <a:noFill/>
          <a:ln w="28440">
            <a:solidFill>
              <a:srgbClr val="009644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9" name="Arc 5"/>
          <p:cNvSpPr/>
          <p:nvPr/>
        </p:nvSpPr>
        <p:spPr>
          <a:xfrm>
            <a:off x="-3425760" y="487836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  <a:lnTo>
                  <a:pt x="2433638" y="1979613"/>
                </a:lnTo>
                <a:lnTo>
                  <a:pt x="3411136" y="166707"/>
                </a:lnTo>
                <a:close/>
              </a:path>
              <a:path fill="none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</a:path>
            </a:pathLst>
          </a:custGeom>
          <a:noFill/>
          <a:ln w="28440">
            <a:solidFill>
              <a:srgbClr val="009644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090" name="Rectangle 6"/>
          <p:cNvGrpSpPr/>
          <p:nvPr/>
        </p:nvGrpSpPr>
        <p:grpSpPr>
          <a:xfrm>
            <a:off x="0" y="0"/>
            <a:ext cx="9144000" cy="1170000"/>
            <a:chOff x="0" y="0"/>
            <a:chExt cx="9144000" cy="1170000"/>
          </a:xfrm>
        </p:grpSpPr>
        <p:pic>
          <p:nvPicPr>
            <p:cNvPr id="209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2" name=""/>
            <p:cNvSpPr/>
            <p:nvPr/>
          </p:nvSpPr>
          <p:spPr>
            <a:xfrm>
              <a:off x="0" y="0"/>
              <a:ext cx="914400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093" name="Footer Placeholder 4"/>
          <p:cNvSpPr/>
          <p:nvPr/>
        </p:nvSpPr>
        <p:spPr>
          <a:xfrm>
            <a:off x="5059440" y="6353280"/>
            <a:ext cx="403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4" name="Slide Number Placeholder 5"/>
          <p:cNvSpPr/>
          <p:nvPr/>
        </p:nvSpPr>
        <p:spPr>
          <a:xfrm>
            <a:off x="4227480" y="6519960"/>
            <a:ext cx="6890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8733-88EE-4B29-A51C-2B25D987A4D6}" type="slidenum">
              <a:rPr b="0" lang="en-US" sz="1100" spc="-1" strike="noStrike">
                <a:solidFill>
                  <a:srgbClr val="1f497d"/>
                </a:solidFill>
                <a:latin typeface="Arial"/>
                <a:ea typeface="MS PGothic"/>
              </a:rPr>
              <a:t>&lt;number&gt;</a:t>
            </a:fld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5" name="Arc 9"/>
          <p:cNvSpPr/>
          <p:nvPr/>
        </p:nvSpPr>
        <p:spPr>
          <a:xfrm rot="10800000">
            <a:off x="8076960" y="-1276200"/>
            <a:ext cx="3028680" cy="2552400"/>
          </a:xfrm>
          <a:custGeom>
            <a:avLst/>
            <a:gdLst/>
            <a:ahLst/>
            <a:rect l="l" t="t" r="r" b="b"/>
            <a:pathLst>
              <a:path stroke="0" w="3028950" h="2552700">
                <a:moveTo>
                  <a:pt x="2131066" y="110571"/>
                </a:moveTo>
                <a:cubicBezTo>
                  <a:pt x="2683949" y="318268"/>
                  <a:pt x="3036979" y="783471"/>
                  <a:pt x="3028812" y="1293570"/>
                </a:cubicBezTo>
                <a:lnTo>
                  <a:pt x="1514475" y="1276350"/>
                </a:lnTo>
                <a:lnTo>
                  <a:pt x="2131066" y="110571"/>
                </a:lnTo>
                <a:close/>
              </a:path>
              <a:path fill="none" w="3028950" h="2552700">
                <a:moveTo>
                  <a:pt x="2131066" y="110571"/>
                </a:moveTo>
                <a:cubicBezTo>
                  <a:pt x="2683949" y="318268"/>
                  <a:pt x="3036979" y="783471"/>
                  <a:pt x="3028812" y="1293570"/>
                </a:cubicBezTo>
              </a:path>
            </a:pathLst>
          </a:custGeom>
          <a:noFill/>
          <a:ln w="28440">
            <a:solidFill>
              <a:srgbClr val="ffffff">
                <a:alpha val="1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6" name="Arc 10"/>
          <p:cNvSpPr/>
          <p:nvPr/>
        </p:nvSpPr>
        <p:spPr>
          <a:xfrm rot="10800000">
            <a:off x="7519680" y="-1852200"/>
            <a:ext cx="4489560" cy="3321000"/>
          </a:xfrm>
          <a:custGeom>
            <a:avLst/>
            <a:gdLst/>
            <a:ahLst/>
            <a:rect l="l" t="t" r="r" b="b"/>
            <a:pathLst>
              <a:path stroke="0" w="4489450" h="3321051">
                <a:moveTo>
                  <a:pt x="3519206" y="293599"/>
                </a:moveTo>
                <a:cubicBezTo>
                  <a:pt x="4059111" y="569067"/>
                  <a:pt x="4409147" y="1005431"/>
                  <a:pt x="4477298" y="1487982"/>
                </a:cubicBezTo>
                <a:lnTo>
                  <a:pt x="2244725" y="1660526"/>
                </a:lnTo>
                <a:lnTo>
                  <a:pt x="3519206" y="293599"/>
                </a:lnTo>
                <a:close/>
              </a:path>
              <a:path fill="none" w="4489450" h="3321051">
                <a:moveTo>
                  <a:pt x="3519206" y="293599"/>
                </a:moveTo>
                <a:cubicBezTo>
                  <a:pt x="4059111" y="569067"/>
                  <a:pt x="4409147" y="1005431"/>
                  <a:pt x="4477298" y="1487982"/>
                </a:cubicBezTo>
              </a:path>
            </a:pathLst>
          </a:custGeom>
          <a:noFill/>
          <a:ln w="60480">
            <a:solidFill>
              <a:srgbClr val="ffffff">
                <a:alpha val="1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7" name="Arc 11"/>
          <p:cNvSpPr/>
          <p:nvPr/>
        </p:nvSpPr>
        <p:spPr>
          <a:xfrm rot="10800000">
            <a:off x="7324200" y="-1914480"/>
            <a:ext cx="4489560" cy="3470400"/>
          </a:xfrm>
          <a:custGeom>
            <a:avLst/>
            <a:gdLst/>
            <a:ahLst/>
            <a:rect l="l" t="t" r="r" b="b"/>
            <a:pathLst>
              <a:path stroke="0" w="4489450" h="3470275">
                <a:moveTo>
                  <a:pt x="3606558" y="355799"/>
                </a:moveTo>
                <a:cubicBezTo>
                  <a:pt x="4107389" y="651250"/>
                  <a:pt x="4424541" y="1095792"/>
                  <a:pt x="4480559" y="1580859"/>
                </a:cubicBezTo>
                <a:lnTo>
                  <a:pt x="2244725" y="1735138"/>
                </a:lnTo>
                <a:lnTo>
                  <a:pt x="3606558" y="355799"/>
                </a:lnTo>
                <a:close/>
              </a:path>
              <a:path fill="none" w="4489450" h="3470275">
                <a:moveTo>
                  <a:pt x="3606558" y="355799"/>
                </a:moveTo>
                <a:cubicBezTo>
                  <a:pt x="4107389" y="651250"/>
                  <a:pt x="4424541" y="1095792"/>
                  <a:pt x="4480559" y="1580859"/>
                </a:cubicBezTo>
              </a:path>
            </a:pathLst>
          </a:custGeom>
          <a:noFill/>
          <a:ln w="28440">
            <a:solidFill>
              <a:srgbClr val="ffffff">
                <a:alpha val="1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098" name="Picture 12" descr="SMARTER_logo_250.png"/>
          <p:cNvPicPr/>
          <p:nvPr/>
        </p:nvPicPr>
        <p:blipFill>
          <a:blip r:embed="rId4"/>
          <a:stretch/>
        </p:blipFill>
        <p:spPr>
          <a:xfrm>
            <a:off x="7342200" y="6183360"/>
            <a:ext cx="1427040" cy="433440"/>
          </a:xfrm>
          <a:prstGeom prst="rect">
            <a:avLst/>
          </a:prstGeom>
          <a:ln w="0">
            <a:noFill/>
          </a:ln>
        </p:spPr>
      </p:pic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344520" y="320760"/>
            <a:ext cx="84549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64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644"/>
              </a:solidFill>
              <a:latin typeface="Arial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00964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5"/>
    <p:sldLayoutId id="2147484287" r:id="rId6"/>
    <p:sldLayoutId id="2147484288" r:id="rId7"/>
    <p:sldLayoutId id="2147484289" r:id="rId8"/>
    <p:sldLayoutId id="2147484290" r:id="rId9"/>
    <p:sldLayoutId id="2147484291" r:id="rId10"/>
    <p:sldLayoutId id="2147484292" r:id="rId11"/>
    <p:sldLayoutId id="2147484293" r:id="rId12"/>
    <p:sldLayoutId id="2147484294" r:id="rId13"/>
    <p:sldLayoutId id="2147484295" r:id="rId14"/>
    <p:sldLayoutId id="2147484296" r:id="rId15"/>
    <p:sldLayoutId id="2147484297" r:id="rId16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Arc 3"/>
          <p:cNvSpPr/>
          <p:nvPr/>
        </p:nvSpPr>
        <p:spPr>
          <a:xfrm rot="10800000">
            <a:off x="8178480" y="-1266840"/>
            <a:ext cx="3282840" cy="2766960"/>
          </a:xfrm>
          <a:custGeom>
            <a:avLst/>
            <a:gdLst/>
            <a:ahLst/>
            <a:rect l="l" t="t" r="r" b="b"/>
            <a:pathLst>
              <a:path stroke="0" w="3282950" h="2767013">
                <a:moveTo>
                  <a:pt x="2309823" y="119873"/>
                </a:moveTo>
                <a:cubicBezTo>
                  <a:pt x="2952213" y="361238"/>
                  <a:pt x="3340776" y="920718"/>
                  <a:pt x="3275966" y="1510994"/>
                </a:cubicBezTo>
                <a:lnTo>
                  <a:pt x="1641475" y="1383507"/>
                </a:lnTo>
                <a:lnTo>
                  <a:pt x="2309823" y="119873"/>
                </a:lnTo>
                <a:close/>
              </a:path>
              <a:path fill="none" w="3282950" h="2767013">
                <a:moveTo>
                  <a:pt x="2309823" y="119873"/>
                </a:moveTo>
                <a:cubicBezTo>
                  <a:pt x="2952213" y="361238"/>
                  <a:pt x="3340776" y="920718"/>
                  <a:pt x="3275966" y="1510994"/>
                </a:cubicBezTo>
              </a:path>
            </a:pathLst>
          </a:custGeom>
          <a:noFill/>
          <a:ln w="2844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38" name="Arc 4"/>
          <p:cNvSpPr/>
          <p:nvPr/>
        </p:nvSpPr>
        <p:spPr>
          <a:xfrm rot="10800000">
            <a:off x="7499520" y="-1842840"/>
            <a:ext cx="4867200" cy="3598920"/>
          </a:xfrm>
          <a:custGeom>
            <a:avLst/>
            <a:gdLst/>
            <a:ahLst/>
            <a:rect l="l" t="t" r="r" b="b"/>
            <a:pathLst>
              <a:path stroke="0" w="4867275" h="3598863">
                <a:moveTo>
                  <a:pt x="3206071" y="93045"/>
                </a:moveTo>
                <a:cubicBezTo>
                  <a:pt x="4203524" y="339896"/>
                  <a:pt x="4873612" y="1032631"/>
                  <a:pt x="4867231" y="1810348"/>
                </a:cubicBezTo>
                <a:lnTo>
                  <a:pt x="2433638" y="1799432"/>
                </a:lnTo>
                <a:lnTo>
                  <a:pt x="3206071" y="93045"/>
                </a:lnTo>
                <a:close/>
              </a:path>
              <a:path fill="none" w="4867275" h="3598863">
                <a:moveTo>
                  <a:pt x="3206071" y="93045"/>
                </a:moveTo>
                <a:cubicBezTo>
                  <a:pt x="4203524" y="339896"/>
                  <a:pt x="4873612" y="1032631"/>
                  <a:pt x="4867231" y="1810348"/>
                </a:cubicBezTo>
              </a:path>
            </a:pathLst>
          </a:custGeom>
          <a:noFill/>
          <a:ln w="6048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39" name="Arc 5"/>
          <p:cNvSpPr/>
          <p:nvPr/>
        </p:nvSpPr>
        <p:spPr>
          <a:xfrm rot="10800000">
            <a:off x="7304040" y="-1904760"/>
            <a:ext cx="4867200" cy="3760920"/>
          </a:xfrm>
          <a:custGeom>
            <a:avLst/>
            <a:gdLst/>
            <a:ahLst/>
            <a:rect l="l" t="t" r="r" b="b"/>
            <a:pathLst>
              <a:path stroke="0" w="4867275" h="3760788">
                <a:moveTo>
                  <a:pt x="3011833" y="53842"/>
                </a:moveTo>
                <a:cubicBezTo>
                  <a:pt x="4102622" y="259985"/>
                  <a:pt x="4869244" y="1016037"/>
                  <a:pt x="4867272" y="1883697"/>
                </a:cubicBezTo>
                <a:lnTo>
                  <a:pt x="2433638" y="1880394"/>
                </a:lnTo>
                <a:lnTo>
                  <a:pt x="3011833" y="53842"/>
                </a:lnTo>
                <a:close/>
              </a:path>
              <a:path fill="none" w="4867275" h="3760788">
                <a:moveTo>
                  <a:pt x="3011833" y="53842"/>
                </a:moveTo>
                <a:cubicBezTo>
                  <a:pt x="4102622" y="259985"/>
                  <a:pt x="4869244" y="1016037"/>
                  <a:pt x="4867272" y="1883697"/>
                </a:cubicBezTo>
              </a:path>
            </a:pathLst>
          </a:custGeom>
          <a:noFill/>
          <a:ln w="2844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0" name="Arc 6"/>
          <p:cNvSpPr/>
          <p:nvPr/>
        </p:nvSpPr>
        <p:spPr>
          <a:xfrm>
            <a:off x="-3052800" y="5184720"/>
            <a:ext cx="3282840" cy="3043440"/>
          </a:xfrm>
          <a:custGeom>
            <a:avLst/>
            <a:gdLst/>
            <a:ahLst/>
            <a:rect l="l" t="t" r="r" b="b"/>
            <a:pathLst>
              <a:path stroke="0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  <a:lnTo>
                  <a:pt x="1641476" y="1521619"/>
                </a:lnTo>
                <a:lnTo>
                  <a:pt x="3057924" y="752662"/>
                </a:lnTo>
                <a:close/>
              </a:path>
              <a:path fill="none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</a:path>
            </a:pathLst>
          </a:custGeom>
          <a:noFill/>
          <a:ln w="28440">
            <a:solidFill>
              <a:srgbClr val="ffffff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1" name="Arc 7"/>
          <p:cNvSpPr/>
          <p:nvPr/>
        </p:nvSpPr>
        <p:spPr>
          <a:xfrm>
            <a:off x="-3247920" y="486252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  <a:lnTo>
                  <a:pt x="2433638" y="1979613"/>
                </a:lnTo>
                <a:lnTo>
                  <a:pt x="3230734" y="109196"/>
                </a:lnTo>
                <a:close/>
              </a:path>
              <a:path fill="none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</a:path>
            </a:pathLst>
          </a:custGeom>
          <a:noFill/>
          <a:ln w="28440">
            <a:solidFill>
              <a:srgbClr val="ffffff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2" name="Arc 8"/>
          <p:cNvSpPr/>
          <p:nvPr/>
        </p:nvSpPr>
        <p:spPr>
          <a:xfrm>
            <a:off x="-3425760" y="487836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  <a:lnTo>
                  <a:pt x="2433638" y="1979613"/>
                </a:lnTo>
                <a:lnTo>
                  <a:pt x="3411136" y="166707"/>
                </a:lnTo>
                <a:close/>
              </a:path>
              <a:path fill="none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</a:path>
            </a:pathLst>
          </a:custGeom>
          <a:noFill/>
          <a:ln w="50760">
            <a:solidFill>
              <a:srgbClr val="ffffff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143" name="Picture 11" descr="SMARTER_logo_250.png"/>
          <p:cNvPicPr/>
          <p:nvPr/>
        </p:nvPicPr>
        <p:blipFill>
          <a:blip r:embed="rId3"/>
          <a:stretch/>
        </p:blipFill>
        <p:spPr>
          <a:xfrm>
            <a:off x="7342200" y="6183360"/>
            <a:ext cx="1427040" cy="433440"/>
          </a:xfrm>
          <a:prstGeom prst="rect">
            <a:avLst/>
          </a:prstGeom>
          <a:ln w="0">
            <a:noFill/>
          </a:ln>
        </p:spPr>
      </p:pic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344520" y="320760"/>
            <a:ext cx="84549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64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644"/>
              </a:solidFill>
              <a:latin typeface="Arial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00964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2" name="Picture 3" descr="SBAC_logo_HEADER_11.18.2010.tif"/>
          <p:cNvPicPr/>
          <p:nvPr/>
        </p:nvPicPr>
        <p:blipFill>
          <a:blip r:embed="rId2"/>
          <a:stretch/>
        </p:blipFill>
        <p:spPr>
          <a:xfrm>
            <a:off x="7385040" y="6199200"/>
            <a:ext cx="1560600" cy="476280"/>
          </a:xfrm>
          <a:prstGeom prst="rect">
            <a:avLst/>
          </a:prstGeom>
          <a:ln w="0">
            <a:noFill/>
          </a:ln>
        </p:spPr>
      </p:pic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344520" y="320760"/>
            <a:ext cx="84549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64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644"/>
              </a:solidFill>
              <a:latin typeface="Arial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00964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Arc 3"/>
          <p:cNvSpPr/>
          <p:nvPr/>
        </p:nvSpPr>
        <p:spPr>
          <a:xfrm rot="10800000">
            <a:off x="8178480" y="-1266840"/>
            <a:ext cx="3282840" cy="2766960"/>
          </a:xfrm>
          <a:custGeom>
            <a:avLst/>
            <a:gdLst/>
            <a:ahLst/>
            <a:rect l="l" t="t" r="r" b="b"/>
            <a:pathLst>
              <a:path stroke="0" w="3282950" h="2767013">
                <a:moveTo>
                  <a:pt x="2309823" y="119873"/>
                </a:moveTo>
                <a:cubicBezTo>
                  <a:pt x="2952213" y="361238"/>
                  <a:pt x="3340776" y="920718"/>
                  <a:pt x="3275966" y="1510994"/>
                </a:cubicBezTo>
                <a:lnTo>
                  <a:pt x="1641475" y="1383507"/>
                </a:lnTo>
                <a:lnTo>
                  <a:pt x="2309823" y="119873"/>
                </a:lnTo>
                <a:close/>
              </a:path>
              <a:path fill="none" w="3282950" h="2767013">
                <a:moveTo>
                  <a:pt x="2309823" y="119873"/>
                </a:moveTo>
                <a:cubicBezTo>
                  <a:pt x="2952213" y="361238"/>
                  <a:pt x="3340776" y="920718"/>
                  <a:pt x="3275966" y="1510994"/>
                </a:cubicBezTo>
              </a:path>
            </a:pathLst>
          </a:custGeom>
          <a:noFill/>
          <a:ln w="2844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2" name="Arc 4"/>
          <p:cNvSpPr/>
          <p:nvPr/>
        </p:nvSpPr>
        <p:spPr>
          <a:xfrm rot="10800000">
            <a:off x="7499520" y="-1842840"/>
            <a:ext cx="4867200" cy="3598920"/>
          </a:xfrm>
          <a:custGeom>
            <a:avLst/>
            <a:gdLst/>
            <a:ahLst/>
            <a:rect l="l" t="t" r="r" b="b"/>
            <a:pathLst>
              <a:path stroke="0" w="4867275" h="3598863">
                <a:moveTo>
                  <a:pt x="3206071" y="93045"/>
                </a:moveTo>
                <a:cubicBezTo>
                  <a:pt x="4203524" y="339896"/>
                  <a:pt x="4873612" y="1032631"/>
                  <a:pt x="4867231" y="1810348"/>
                </a:cubicBezTo>
                <a:lnTo>
                  <a:pt x="2433638" y="1799432"/>
                </a:lnTo>
                <a:lnTo>
                  <a:pt x="3206071" y="93045"/>
                </a:lnTo>
                <a:close/>
              </a:path>
              <a:path fill="none" w="4867275" h="3598863">
                <a:moveTo>
                  <a:pt x="3206071" y="93045"/>
                </a:moveTo>
                <a:cubicBezTo>
                  <a:pt x="4203524" y="339896"/>
                  <a:pt x="4873612" y="1032631"/>
                  <a:pt x="4867231" y="1810348"/>
                </a:cubicBezTo>
              </a:path>
            </a:pathLst>
          </a:custGeom>
          <a:noFill/>
          <a:ln w="6048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3" name="Arc 5"/>
          <p:cNvSpPr/>
          <p:nvPr/>
        </p:nvSpPr>
        <p:spPr>
          <a:xfrm rot="10800000">
            <a:off x="7304040" y="-1904760"/>
            <a:ext cx="4867200" cy="3760920"/>
          </a:xfrm>
          <a:custGeom>
            <a:avLst/>
            <a:gdLst/>
            <a:ahLst/>
            <a:rect l="l" t="t" r="r" b="b"/>
            <a:pathLst>
              <a:path stroke="0" w="4867275" h="3760788">
                <a:moveTo>
                  <a:pt x="3011833" y="53842"/>
                </a:moveTo>
                <a:cubicBezTo>
                  <a:pt x="4102622" y="259985"/>
                  <a:pt x="4869244" y="1016037"/>
                  <a:pt x="4867272" y="1883697"/>
                </a:cubicBezTo>
                <a:lnTo>
                  <a:pt x="2433638" y="1880394"/>
                </a:lnTo>
                <a:lnTo>
                  <a:pt x="3011833" y="53842"/>
                </a:lnTo>
                <a:close/>
              </a:path>
              <a:path fill="none" w="4867275" h="3760788">
                <a:moveTo>
                  <a:pt x="3011833" y="53842"/>
                </a:moveTo>
                <a:cubicBezTo>
                  <a:pt x="4102622" y="259985"/>
                  <a:pt x="4869244" y="1016037"/>
                  <a:pt x="4867272" y="1883697"/>
                </a:cubicBezTo>
              </a:path>
            </a:pathLst>
          </a:custGeom>
          <a:noFill/>
          <a:ln w="2844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4" name="Arc 6"/>
          <p:cNvSpPr/>
          <p:nvPr/>
        </p:nvSpPr>
        <p:spPr>
          <a:xfrm>
            <a:off x="-3052800" y="5184720"/>
            <a:ext cx="3282840" cy="3043440"/>
          </a:xfrm>
          <a:custGeom>
            <a:avLst/>
            <a:gdLst/>
            <a:ahLst/>
            <a:rect l="l" t="t" r="r" b="b"/>
            <a:pathLst>
              <a:path stroke="0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  <a:lnTo>
                  <a:pt x="1641476" y="1521619"/>
                </a:lnTo>
                <a:lnTo>
                  <a:pt x="3057924" y="752662"/>
                </a:lnTo>
                <a:close/>
              </a:path>
              <a:path fill="none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</a:path>
            </a:pathLst>
          </a:custGeom>
          <a:noFill/>
          <a:ln w="28440">
            <a:solidFill>
              <a:srgbClr val="ffffff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5" name="Arc 7"/>
          <p:cNvSpPr/>
          <p:nvPr/>
        </p:nvSpPr>
        <p:spPr>
          <a:xfrm>
            <a:off x="-3247920" y="486252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  <a:lnTo>
                  <a:pt x="2433638" y="1979613"/>
                </a:lnTo>
                <a:lnTo>
                  <a:pt x="3230734" y="109196"/>
                </a:lnTo>
                <a:close/>
              </a:path>
              <a:path fill="none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</a:path>
            </a:pathLst>
          </a:custGeom>
          <a:noFill/>
          <a:ln w="28440">
            <a:solidFill>
              <a:srgbClr val="ffffff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6" name="Arc 8"/>
          <p:cNvSpPr/>
          <p:nvPr/>
        </p:nvSpPr>
        <p:spPr>
          <a:xfrm>
            <a:off x="-3425760" y="487836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  <a:lnTo>
                  <a:pt x="2433638" y="1979613"/>
                </a:lnTo>
                <a:lnTo>
                  <a:pt x="3411136" y="166707"/>
                </a:lnTo>
                <a:close/>
              </a:path>
              <a:path fill="none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</a:path>
            </a:pathLst>
          </a:custGeom>
          <a:noFill/>
          <a:ln w="50760">
            <a:solidFill>
              <a:srgbClr val="ffffff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227" name="Picture 11" descr="SMARTER_logo_250.png"/>
          <p:cNvPicPr/>
          <p:nvPr/>
        </p:nvPicPr>
        <p:blipFill>
          <a:blip r:embed="rId3"/>
          <a:stretch/>
        </p:blipFill>
        <p:spPr>
          <a:xfrm>
            <a:off x="7342200" y="6183360"/>
            <a:ext cx="1427040" cy="433440"/>
          </a:xfrm>
          <a:prstGeom prst="rect">
            <a:avLst/>
          </a:prstGeom>
          <a:ln w="0">
            <a:noFill/>
          </a:ln>
        </p:spPr>
      </p:pic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344520" y="320760"/>
            <a:ext cx="84549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64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644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00964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267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268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269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270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1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272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27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 type="sldNum" idx="134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C1ED-1AEF-4385-A596-725192684976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 type="ftr" idx="135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314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315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316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317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8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319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32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 type="sldNum" idx="136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F8AE-F587-42C1-9A92-A91638D0EA63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 type="ftr" idx="137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361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362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363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364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5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366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36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 type="sldNum" idx="138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4B9B-DE14-4A56-9016-B53511A4DED1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 type="ftr" idx="139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408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409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410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411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2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13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41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6" name="PlaceHolder 3"/>
          <p:cNvSpPr>
            <a:spLocks noGrp="1"/>
          </p:cNvSpPr>
          <p:nvPr>
            <p:ph type="sldNum" idx="140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EDCD-BD29-4E0D-A393-CF2C571A588C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PlaceHolder 4"/>
          <p:cNvSpPr>
            <a:spLocks noGrp="1"/>
          </p:cNvSpPr>
          <p:nvPr>
            <p:ph type="ftr" idx="141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455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456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457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458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9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60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46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 type="sldNum" idx="142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715C-F7EB-428A-AACB-E1A97212287D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 type="ftr" idx="143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02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503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504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505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6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07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50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0" name="PlaceHolder 3"/>
          <p:cNvSpPr>
            <a:spLocks noGrp="1"/>
          </p:cNvSpPr>
          <p:nvPr>
            <p:ph type="sldNum" idx="144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A8BE-8FF7-40C2-B52C-B84F289FB0C1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PlaceHolder 4"/>
          <p:cNvSpPr>
            <a:spLocks noGrp="1"/>
          </p:cNvSpPr>
          <p:nvPr>
            <p:ph type="ftr" idx="145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BA44-42AF-4512-AD63-F232B954BE1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49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550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551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552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3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54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55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 type="sldNum" idx="146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FFE5-F105-4FDF-889B-D9FAEB4A22ED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PlaceHolder 4"/>
          <p:cNvSpPr>
            <a:spLocks noGrp="1"/>
          </p:cNvSpPr>
          <p:nvPr>
            <p:ph type="ftr" idx="147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96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597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598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599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0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01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60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 type="sldNum" idx="148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3BC1-DD84-4A87-AC01-DE3461B6CC4B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PlaceHolder 4"/>
          <p:cNvSpPr>
            <a:spLocks noGrp="1"/>
          </p:cNvSpPr>
          <p:nvPr>
            <p:ph type="ftr" idx="149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4"/>
    <p:sldLayoutId id="2147484430" r:id="rId5"/>
    <p:sldLayoutId id="2147484431" r:id="rId6"/>
    <p:sldLayoutId id="2147484432" r:id="rId7"/>
    <p:sldLayoutId id="2147484433" r:id="rId8"/>
    <p:sldLayoutId id="2147484434" r:id="rId9"/>
    <p:sldLayoutId id="2147484435" r:id="rId10"/>
    <p:sldLayoutId id="2147484436" r:id="rId11"/>
    <p:sldLayoutId id="2147484437" r:id="rId12"/>
    <p:sldLayoutId id="2147484438" r:id="rId13"/>
    <p:sldLayoutId id="2147484439" r:id="rId14"/>
    <p:sldLayoutId id="2147484440" r:id="rId15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643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644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645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646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7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48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64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 type="sldNum" idx="150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8356-5070-4F2F-AC3B-11FADD357024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PlaceHolder 4"/>
          <p:cNvSpPr>
            <a:spLocks noGrp="1"/>
          </p:cNvSpPr>
          <p:nvPr>
            <p:ph type="ftr" idx="151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4"/>
    <p:sldLayoutId id="2147484443" r:id="rId5"/>
    <p:sldLayoutId id="2147484444" r:id="rId6"/>
    <p:sldLayoutId id="2147484445" r:id="rId7"/>
    <p:sldLayoutId id="2147484446" r:id="rId8"/>
    <p:sldLayoutId id="2147484447" r:id="rId9"/>
    <p:sldLayoutId id="2147484448" r:id="rId10"/>
    <p:sldLayoutId id="2147484449" r:id="rId11"/>
    <p:sldLayoutId id="2147484450" r:id="rId12"/>
    <p:sldLayoutId id="2147484451" r:id="rId13"/>
    <p:sldLayoutId id="2147484452" r:id="rId14"/>
    <p:sldLayoutId id="2147484453" r:id="rId15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690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691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692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693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4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95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69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697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8" name="PlaceHolder 3"/>
          <p:cNvSpPr>
            <a:spLocks noGrp="1"/>
          </p:cNvSpPr>
          <p:nvPr>
            <p:ph type="sldNum" idx="152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DFCC-0901-4E33-BC5C-45855E57A865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PlaceHolder 4"/>
          <p:cNvSpPr>
            <a:spLocks noGrp="1"/>
          </p:cNvSpPr>
          <p:nvPr>
            <p:ph type="ftr" idx="153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4"/>
    <p:sldLayoutId id="2147484456" r:id="rId5"/>
    <p:sldLayoutId id="2147484457" r:id="rId6"/>
    <p:sldLayoutId id="2147484458" r:id="rId7"/>
    <p:sldLayoutId id="2147484459" r:id="rId8"/>
    <p:sldLayoutId id="2147484460" r:id="rId9"/>
    <p:sldLayoutId id="2147484461" r:id="rId10"/>
    <p:sldLayoutId id="2147484462" r:id="rId11"/>
    <p:sldLayoutId id="2147484463" r:id="rId12"/>
    <p:sldLayoutId id="2147484464" r:id="rId13"/>
    <p:sldLayoutId id="2147484465" r:id="rId14"/>
    <p:sldLayoutId id="2147484466" r:id="rId15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737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738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739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740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1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42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74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 type="sldNum" idx="154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CBB3-F010-421F-B900-7B669D10A5D3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PlaceHolder 4"/>
          <p:cNvSpPr>
            <a:spLocks noGrp="1"/>
          </p:cNvSpPr>
          <p:nvPr>
            <p:ph type="ftr" idx="155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4"/>
    <p:sldLayoutId id="2147484469" r:id="rId5"/>
    <p:sldLayoutId id="2147484470" r:id="rId6"/>
    <p:sldLayoutId id="2147484471" r:id="rId7"/>
    <p:sldLayoutId id="2147484472" r:id="rId8"/>
    <p:sldLayoutId id="2147484473" r:id="rId9"/>
    <p:sldLayoutId id="2147484474" r:id="rId10"/>
    <p:sldLayoutId id="2147484475" r:id="rId11"/>
    <p:sldLayoutId id="2147484476" r:id="rId12"/>
    <p:sldLayoutId id="2147484477" r:id="rId13"/>
    <p:sldLayoutId id="2147484478" r:id="rId14"/>
    <p:sldLayoutId id="2147484479" r:id="rId15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784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785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786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787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8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89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79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2" name="PlaceHolder 3"/>
          <p:cNvSpPr>
            <a:spLocks noGrp="1"/>
          </p:cNvSpPr>
          <p:nvPr>
            <p:ph type="sldNum" idx="156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38FB-1A06-45E9-80DE-4221F1301F8D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PlaceHolder 4"/>
          <p:cNvSpPr>
            <a:spLocks noGrp="1"/>
          </p:cNvSpPr>
          <p:nvPr>
            <p:ph type="ftr" idx="157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4"/>
    <p:sldLayoutId id="2147484482" r:id="rId5"/>
    <p:sldLayoutId id="2147484483" r:id="rId6"/>
    <p:sldLayoutId id="2147484484" r:id="rId7"/>
    <p:sldLayoutId id="2147484485" r:id="rId8"/>
    <p:sldLayoutId id="2147484486" r:id="rId9"/>
    <p:sldLayoutId id="2147484487" r:id="rId10"/>
    <p:sldLayoutId id="2147484488" r:id="rId11"/>
    <p:sldLayoutId id="2147484489" r:id="rId12"/>
    <p:sldLayoutId id="2147484490" r:id="rId13"/>
    <p:sldLayoutId id="2147484491" r:id="rId14"/>
    <p:sldLayoutId id="2147484492" r:id="rId15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831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832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833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834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5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36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83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 type="sldNum" idx="158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B5AA-BAEE-46BF-83DC-B5324D7C46A9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PlaceHolder 4"/>
          <p:cNvSpPr>
            <a:spLocks noGrp="1"/>
          </p:cNvSpPr>
          <p:nvPr>
            <p:ph type="ftr" idx="159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4"/>
    <p:sldLayoutId id="2147484495" r:id="rId5"/>
    <p:sldLayoutId id="2147484496" r:id="rId6"/>
    <p:sldLayoutId id="2147484497" r:id="rId7"/>
    <p:sldLayoutId id="2147484498" r:id="rId8"/>
    <p:sldLayoutId id="2147484499" r:id="rId9"/>
    <p:sldLayoutId id="2147484500" r:id="rId10"/>
    <p:sldLayoutId id="2147484501" r:id="rId11"/>
    <p:sldLayoutId id="2147484502" r:id="rId12"/>
    <p:sldLayoutId id="2147484503" r:id="rId13"/>
    <p:sldLayoutId id="2147484504" r:id="rId14"/>
    <p:sldLayoutId id="2147484505" r:id="rId15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878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879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880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881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2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83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88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6" name="PlaceHolder 3"/>
          <p:cNvSpPr>
            <a:spLocks noGrp="1"/>
          </p:cNvSpPr>
          <p:nvPr>
            <p:ph type="sldNum" idx="160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D46D-1BB4-4239-AD7C-AB281A292106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PlaceHolder 4"/>
          <p:cNvSpPr>
            <a:spLocks noGrp="1"/>
          </p:cNvSpPr>
          <p:nvPr>
            <p:ph type="ftr" idx="161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4"/>
    <p:sldLayoutId id="2147484508" r:id="rId5"/>
    <p:sldLayoutId id="2147484509" r:id="rId6"/>
    <p:sldLayoutId id="2147484510" r:id="rId7"/>
    <p:sldLayoutId id="2147484511" r:id="rId8"/>
    <p:sldLayoutId id="2147484512" r:id="rId9"/>
    <p:sldLayoutId id="2147484513" r:id="rId10"/>
    <p:sldLayoutId id="2147484514" r:id="rId11"/>
    <p:sldLayoutId id="2147484515" r:id="rId12"/>
    <p:sldLayoutId id="2147484516" r:id="rId13"/>
    <p:sldLayoutId id="2147484517" r:id="rId14"/>
    <p:sldLayoutId id="2147484518" r:id="rId15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925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926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927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928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9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30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93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 type="sldNum" idx="162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95A6-13E0-4568-8F6A-21FA1FC535FA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 type="ftr" idx="163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4"/>
    <p:sldLayoutId id="2147484521" r:id="rId5"/>
    <p:sldLayoutId id="2147484522" r:id="rId6"/>
    <p:sldLayoutId id="2147484523" r:id="rId7"/>
    <p:sldLayoutId id="2147484524" r:id="rId8"/>
    <p:sldLayoutId id="2147484525" r:id="rId9"/>
    <p:sldLayoutId id="2147484526" r:id="rId10"/>
    <p:sldLayoutId id="2147484527" r:id="rId11"/>
    <p:sldLayoutId id="2147484528" r:id="rId12"/>
    <p:sldLayoutId id="2147484529" r:id="rId13"/>
    <p:sldLayoutId id="2147484530" r:id="rId14"/>
    <p:sldLayoutId id="2147484531" r:id="rId15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1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972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973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974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975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6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77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97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 type="sldNum" idx="164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919B-E8E2-40D0-8E69-C921A275B36B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 type="ftr" idx="165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4"/>
    <p:sldLayoutId id="2147484534" r:id="rId5"/>
    <p:sldLayoutId id="2147484535" r:id="rId6"/>
    <p:sldLayoutId id="2147484536" r:id="rId7"/>
    <p:sldLayoutId id="2147484537" r:id="rId8"/>
    <p:sldLayoutId id="2147484538" r:id="rId9"/>
    <p:sldLayoutId id="2147484539" r:id="rId10"/>
    <p:sldLayoutId id="2147484540" r:id="rId11"/>
    <p:sldLayoutId id="2147484541" r:id="rId12"/>
    <p:sldLayoutId id="2147484542" r:id="rId13"/>
    <p:sldLayoutId id="2147484543" r:id="rId14"/>
    <p:sldLayoutId id="2147484544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hape 13"/>
          <p:cNvSpPr/>
          <p:nvPr/>
        </p:nvSpPr>
        <p:spPr>
          <a:xfrm>
            <a:off x="8064360" y="958680"/>
            <a:ext cx="40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66b2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7315200" cy="1452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019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020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021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022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3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24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02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026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7" name="PlaceHolder 3"/>
          <p:cNvSpPr>
            <a:spLocks noGrp="1"/>
          </p:cNvSpPr>
          <p:nvPr>
            <p:ph type="sldNum" idx="166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889A-B6C9-43F9-A60A-FC90E00F29B4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PlaceHolder 4"/>
          <p:cNvSpPr>
            <a:spLocks noGrp="1"/>
          </p:cNvSpPr>
          <p:nvPr>
            <p:ph type="ftr" idx="167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4"/>
    <p:sldLayoutId id="2147484547" r:id="rId5"/>
    <p:sldLayoutId id="2147484548" r:id="rId6"/>
    <p:sldLayoutId id="2147484549" r:id="rId7"/>
    <p:sldLayoutId id="2147484550" r:id="rId8"/>
    <p:sldLayoutId id="2147484551" r:id="rId9"/>
    <p:sldLayoutId id="2147484552" r:id="rId10"/>
    <p:sldLayoutId id="2147484553" r:id="rId11"/>
    <p:sldLayoutId id="2147484554" r:id="rId12"/>
    <p:sldLayoutId id="2147484555" r:id="rId13"/>
    <p:sldLayoutId id="2147484556" r:id="rId14"/>
    <p:sldLayoutId id="2147484557" r:id="rId15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066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067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068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069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0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71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07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 type="sldNum" idx="168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6A6C-BE46-4829-BED6-5F58E37B4F92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PlaceHolder 4"/>
          <p:cNvSpPr>
            <a:spLocks noGrp="1"/>
          </p:cNvSpPr>
          <p:nvPr>
            <p:ph type="ftr" idx="169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4"/>
    <p:sldLayoutId id="2147484560" r:id="rId5"/>
    <p:sldLayoutId id="2147484561" r:id="rId6"/>
    <p:sldLayoutId id="2147484562" r:id="rId7"/>
    <p:sldLayoutId id="2147484563" r:id="rId8"/>
    <p:sldLayoutId id="2147484564" r:id="rId9"/>
    <p:sldLayoutId id="2147484565" r:id="rId10"/>
    <p:sldLayoutId id="2147484566" r:id="rId11"/>
    <p:sldLayoutId id="2147484567" r:id="rId12"/>
    <p:sldLayoutId id="2147484568" r:id="rId13"/>
    <p:sldLayoutId id="2147484569" r:id="rId14"/>
    <p:sldLayoutId id="2147484570" r:id="rId15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2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113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114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115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116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7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18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11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120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PlaceHolder 3"/>
          <p:cNvSpPr>
            <a:spLocks noGrp="1"/>
          </p:cNvSpPr>
          <p:nvPr>
            <p:ph type="sldNum" idx="170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69B1-F5AF-4EE7-8FFC-1DA191E853F2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PlaceHolder 4"/>
          <p:cNvSpPr>
            <a:spLocks noGrp="1"/>
          </p:cNvSpPr>
          <p:nvPr>
            <p:ph type="ftr" idx="171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4"/>
    <p:sldLayoutId id="2147484573" r:id="rId5"/>
    <p:sldLayoutId id="2147484574" r:id="rId6"/>
    <p:sldLayoutId id="2147484575" r:id="rId7"/>
    <p:sldLayoutId id="2147484576" r:id="rId8"/>
    <p:sldLayoutId id="2147484577" r:id="rId9"/>
    <p:sldLayoutId id="2147484578" r:id="rId10"/>
    <p:sldLayoutId id="2147484579" r:id="rId11"/>
    <p:sldLayoutId id="2147484580" r:id="rId12"/>
    <p:sldLayoutId id="2147484581" r:id="rId13"/>
    <p:sldLayoutId id="2147484582" r:id="rId14"/>
    <p:sldLayoutId id="2147484583" r:id="rId15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9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160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161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162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163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4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65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16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 type="sldNum" idx="172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2C6F-6936-442C-AB4A-B2E89357464C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PlaceHolder 4"/>
          <p:cNvSpPr>
            <a:spLocks noGrp="1"/>
          </p:cNvSpPr>
          <p:nvPr>
            <p:ph type="ftr" idx="173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4"/>
    <p:sldLayoutId id="2147484586" r:id="rId5"/>
    <p:sldLayoutId id="2147484587" r:id="rId6"/>
    <p:sldLayoutId id="2147484588" r:id="rId7"/>
    <p:sldLayoutId id="2147484589" r:id="rId8"/>
    <p:sldLayoutId id="2147484590" r:id="rId9"/>
    <p:sldLayoutId id="2147484591" r:id="rId10"/>
    <p:sldLayoutId id="2147484592" r:id="rId11"/>
    <p:sldLayoutId id="2147484593" r:id="rId12"/>
    <p:sldLayoutId id="2147484594" r:id="rId13"/>
    <p:sldLayoutId id="2147484595" r:id="rId14"/>
    <p:sldLayoutId id="2147484596" r:id="rId15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207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208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209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210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1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12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21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 type="sldNum" idx="174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B222-B301-455E-9741-169CB069D14D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PlaceHolder 4"/>
          <p:cNvSpPr>
            <a:spLocks noGrp="1"/>
          </p:cNvSpPr>
          <p:nvPr>
            <p:ph type="ftr" idx="175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4"/>
    <p:sldLayoutId id="2147484599" r:id="rId5"/>
    <p:sldLayoutId id="2147484600" r:id="rId6"/>
    <p:sldLayoutId id="2147484601" r:id="rId7"/>
    <p:sldLayoutId id="2147484602" r:id="rId8"/>
    <p:sldLayoutId id="2147484603" r:id="rId9"/>
    <p:sldLayoutId id="2147484604" r:id="rId10"/>
    <p:sldLayoutId id="2147484605" r:id="rId11"/>
    <p:sldLayoutId id="2147484606" r:id="rId12"/>
    <p:sldLayoutId id="2147484607" r:id="rId13"/>
    <p:sldLayoutId id="2147484608" r:id="rId14"/>
    <p:sldLayoutId id="2147484609" r:id="rId15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254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255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256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257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8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59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26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2" name="PlaceHolder 3"/>
          <p:cNvSpPr>
            <a:spLocks noGrp="1"/>
          </p:cNvSpPr>
          <p:nvPr>
            <p:ph type="sldNum" idx="176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F963-6BB8-4943-A654-5A83F6587850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PlaceHolder 4"/>
          <p:cNvSpPr>
            <a:spLocks noGrp="1"/>
          </p:cNvSpPr>
          <p:nvPr>
            <p:ph type="ftr" idx="177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4"/>
    <p:sldLayoutId id="2147484612" r:id="rId5"/>
    <p:sldLayoutId id="2147484613" r:id="rId6"/>
    <p:sldLayoutId id="2147484614" r:id="rId7"/>
    <p:sldLayoutId id="2147484615" r:id="rId8"/>
    <p:sldLayoutId id="2147484616" r:id="rId9"/>
    <p:sldLayoutId id="2147484617" r:id="rId10"/>
    <p:sldLayoutId id="2147484618" r:id="rId11"/>
    <p:sldLayoutId id="2147484619" r:id="rId12"/>
    <p:sldLayoutId id="2147484620" r:id="rId13"/>
    <p:sldLayoutId id="2147484621" r:id="rId14"/>
    <p:sldLayoutId id="2147484622" r:id="rId15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0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301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302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303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304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5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06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30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308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9" name="PlaceHolder 3"/>
          <p:cNvSpPr>
            <a:spLocks noGrp="1"/>
          </p:cNvSpPr>
          <p:nvPr>
            <p:ph type="sldNum" idx="178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C553-36DA-4499-89B4-7380D5E0BBA0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PlaceHolder 4"/>
          <p:cNvSpPr>
            <a:spLocks noGrp="1"/>
          </p:cNvSpPr>
          <p:nvPr>
            <p:ph type="ftr" idx="179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4"/>
    <p:sldLayoutId id="2147484625" r:id="rId5"/>
    <p:sldLayoutId id="2147484626" r:id="rId6"/>
    <p:sldLayoutId id="2147484627" r:id="rId7"/>
    <p:sldLayoutId id="2147484628" r:id="rId8"/>
    <p:sldLayoutId id="2147484629" r:id="rId9"/>
    <p:sldLayoutId id="2147484630" r:id="rId10"/>
    <p:sldLayoutId id="2147484631" r:id="rId11"/>
    <p:sldLayoutId id="2147484632" r:id="rId12"/>
    <p:sldLayoutId id="2147484633" r:id="rId13"/>
    <p:sldLayoutId id="2147484634" r:id="rId14"/>
    <p:sldLayoutId id="2147484635" r:id="rId15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348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349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350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351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2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53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3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 type="sldNum" idx="180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67D5-0D0C-4EF7-975D-E6E4C5196A60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 type="ftr" idx="181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4"/>
    <p:sldLayoutId id="2147484638" r:id="rId5"/>
    <p:sldLayoutId id="2147484639" r:id="rId6"/>
    <p:sldLayoutId id="2147484640" r:id="rId7"/>
    <p:sldLayoutId id="2147484641" r:id="rId8"/>
    <p:sldLayoutId id="2147484642" r:id="rId9"/>
    <p:sldLayoutId id="2147484643" r:id="rId10"/>
    <p:sldLayoutId id="2147484644" r:id="rId11"/>
    <p:sldLayoutId id="2147484645" r:id="rId12"/>
    <p:sldLayoutId id="2147484646" r:id="rId13"/>
    <p:sldLayoutId id="2147484647" r:id="rId14"/>
    <p:sldLayoutId id="2147484648" r:id="rId15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PlaceHolder 3"/>
          <p:cNvSpPr>
            <a:spLocks noGrp="1"/>
          </p:cNvSpPr>
          <p:nvPr>
            <p:ph type="dt" idx="1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97" name="PlaceHolder 4"/>
          <p:cNvSpPr>
            <a:spLocks noGrp="1"/>
          </p:cNvSpPr>
          <p:nvPr>
            <p:ph type="ftr" idx="1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98" name="PlaceHolder 5"/>
          <p:cNvSpPr>
            <a:spLocks noGrp="1"/>
          </p:cNvSpPr>
          <p:nvPr>
            <p:ph type="sldNum" idx="1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E344-3C10-4685-BD10-D4B14293E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3"/>
    <p:sldLayoutId id="2147484651" r:id="rId4"/>
    <p:sldLayoutId id="2147484652" r:id="rId5"/>
    <p:sldLayoutId id="2147484653" r:id="rId6"/>
    <p:sldLayoutId id="2147484654" r:id="rId7"/>
    <p:sldLayoutId id="2147484655" r:id="rId8"/>
    <p:sldLayoutId id="2147484656" r:id="rId9"/>
    <p:sldLayoutId id="2147484657" r:id="rId10"/>
    <p:sldLayoutId id="2147484658" r:id="rId11"/>
    <p:sldLayoutId id="2147484659" r:id="rId12"/>
    <p:sldLayoutId id="2147484660" r:id="rId13"/>
    <p:sldLayoutId id="2147484661" r:id="rId14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PlaceHolder 3"/>
          <p:cNvSpPr>
            <a:spLocks noGrp="1"/>
          </p:cNvSpPr>
          <p:nvPr>
            <p:ph type="dt" idx="1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38" name="PlaceHolder 4"/>
          <p:cNvSpPr>
            <a:spLocks noGrp="1"/>
          </p:cNvSpPr>
          <p:nvPr>
            <p:ph type="ftr" idx="1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39" name="PlaceHolder 5"/>
          <p:cNvSpPr>
            <a:spLocks noGrp="1"/>
          </p:cNvSpPr>
          <p:nvPr>
            <p:ph type="sldNum" idx="1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D3E7-E094-4AFC-831F-150DCC1D1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3"/>
    <p:sldLayoutId id="2147484664" r:id="rId4"/>
    <p:sldLayoutId id="2147484665" r:id="rId5"/>
    <p:sldLayoutId id="2147484666" r:id="rId6"/>
    <p:sldLayoutId id="2147484667" r:id="rId7"/>
    <p:sldLayoutId id="2147484668" r:id="rId8"/>
    <p:sldLayoutId id="2147484669" r:id="rId9"/>
    <p:sldLayoutId id="2147484670" r:id="rId10"/>
    <p:sldLayoutId id="2147484671" r:id="rId11"/>
    <p:sldLayoutId id="2147484672" r:id="rId12"/>
    <p:sldLayoutId id="2147484673" r:id="rId13"/>
    <p:sldLayoutId id="2147484674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44520" y="320760"/>
            <a:ext cx="84549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64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644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00964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PlaceHolder 3"/>
          <p:cNvSpPr>
            <a:spLocks noGrp="1"/>
          </p:cNvSpPr>
          <p:nvPr>
            <p:ph type="dt" idx="1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79" name="PlaceHolder 4"/>
          <p:cNvSpPr>
            <a:spLocks noGrp="1"/>
          </p:cNvSpPr>
          <p:nvPr>
            <p:ph type="ftr" idx="1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80" name="PlaceHolder 5"/>
          <p:cNvSpPr>
            <a:spLocks noGrp="1"/>
          </p:cNvSpPr>
          <p:nvPr>
            <p:ph type="sldNum" idx="1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F0B5-0098-4361-816F-BF9927CE9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3"/>
    <p:sldLayoutId id="2147484677" r:id="rId4"/>
    <p:sldLayoutId id="2147484678" r:id="rId5"/>
    <p:sldLayoutId id="2147484679" r:id="rId6"/>
    <p:sldLayoutId id="2147484680" r:id="rId7"/>
    <p:sldLayoutId id="2147484681" r:id="rId8"/>
    <p:sldLayoutId id="2147484682" r:id="rId9"/>
    <p:sldLayoutId id="2147484683" r:id="rId10"/>
    <p:sldLayoutId id="2147484684" r:id="rId11"/>
    <p:sldLayoutId id="2147484685" r:id="rId12"/>
    <p:sldLayoutId id="2147484686" r:id="rId13"/>
    <p:sldLayoutId id="2147484687" r:id="rId14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PlaceHolder 3"/>
          <p:cNvSpPr>
            <a:spLocks noGrp="1"/>
          </p:cNvSpPr>
          <p:nvPr>
            <p:ph type="dt" idx="1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20" name="PlaceHolder 4"/>
          <p:cNvSpPr>
            <a:spLocks noGrp="1"/>
          </p:cNvSpPr>
          <p:nvPr>
            <p:ph type="ftr" idx="1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21" name="PlaceHolder 5"/>
          <p:cNvSpPr>
            <a:spLocks noGrp="1"/>
          </p:cNvSpPr>
          <p:nvPr>
            <p:ph type="sldNum" idx="19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F9DD-6EC2-4479-8743-C43106813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3"/>
    <p:sldLayoutId id="2147484690" r:id="rId4"/>
    <p:sldLayoutId id="2147484691" r:id="rId5"/>
    <p:sldLayoutId id="2147484692" r:id="rId6"/>
    <p:sldLayoutId id="2147484693" r:id="rId7"/>
    <p:sldLayoutId id="2147484694" r:id="rId8"/>
    <p:sldLayoutId id="2147484695" r:id="rId9"/>
    <p:sldLayoutId id="2147484696" r:id="rId10"/>
    <p:sldLayoutId id="2147484697" r:id="rId11"/>
    <p:sldLayoutId id="2147484698" r:id="rId12"/>
    <p:sldLayoutId id="2147484699" r:id="rId13"/>
    <p:sldLayoutId id="2147484700" r:id="rId14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PlaceHolder 3"/>
          <p:cNvSpPr>
            <a:spLocks noGrp="1"/>
          </p:cNvSpPr>
          <p:nvPr>
            <p:ph type="dt" idx="1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61" name="PlaceHolder 4"/>
          <p:cNvSpPr>
            <a:spLocks noGrp="1"/>
          </p:cNvSpPr>
          <p:nvPr>
            <p:ph type="ftr" idx="1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62" name="PlaceHolder 5"/>
          <p:cNvSpPr>
            <a:spLocks noGrp="1"/>
          </p:cNvSpPr>
          <p:nvPr>
            <p:ph type="sldNum" idx="1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2C6F-4D5E-4DAB-95A9-BFBBD58EE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3"/>
    <p:sldLayoutId id="2147484703" r:id="rId4"/>
    <p:sldLayoutId id="2147484704" r:id="rId5"/>
    <p:sldLayoutId id="2147484705" r:id="rId6"/>
    <p:sldLayoutId id="2147484706" r:id="rId7"/>
    <p:sldLayoutId id="2147484707" r:id="rId8"/>
    <p:sldLayoutId id="2147484708" r:id="rId9"/>
    <p:sldLayoutId id="2147484709" r:id="rId10"/>
    <p:sldLayoutId id="2147484710" r:id="rId11"/>
    <p:sldLayoutId id="2147484711" r:id="rId12"/>
    <p:sldLayoutId id="2147484712" r:id="rId13"/>
    <p:sldLayoutId id="2147484713" r:id="rId14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PlaceHolder 3"/>
          <p:cNvSpPr>
            <a:spLocks noGrp="1"/>
          </p:cNvSpPr>
          <p:nvPr>
            <p:ph type="dt" idx="1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02" name="PlaceHolder 4"/>
          <p:cNvSpPr>
            <a:spLocks noGrp="1"/>
          </p:cNvSpPr>
          <p:nvPr>
            <p:ph type="ftr" idx="1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03" name="PlaceHolder 5"/>
          <p:cNvSpPr>
            <a:spLocks noGrp="1"/>
          </p:cNvSpPr>
          <p:nvPr>
            <p:ph type="sldNum" idx="19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9BB0-E6F0-4296-A533-E40E01EEB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3"/>
    <p:sldLayoutId id="2147484716" r:id="rId4"/>
    <p:sldLayoutId id="2147484717" r:id="rId5"/>
    <p:sldLayoutId id="2147484718" r:id="rId6"/>
    <p:sldLayoutId id="2147484719" r:id="rId7"/>
    <p:sldLayoutId id="2147484720" r:id="rId8"/>
    <p:sldLayoutId id="2147484721" r:id="rId9"/>
    <p:sldLayoutId id="2147484722" r:id="rId10"/>
    <p:sldLayoutId id="2147484723" r:id="rId11"/>
    <p:sldLayoutId id="2147484724" r:id="rId12"/>
    <p:sldLayoutId id="2147484725" r:id="rId13"/>
    <p:sldLayoutId id="2147484726" r:id="rId14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2" name="PlaceHolder 3"/>
          <p:cNvSpPr>
            <a:spLocks noGrp="1"/>
          </p:cNvSpPr>
          <p:nvPr>
            <p:ph type="dt" idx="2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43" name="PlaceHolder 4"/>
          <p:cNvSpPr>
            <a:spLocks noGrp="1"/>
          </p:cNvSpPr>
          <p:nvPr>
            <p:ph type="ftr" idx="2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44" name="PlaceHolder 5"/>
          <p:cNvSpPr>
            <a:spLocks noGrp="1"/>
          </p:cNvSpPr>
          <p:nvPr>
            <p:ph type="sldNum" idx="20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221C-AEC8-4C3A-824E-1C6BE0C28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3"/>
    <p:sldLayoutId id="2147484729" r:id="rId4"/>
    <p:sldLayoutId id="2147484730" r:id="rId5"/>
    <p:sldLayoutId id="2147484731" r:id="rId6"/>
    <p:sldLayoutId id="2147484732" r:id="rId7"/>
    <p:sldLayoutId id="2147484733" r:id="rId8"/>
    <p:sldLayoutId id="2147484734" r:id="rId9"/>
    <p:sldLayoutId id="2147484735" r:id="rId10"/>
    <p:sldLayoutId id="2147484736" r:id="rId11"/>
    <p:sldLayoutId id="2147484737" r:id="rId12"/>
    <p:sldLayoutId id="2147484738" r:id="rId13"/>
    <p:sldLayoutId id="2147484739" r:id="rId14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 type="dt" idx="2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84" name="PlaceHolder 4"/>
          <p:cNvSpPr>
            <a:spLocks noGrp="1"/>
          </p:cNvSpPr>
          <p:nvPr>
            <p:ph type="ftr" idx="2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85" name="PlaceHolder 5"/>
          <p:cNvSpPr>
            <a:spLocks noGrp="1"/>
          </p:cNvSpPr>
          <p:nvPr>
            <p:ph type="sldNum" idx="20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B086-9DD9-4661-BFA5-01119B3F7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3"/>
    <p:sldLayoutId id="2147484742" r:id="rId4"/>
    <p:sldLayoutId id="2147484743" r:id="rId5"/>
    <p:sldLayoutId id="2147484744" r:id="rId6"/>
    <p:sldLayoutId id="2147484745" r:id="rId7"/>
    <p:sldLayoutId id="2147484746" r:id="rId8"/>
    <p:sldLayoutId id="2147484747" r:id="rId9"/>
    <p:sldLayoutId id="2147484748" r:id="rId10"/>
    <p:sldLayoutId id="2147484749" r:id="rId11"/>
    <p:sldLayoutId id="2147484750" r:id="rId12"/>
    <p:sldLayoutId id="2147484751" r:id="rId13"/>
    <p:sldLayoutId id="2147484752" r:id="rId14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PlaceHolder 3"/>
          <p:cNvSpPr>
            <a:spLocks noGrp="1"/>
          </p:cNvSpPr>
          <p:nvPr>
            <p:ph type="dt" idx="2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25" name="PlaceHolder 4"/>
          <p:cNvSpPr>
            <a:spLocks noGrp="1"/>
          </p:cNvSpPr>
          <p:nvPr>
            <p:ph type="ftr" idx="2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26" name="PlaceHolder 5"/>
          <p:cNvSpPr>
            <a:spLocks noGrp="1"/>
          </p:cNvSpPr>
          <p:nvPr>
            <p:ph type="sldNum" idx="20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5FFD-EE8C-4256-9B2B-78E1DF1DB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3"/>
    <p:sldLayoutId id="2147484755" r:id="rId4"/>
    <p:sldLayoutId id="2147484756" r:id="rId5"/>
    <p:sldLayoutId id="2147484757" r:id="rId6"/>
    <p:sldLayoutId id="2147484758" r:id="rId7"/>
    <p:sldLayoutId id="2147484759" r:id="rId8"/>
    <p:sldLayoutId id="2147484760" r:id="rId9"/>
    <p:sldLayoutId id="2147484761" r:id="rId10"/>
    <p:sldLayoutId id="2147484762" r:id="rId11"/>
    <p:sldLayoutId id="2147484763" r:id="rId12"/>
    <p:sldLayoutId id="2147484764" r:id="rId13"/>
    <p:sldLayoutId id="2147484765" r:id="rId14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5" name="PlaceHolder 3"/>
          <p:cNvSpPr>
            <a:spLocks noGrp="1"/>
          </p:cNvSpPr>
          <p:nvPr>
            <p:ph type="dt" idx="2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66" name="PlaceHolder 4"/>
          <p:cNvSpPr>
            <a:spLocks noGrp="1"/>
          </p:cNvSpPr>
          <p:nvPr>
            <p:ph type="ftr" idx="2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67" name="PlaceHolder 5"/>
          <p:cNvSpPr>
            <a:spLocks noGrp="1"/>
          </p:cNvSpPr>
          <p:nvPr>
            <p:ph type="sldNum" idx="2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50FD-ADF0-4F95-B6B2-EE704F0D4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3"/>
    <p:sldLayoutId id="2147484768" r:id="rId4"/>
    <p:sldLayoutId id="2147484769" r:id="rId5"/>
    <p:sldLayoutId id="2147484770" r:id="rId6"/>
    <p:sldLayoutId id="2147484771" r:id="rId7"/>
    <p:sldLayoutId id="2147484772" r:id="rId8"/>
    <p:sldLayoutId id="2147484773" r:id="rId9"/>
    <p:sldLayoutId id="2147484774" r:id="rId10"/>
    <p:sldLayoutId id="2147484775" r:id="rId11"/>
    <p:sldLayoutId id="2147484776" r:id="rId12"/>
    <p:sldLayoutId id="2147484777" r:id="rId13"/>
    <p:sldLayoutId id="2147484778" r:id="rId14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6" name="PlaceHolder 3"/>
          <p:cNvSpPr>
            <a:spLocks noGrp="1"/>
          </p:cNvSpPr>
          <p:nvPr>
            <p:ph type="dt" idx="2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07" name="PlaceHolder 4"/>
          <p:cNvSpPr>
            <a:spLocks noGrp="1"/>
          </p:cNvSpPr>
          <p:nvPr>
            <p:ph type="ftr" idx="2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08" name="PlaceHolder 5"/>
          <p:cNvSpPr>
            <a:spLocks noGrp="1"/>
          </p:cNvSpPr>
          <p:nvPr>
            <p:ph type="sldNum" idx="2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3711-D274-41FC-9498-8DAFF23CE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3"/>
    <p:sldLayoutId id="2147484781" r:id="rId4"/>
    <p:sldLayoutId id="2147484782" r:id="rId5"/>
    <p:sldLayoutId id="2147484783" r:id="rId6"/>
    <p:sldLayoutId id="2147484784" r:id="rId7"/>
    <p:sldLayoutId id="2147484785" r:id="rId8"/>
    <p:sldLayoutId id="2147484786" r:id="rId9"/>
    <p:sldLayoutId id="2147484787" r:id="rId10"/>
    <p:sldLayoutId id="2147484788" r:id="rId11"/>
    <p:sldLayoutId id="2147484789" r:id="rId12"/>
    <p:sldLayoutId id="2147484790" r:id="rId13"/>
    <p:sldLayoutId id="2147484791" r:id="rId14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PlaceHolder 3"/>
          <p:cNvSpPr>
            <a:spLocks noGrp="1"/>
          </p:cNvSpPr>
          <p:nvPr>
            <p:ph type="dt" idx="21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48" name="PlaceHolder 4"/>
          <p:cNvSpPr>
            <a:spLocks noGrp="1"/>
          </p:cNvSpPr>
          <p:nvPr>
            <p:ph type="ftr" idx="2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49" name="PlaceHolder 5"/>
          <p:cNvSpPr>
            <a:spLocks noGrp="1"/>
          </p:cNvSpPr>
          <p:nvPr>
            <p:ph type="sldNum" idx="21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7477-58E5-44F3-B63C-5FDA5B0B5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3"/>
    <p:sldLayoutId id="2147484794" r:id="rId4"/>
    <p:sldLayoutId id="2147484795" r:id="rId5"/>
    <p:sldLayoutId id="2147484796" r:id="rId6"/>
    <p:sldLayoutId id="2147484797" r:id="rId7"/>
    <p:sldLayoutId id="2147484798" r:id="rId8"/>
    <p:sldLayoutId id="2147484799" r:id="rId9"/>
    <p:sldLayoutId id="2147484800" r:id="rId10"/>
    <p:sldLayoutId id="2147484801" r:id="rId11"/>
    <p:sldLayoutId id="2147484802" r:id="rId12"/>
    <p:sldLayoutId id="2147484803" r:id="rId13"/>
    <p:sldLayoutId id="2147484804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39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40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41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3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19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AA320-16C4-43A0-8518-27B2E373C7B7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0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PlaceHolder 3"/>
          <p:cNvSpPr>
            <a:spLocks noGrp="1"/>
          </p:cNvSpPr>
          <p:nvPr>
            <p:ph type="dt" idx="21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89" name="PlaceHolder 4"/>
          <p:cNvSpPr>
            <a:spLocks noGrp="1"/>
          </p:cNvSpPr>
          <p:nvPr>
            <p:ph type="ftr" idx="2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90" name="PlaceHolder 5"/>
          <p:cNvSpPr>
            <a:spLocks noGrp="1"/>
          </p:cNvSpPr>
          <p:nvPr>
            <p:ph type="sldNum" idx="22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CFB6-E677-4A40-B738-DF3EEBD9E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3"/>
    <p:sldLayoutId id="2147484807" r:id="rId4"/>
    <p:sldLayoutId id="2147484808" r:id="rId5"/>
    <p:sldLayoutId id="2147484809" r:id="rId6"/>
    <p:sldLayoutId id="2147484810" r:id="rId7"/>
    <p:sldLayoutId id="2147484811" r:id="rId8"/>
    <p:sldLayoutId id="2147484812" r:id="rId9"/>
    <p:sldLayoutId id="2147484813" r:id="rId10"/>
    <p:sldLayoutId id="2147484814" r:id="rId11"/>
    <p:sldLayoutId id="2147484815" r:id="rId12"/>
    <p:sldLayoutId id="2147484816" r:id="rId13"/>
    <p:sldLayoutId id="2147484817" r:id="rId14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PlaceHolder 3"/>
          <p:cNvSpPr>
            <a:spLocks noGrp="1"/>
          </p:cNvSpPr>
          <p:nvPr>
            <p:ph type="dt" idx="22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30" name="PlaceHolder 4"/>
          <p:cNvSpPr>
            <a:spLocks noGrp="1"/>
          </p:cNvSpPr>
          <p:nvPr>
            <p:ph type="ftr" idx="2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31" name="PlaceHolder 5"/>
          <p:cNvSpPr>
            <a:spLocks noGrp="1"/>
          </p:cNvSpPr>
          <p:nvPr>
            <p:ph type="sldNum" idx="22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0D94-5832-40A8-9B00-D0623CA0D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3"/>
    <p:sldLayoutId id="2147484820" r:id="rId4"/>
    <p:sldLayoutId id="2147484821" r:id="rId5"/>
    <p:sldLayoutId id="2147484822" r:id="rId6"/>
    <p:sldLayoutId id="2147484823" r:id="rId7"/>
    <p:sldLayoutId id="2147484824" r:id="rId8"/>
    <p:sldLayoutId id="2147484825" r:id="rId9"/>
    <p:sldLayoutId id="2147484826" r:id="rId10"/>
    <p:sldLayoutId id="2147484827" r:id="rId11"/>
    <p:sldLayoutId id="2147484828" r:id="rId12"/>
    <p:sldLayoutId id="2147484829" r:id="rId13"/>
    <p:sldLayoutId id="2147484830" r:id="rId14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0" name="PlaceHolder 3"/>
          <p:cNvSpPr>
            <a:spLocks noGrp="1"/>
          </p:cNvSpPr>
          <p:nvPr>
            <p:ph type="dt" idx="22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71" name="PlaceHolder 4"/>
          <p:cNvSpPr>
            <a:spLocks noGrp="1"/>
          </p:cNvSpPr>
          <p:nvPr>
            <p:ph type="ftr" idx="2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72" name="PlaceHolder 5"/>
          <p:cNvSpPr>
            <a:spLocks noGrp="1"/>
          </p:cNvSpPr>
          <p:nvPr>
            <p:ph type="sldNum" idx="22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CF17-0872-46CF-AB36-C0061A155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3"/>
    <p:sldLayoutId id="2147484833" r:id="rId4"/>
    <p:sldLayoutId id="2147484834" r:id="rId5"/>
    <p:sldLayoutId id="2147484835" r:id="rId6"/>
    <p:sldLayoutId id="2147484836" r:id="rId7"/>
    <p:sldLayoutId id="2147484837" r:id="rId8"/>
    <p:sldLayoutId id="2147484838" r:id="rId9"/>
    <p:sldLayoutId id="2147484839" r:id="rId10"/>
    <p:sldLayoutId id="2147484840" r:id="rId11"/>
    <p:sldLayoutId id="2147484841" r:id="rId12"/>
    <p:sldLayoutId id="2147484842" r:id="rId13"/>
    <p:sldLayoutId id="2147484843" r:id="rId14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PlaceHolder 3"/>
          <p:cNvSpPr>
            <a:spLocks noGrp="1"/>
          </p:cNvSpPr>
          <p:nvPr>
            <p:ph type="dt" idx="22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12" name="PlaceHolder 4"/>
          <p:cNvSpPr>
            <a:spLocks noGrp="1"/>
          </p:cNvSpPr>
          <p:nvPr>
            <p:ph type="ftr" idx="2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13" name="PlaceHolder 5"/>
          <p:cNvSpPr>
            <a:spLocks noGrp="1"/>
          </p:cNvSpPr>
          <p:nvPr>
            <p:ph type="sldNum" idx="22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7C4E-D2F9-4F47-BC68-C39B39270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3"/>
    <p:sldLayoutId id="2147484846" r:id="rId4"/>
    <p:sldLayoutId id="2147484847" r:id="rId5"/>
    <p:sldLayoutId id="2147484848" r:id="rId6"/>
    <p:sldLayoutId id="2147484849" r:id="rId7"/>
    <p:sldLayoutId id="2147484850" r:id="rId8"/>
    <p:sldLayoutId id="2147484851" r:id="rId9"/>
    <p:sldLayoutId id="2147484852" r:id="rId10"/>
    <p:sldLayoutId id="2147484853" r:id="rId11"/>
    <p:sldLayoutId id="2147484854" r:id="rId12"/>
    <p:sldLayoutId id="2147484855" r:id="rId13"/>
    <p:sldLayoutId id="2147484856" r:id="rId14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2" name="PlaceHolder 3"/>
          <p:cNvSpPr>
            <a:spLocks noGrp="1"/>
          </p:cNvSpPr>
          <p:nvPr>
            <p:ph type="dt" idx="23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53" name="PlaceHolder 4"/>
          <p:cNvSpPr>
            <a:spLocks noGrp="1"/>
          </p:cNvSpPr>
          <p:nvPr>
            <p:ph type="ftr" idx="2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54" name="PlaceHolder 5"/>
          <p:cNvSpPr>
            <a:spLocks noGrp="1"/>
          </p:cNvSpPr>
          <p:nvPr>
            <p:ph type="sldNum" idx="23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EB4D-5957-4B74-87C8-4EB7F721E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3"/>
    <p:sldLayoutId id="2147484859" r:id="rId4"/>
    <p:sldLayoutId id="2147484860" r:id="rId5"/>
    <p:sldLayoutId id="2147484861" r:id="rId6"/>
    <p:sldLayoutId id="2147484862" r:id="rId7"/>
    <p:sldLayoutId id="2147484863" r:id="rId8"/>
    <p:sldLayoutId id="2147484864" r:id="rId9"/>
    <p:sldLayoutId id="2147484865" r:id="rId10"/>
    <p:sldLayoutId id="2147484866" r:id="rId11"/>
    <p:sldLayoutId id="2147484867" r:id="rId12"/>
    <p:sldLayoutId id="2147484868" r:id="rId13"/>
    <p:sldLayoutId id="2147484869" r:id="rId14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PlaceHolder 3"/>
          <p:cNvSpPr>
            <a:spLocks noGrp="1"/>
          </p:cNvSpPr>
          <p:nvPr>
            <p:ph type="dt" idx="23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94" name="PlaceHolder 4"/>
          <p:cNvSpPr>
            <a:spLocks noGrp="1"/>
          </p:cNvSpPr>
          <p:nvPr>
            <p:ph type="ftr" idx="2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95" name="PlaceHolder 5"/>
          <p:cNvSpPr>
            <a:spLocks noGrp="1"/>
          </p:cNvSpPr>
          <p:nvPr>
            <p:ph type="sldNum" idx="23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DEA6-9BED-4794-AE6E-B4D869BE4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3"/>
    <p:sldLayoutId id="2147484872" r:id="rId4"/>
    <p:sldLayoutId id="2147484873" r:id="rId5"/>
    <p:sldLayoutId id="2147484874" r:id="rId6"/>
    <p:sldLayoutId id="2147484875" r:id="rId7"/>
    <p:sldLayoutId id="2147484876" r:id="rId8"/>
    <p:sldLayoutId id="2147484877" r:id="rId9"/>
    <p:sldLayoutId id="2147484878" r:id="rId10"/>
    <p:sldLayoutId id="2147484879" r:id="rId11"/>
    <p:sldLayoutId id="2147484880" r:id="rId12"/>
    <p:sldLayoutId id="2147484881" r:id="rId13"/>
    <p:sldLayoutId id="2147484882" r:id="rId14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4" name="PlaceHolder 3"/>
          <p:cNvSpPr>
            <a:spLocks noGrp="1"/>
          </p:cNvSpPr>
          <p:nvPr>
            <p:ph type="dt" idx="23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35" name="PlaceHolder 4"/>
          <p:cNvSpPr>
            <a:spLocks noGrp="1"/>
          </p:cNvSpPr>
          <p:nvPr>
            <p:ph type="ftr" idx="2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36" name="PlaceHolder 5"/>
          <p:cNvSpPr>
            <a:spLocks noGrp="1"/>
          </p:cNvSpPr>
          <p:nvPr>
            <p:ph type="sldNum" idx="23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EF05-D2E2-425E-BFEF-4F58BC48A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3"/>
    <p:sldLayoutId id="2147484885" r:id="rId4"/>
    <p:sldLayoutId id="2147484886" r:id="rId5"/>
    <p:sldLayoutId id="2147484887" r:id="rId6"/>
    <p:sldLayoutId id="2147484888" r:id="rId7"/>
    <p:sldLayoutId id="2147484889" r:id="rId8"/>
    <p:sldLayoutId id="2147484890" r:id="rId9"/>
    <p:sldLayoutId id="2147484891" r:id="rId10"/>
    <p:sldLayoutId id="2147484892" r:id="rId11"/>
    <p:sldLayoutId id="2147484893" r:id="rId12"/>
    <p:sldLayoutId id="2147484894" r:id="rId13"/>
    <p:sldLayoutId id="2147484895" r:id="rId14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5" name="PlaceHolder 3"/>
          <p:cNvSpPr>
            <a:spLocks noGrp="1"/>
          </p:cNvSpPr>
          <p:nvPr>
            <p:ph type="dt" idx="23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76" name="PlaceHolder 4"/>
          <p:cNvSpPr>
            <a:spLocks noGrp="1"/>
          </p:cNvSpPr>
          <p:nvPr>
            <p:ph type="ftr" idx="2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77" name="PlaceHolder 5"/>
          <p:cNvSpPr>
            <a:spLocks noGrp="1"/>
          </p:cNvSpPr>
          <p:nvPr>
            <p:ph type="sldNum" idx="24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FB28-623B-4199-885D-B18DDFB28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3"/>
    <p:sldLayoutId id="2147484898" r:id="rId4"/>
    <p:sldLayoutId id="2147484899" r:id="rId5"/>
    <p:sldLayoutId id="2147484900" r:id="rId6"/>
    <p:sldLayoutId id="2147484901" r:id="rId7"/>
    <p:sldLayoutId id="2147484902" r:id="rId8"/>
    <p:sldLayoutId id="2147484903" r:id="rId9"/>
    <p:sldLayoutId id="2147484904" r:id="rId10"/>
    <p:sldLayoutId id="2147484905" r:id="rId11"/>
    <p:sldLayoutId id="2147484906" r:id="rId12"/>
    <p:sldLayoutId id="2147484907" r:id="rId13"/>
    <p:sldLayoutId id="2147484908" r:id="rId14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6" name="PlaceHolder 3"/>
          <p:cNvSpPr>
            <a:spLocks noGrp="1"/>
          </p:cNvSpPr>
          <p:nvPr>
            <p:ph type="dt" idx="24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17" name="PlaceHolder 4"/>
          <p:cNvSpPr>
            <a:spLocks noGrp="1"/>
          </p:cNvSpPr>
          <p:nvPr>
            <p:ph type="ftr" idx="2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18" name="PlaceHolder 5"/>
          <p:cNvSpPr>
            <a:spLocks noGrp="1"/>
          </p:cNvSpPr>
          <p:nvPr>
            <p:ph type="sldNum" idx="24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2DAE-24AC-47A0-88EE-40B326871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3"/>
    <p:sldLayoutId id="2147484911" r:id="rId4"/>
    <p:sldLayoutId id="2147484912" r:id="rId5"/>
    <p:sldLayoutId id="2147484913" r:id="rId6"/>
    <p:sldLayoutId id="2147484914" r:id="rId7"/>
    <p:sldLayoutId id="2147484915" r:id="rId8"/>
    <p:sldLayoutId id="2147484916" r:id="rId9"/>
    <p:sldLayoutId id="2147484917" r:id="rId10"/>
    <p:sldLayoutId id="2147484918" r:id="rId11"/>
    <p:sldLayoutId id="2147484919" r:id="rId12"/>
    <p:sldLayoutId id="2147484920" r:id="rId13"/>
    <p:sldLayoutId id="2147484921" r:id="rId14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7" name="PlaceHolder 3"/>
          <p:cNvSpPr>
            <a:spLocks noGrp="1"/>
          </p:cNvSpPr>
          <p:nvPr>
            <p:ph type="dt" idx="24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58" name="PlaceHolder 4"/>
          <p:cNvSpPr>
            <a:spLocks noGrp="1"/>
          </p:cNvSpPr>
          <p:nvPr>
            <p:ph type="ftr" idx="2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59" name="PlaceHolder 5"/>
          <p:cNvSpPr>
            <a:spLocks noGrp="1"/>
          </p:cNvSpPr>
          <p:nvPr>
            <p:ph type="sldNum" idx="24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B2BF-1488-47EA-B7F3-93CF960CA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3"/>
    <p:sldLayoutId id="2147484924" r:id="rId4"/>
    <p:sldLayoutId id="2147484925" r:id="rId5"/>
    <p:sldLayoutId id="2147484926" r:id="rId6"/>
    <p:sldLayoutId id="2147484927" r:id="rId7"/>
    <p:sldLayoutId id="2147484928" r:id="rId8"/>
    <p:sldLayoutId id="2147484929" r:id="rId9"/>
    <p:sldLayoutId id="2147484930" r:id="rId10"/>
    <p:sldLayoutId id="2147484931" r:id="rId11"/>
    <p:sldLayoutId id="2147484932" r:id="rId12"/>
    <p:sldLayoutId id="2147484933" r:id="rId13"/>
    <p:sldLayoutId id="214748493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6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56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8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58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act.org/research/policymakers/pdf/reading_summary.pdf" TargetMode="External"/><Relationship Id="rId3" Type="http://schemas.openxmlformats.org/officeDocument/2006/relationships/slideLayout" Target="../slideLayouts/slideLayout85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06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2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rticulatemarketing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jamiesmart.com/innate-thinkin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owlnet.rice.edu/~cainproj/presenting.ppt" TargetMode="External"/><Relationship Id="rId2" Type="http://schemas.openxmlformats.org/officeDocument/2006/relationships/hyperlink" Target="http://www.owlnet.rice.edu/~cainproj/presenting.ppt" TargetMode="External"/><Relationship Id="rId3" Type="http://schemas.openxmlformats.org/officeDocument/2006/relationships/hyperlink" Target="http://www.owlnet.rice.edu/~cainproj/presenting.ppt" TargetMode="External"/><Relationship Id="rId4" Type="http://schemas.openxmlformats.org/officeDocument/2006/relationships/hyperlink" Target="http://www.owlnet.rice.edu/~cainproj/presenting.ppt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9" name="PlaceHolder 1"/>
          <p:cNvSpPr>
            <a:spLocks noGrp="1"/>
          </p:cNvSpPr>
          <p:nvPr>
            <p:ph type="title"/>
          </p:nvPr>
        </p:nvSpPr>
        <p:spPr>
          <a:xfrm>
            <a:off x="914400" y="4878000"/>
            <a:ext cx="822960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5f5f5f"/>
                </a:solidFill>
                <a:latin typeface="Arial"/>
              </a:rPr>
              <a:t>Powerpoint Presentation Tips</a:t>
            </a:r>
            <a:endParaRPr b="0" lang="en-US" sz="40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50" name=""/>
          <p:cNvSpPr txBox="1"/>
          <p:nvPr/>
        </p:nvSpPr>
        <p:spPr>
          <a:xfrm>
            <a:off x="2823840" y="5935320"/>
            <a:ext cx="573228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d91c7"/>
                </a:solidFill>
                <a:latin typeface="Arial"/>
              </a:rPr>
              <a:t>Mrs. Kilbridge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8" name="TextBox 1"/>
          <p:cNvSpPr/>
          <p:nvPr/>
        </p:nvSpPr>
        <p:spPr>
          <a:xfrm>
            <a:off x="216000" y="152280"/>
            <a:ext cx="87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Our “north star”: Aretha &amp; Golden Rule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569" name="Picture 2" descr=""/>
          <p:cNvPicPr/>
          <p:nvPr/>
        </p:nvPicPr>
        <p:blipFill>
          <a:blip r:embed="rId1"/>
          <a:stretch/>
        </p:blipFill>
        <p:spPr>
          <a:xfrm>
            <a:off x="228600" y="1211400"/>
            <a:ext cx="4343400" cy="3894120"/>
          </a:xfrm>
          <a:prstGeom prst="rect">
            <a:avLst/>
          </a:prstGeom>
          <a:ln w="0">
            <a:noFill/>
          </a:ln>
        </p:spPr>
      </p:pic>
      <p:pic>
        <p:nvPicPr>
          <p:cNvPr id="4570" name="Picture 3" descr=""/>
          <p:cNvPicPr/>
          <p:nvPr/>
        </p:nvPicPr>
        <p:blipFill>
          <a:blip r:embed="rId2"/>
          <a:stretch/>
        </p:blipFill>
        <p:spPr>
          <a:xfrm>
            <a:off x="4660920" y="1066680"/>
            <a:ext cx="4483080" cy="3891240"/>
          </a:xfrm>
          <a:prstGeom prst="rect">
            <a:avLst/>
          </a:prstGeom>
          <a:ln w="0">
            <a:noFill/>
          </a:ln>
        </p:spPr>
      </p:pic>
      <p:sp>
        <p:nvSpPr>
          <p:cNvPr id="4571" name="TextBox 4"/>
          <p:cNvSpPr/>
          <p:nvPr/>
        </p:nvSpPr>
        <p:spPr>
          <a:xfrm>
            <a:off x="113400" y="5952960"/>
            <a:ext cx="88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* keep these in mind and Learning Walks can’t fail!!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72" name="TextBox 5"/>
          <p:cNvSpPr/>
          <p:nvPr/>
        </p:nvSpPr>
        <p:spPr>
          <a:xfrm>
            <a:off x="398880" y="5257800"/>
            <a:ext cx="40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ffec"/>
                </a:solidFill>
                <a:latin typeface="Arial"/>
                <a:ea typeface="Arial"/>
              </a:rPr>
              <a:t>R – E – S – P –E – C - 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Text Box 1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 Unicode MS"/>
              </a:rPr>
              <a:t> 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74" name="Text Box 2"/>
          <p:cNvSpPr/>
          <p:nvPr/>
        </p:nvSpPr>
        <p:spPr>
          <a:xfrm>
            <a:off x="0" y="0"/>
            <a:ext cx="6095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Overview of Standards fo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 Unicode MS"/>
              </a:rPr>
              <a:t>HistoryO/Social Studies, Science, and Technical Subjec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75" name="Text Box 3"/>
          <p:cNvSpPr/>
          <p:nvPr/>
        </p:nvSpPr>
        <p:spPr>
          <a:xfrm>
            <a:off x="457200" y="1285920"/>
            <a:ext cx="845820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2701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  <a:ea typeface="Arial Unicode MS"/>
              </a:rPr>
              <a:t>Reading Standards for History/Social Studies, Science, and Technical Subjec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SzPct val="100000"/>
              <a:buBlip>
                <a:blip r:embed="rId1"/>
              </a:buBlip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Knowledge of domain-specif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vocabu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SzPct val="100000"/>
              <a:buBlip>
                <a:blip r:embed="rId2"/>
              </a:buBlip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nalyze, evaluate, and differentiate primary and seconda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our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SzPct val="100000"/>
              <a:buBlip>
                <a:blip r:embed="rId3"/>
              </a:buBlip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ynthe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quantitative and technical information, including facts presented in maps, timelines, flowcharts, or diagram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  <a:ea typeface="Arial Unicode MS"/>
              </a:rPr>
              <a:t>Writing Standards for History/Social Studies, Science, and Technical Subjec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SzPct val="100000"/>
              <a:buBlip>
                <a:blip r:embed="rId4"/>
              </a:buBlip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Wri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rgu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on discipline-specific content and informative/explanatory tex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SzPct val="100000"/>
              <a:buBlip>
                <a:blip r:embed="rId5"/>
              </a:buBlip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Use of data, evidence, and reason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upport argu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and claims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lnSpc>
                <a:spcPct val="90000"/>
              </a:lnSpc>
              <a:spcBef>
                <a:spcPts val="213"/>
              </a:spcBef>
              <a:spcAft>
                <a:spcPts val="213"/>
              </a:spcAft>
              <a:buSzPct val="100000"/>
              <a:buBlip>
                <a:blip r:embed="rId6"/>
              </a:buBlip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Use of domain-specif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vocabulary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Arial Unicode MS"/>
              </a:rPr>
              <a:t> </a:t>
            </a: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New Definitio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f Reading for Michigan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1985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ing is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cess of constructing mean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rough the dynamic interaction amo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) the reader’s existing knowledge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) the information suggested by the text being read; 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3) the context of the reading situ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996E-3CB9-43D7-B593-DA82EA4EC55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9" name="Shape 23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80" name="Shape 236"/>
          <p:cNvSpPr/>
          <p:nvPr/>
        </p:nvSpPr>
        <p:spPr>
          <a:xfrm>
            <a:off x="7543800" y="-1440"/>
            <a:ext cx="1517760" cy="777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81" name="Shape 237"/>
          <p:cNvSpPr/>
          <p:nvPr/>
        </p:nvSpPr>
        <p:spPr>
          <a:xfrm>
            <a:off x="7547040" y="914400"/>
            <a:ext cx="1444680" cy="4572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82" name="Shape 238"/>
          <p:cNvSpPr/>
          <p:nvPr/>
        </p:nvSpPr>
        <p:spPr>
          <a:xfrm>
            <a:off x="8064360" y="958680"/>
            <a:ext cx="40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e66b2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8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rIns="132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e66b2"/>
                </a:solidFill>
                <a:latin typeface="Arial"/>
              </a:rPr>
              <a:t>Contact In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>
              <a:spcBef>
                <a:spcPts val="601"/>
              </a:spcBef>
              <a:buClr>
                <a:srgbClr val="a63212"/>
              </a:buClr>
              <a:buSzPct val="9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Joseph Martineau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28600">
              <a:spcBef>
                <a:spcPts val="49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Arial"/>
              </a:rPr>
              <a:t>Executive Dir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28600">
              <a:spcBef>
                <a:spcPts val="49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Arial"/>
              </a:rPr>
              <a:t>Bureau of Assessment &amp; Account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28600">
              <a:spcBef>
                <a:spcPts val="49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Arial"/>
              </a:rPr>
              <a:t>Michigan Department of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28600">
              <a:spcBef>
                <a:spcPts val="49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Arial"/>
              </a:rPr>
              <a:t>martineauj@michigan.go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5" name="Shape 241"/>
          <p:cNvSpPr/>
          <p:nvPr/>
        </p:nvSpPr>
        <p:spPr>
          <a:xfrm>
            <a:off x="8064360" y="958680"/>
            <a:ext cx="40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6" name="Title 1" descr=""/>
          <p:cNvPicPr/>
          <p:nvPr/>
        </p:nvPicPr>
        <p:blipFill>
          <a:blip r:embed="rId1"/>
          <a:stretch/>
        </p:blipFill>
        <p:spPr>
          <a:xfrm>
            <a:off x="457200" y="438120"/>
            <a:ext cx="8242200" cy="519120"/>
          </a:xfrm>
          <a:prstGeom prst="rect">
            <a:avLst/>
          </a:prstGeom>
          <a:ln w="0">
            <a:noFill/>
          </a:ln>
        </p:spPr>
      </p:pic>
      <p:sp>
        <p:nvSpPr>
          <p:cNvPr id="4587" name=""/>
          <p:cNvSpPr txBox="1"/>
          <p:nvPr/>
        </p:nvSpPr>
        <p:spPr>
          <a:xfrm>
            <a:off x="457200" y="1371600"/>
            <a:ext cx="782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0096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n integrated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0096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vidence-based approa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0096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eacher invol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0096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tate-led with transparent gover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0096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ocus: improving teaching and 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0096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ctionable information – multiple meas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0096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stablished professional stand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Aft>
                <a:spcPts val="601"/>
              </a:spcAft>
              <a:buClr>
                <a:srgbClr val="00964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8" name="Title 1" descr=""/>
          <p:cNvPicPr/>
          <p:nvPr/>
        </p:nvPicPr>
        <p:blipFill>
          <a:blip r:embed="rId1"/>
          <a:stretch/>
        </p:blipFill>
        <p:spPr>
          <a:xfrm>
            <a:off x="420840" y="304920"/>
            <a:ext cx="8235720" cy="517320"/>
          </a:xfrm>
          <a:prstGeom prst="rect">
            <a:avLst/>
          </a:prstGeom>
          <a:ln w="0">
            <a:noFill/>
          </a:ln>
        </p:spPr>
      </p:pic>
      <p:pic>
        <p:nvPicPr>
          <p:cNvPr id="4589" name="Group 6" descr=""/>
          <p:cNvPicPr/>
          <p:nvPr/>
        </p:nvPicPr>
        <p:blipFill>
          <a:blip r:embed="rId2"/>
          <a:stretch/>
        </p:blipFill>
        <p:spPr>
          <a:xfrm>
            <a:off x="3005280" y="1432080"/>
            <a:ext cx="5668920" cy="873000"/>
          </a:xfrm>
          <a:prstGeom prst="rect">
            <a:avLst/>
          </a:prstGeom>
          <a:ln w="0">
            <a:noFill/>
          </a:ln>
        </p:spPr>
      </p:pic>
      <p:grpSp>
        <p:nvGrpSpPr>
          <p:cNvPr id="4590" name="Group 7"/>
          <p:cNvGrpSpPr/>
          <p:nvPr/>
        </p:nvGrpSpPr>
        <p:grpSpPr>
          <a:xfrm>
            <a:off x="285840" y="1389240"/>
            <a:ext cx="2976480" cy="912600"/>
            <a:chOff x="285840" y="1389240"/>
            <a:chExt cx="2976480" cy="912600"/>
          </a:xfrm>
        </p:grpSpPr>
        <p:sp>
          <p:nvSpPr>
            <p:cNvPr id="4591" name="Rounded Rectangle 38"/>
            <p:cNvSpPr/>
            <p:nvPr/>
          </p:nvSpPr>
          <p:spPr>
            <a:xfrm>
              <a:off x="285840" y="1389240"/>
              <a:ext cx="2976480" cy="91260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92" name="Rounded Rectangle 6"/>
            <p:cNvSpPr/>
            <p:nvPr/>
          </p:nvSpPr>
          <p:spPr>
            <a:xfrm>
              <a:off x="322200" y="1434960"/>
              <a:ext cx="29037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s and Procedures</a:t>
              </a:r>
              <a:endParaRPr b="0" lang="en-US" sz="2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4593" name="Group 8" descr=""/>
          <p:cNvPicPr/>
          <p:nvPr/>
        </p:nvPicPr>
        <p:blipFill>
          <a:blip r:embed="rId3"/>
          <a:stretch/>
        </p:blipFill>
        <p:spPr>
          <a:xfrm>
            <a:off x="3005280" y="2627280"/>
            <a:ext cx="5632200" cy="841320"/>
          </a:xfrm>
          <a:prstGeom prst="rect">
            <a:avLst/>
          </a:prstGeom>
          <a:ln w="0">
            <a:noFill/>
          </a:ln>
        </p:spPr>
      </p:pic>
      <p:grpSp>
        <p:nvGrpSpPr>
          <p:cNvPr id="4594" name="Group 9"/>
          <p:cNvGrpSpPr/>
          <p:nvPr/>
        </p:nvGrpSpPr>
        <p:grpSpPr>
          <a:xfrm>
            <a:off x="285840" y="2593800"/>
            <a:ext cx="2976480" cy="914400"/>
            <a:chOff x="285840" y="2593800"/>
            <a:chExt cx="2976480" cy="914400"/>
          </a:xfrm>
        </p:grpSpPr>
        <p:sp>
          <p:nvSpPr>
            <p:cNvPr id="4595" name="Rounded Rectangle 34"/>
            <p:cNvSpPr/>
            <p:nvPr/>
          </p:nvSpPr>
          <p:spPr>
            <a:xfrm>
              <a:off x="285840" y="2593800"/>
              <a:ext cx="2976480" cy="914400"/>
            </a:xfrm>
            <a:prstGeom prst="roundRect">
              <a:avLst>
                <a:gd name="adj" fmla="val 16667"/>
              </a:avLst>
            </a:prstGeom>
            <a:solidFill>
              <a:srgbClr val="009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96" name="Rounded Rectangle 10"/>
            <p:cNvSpPr/>
            <p:nvPr/>
          </p:nvSpPr>
          <p:spPr>
            <a:xfrm>
              <a:off x="322200" y="2639520"/>
              <a:ext cx="29037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blem Solving</a:t>
              </a:r>
              <a:endParaRPr b="0" lang="en-US" sz="2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4597" name="Group 10" descr=""/>
          <p:cNvPicPr/>
          <p:nvPr/>
        </p:nvPicPr>
        <p:blipFill>
          <a:blip r:embed="rId4"/>
          <a:stretch/>
        </p:blipFill>
        <p:spPr>
          <a:xfrm>
            <a:off x="3005280" y="3840120"/>
            <a:ext cx="5632200" cy="871560"/>
          </a:xfrm>
          <a:prstGeom prst="rect">
            <a:avLst/>
          </a:prstGeom>
          <a:ln w="0">
            <a:noFill/>
          </a:ln>
        </p:spPr>
      </p:pic>
      <p:grpSp>
        <p:nvGrpSpPr>
          <p:cNvPr id="4598" name="Group 11"/>
          <p:cNvGrpSpPr/>
          <p:nvPr/>
        </p:nvGrpSpPr>
        <p:grpSpPr>
          <a:xfrm>
            <a:off x="285840" y="3784680"/>
            <a:ext cx="2976480" cy="914400"/>
            <a:chOff x="285840" y="3784680"/>
            <a:chExt cx="2976480" cy="914400"/>
          </a:xfrm>
        </p:grpSpPr>
        <p:sp>
          <p:nvSpPr>
            <p:cNvPr id="4599" name="Rounded Rectangle 30"/>
            <p:cNvSpPr/>
            <p:nvPr/>
          </p:nvSpPr>
          <p:spPr>
            <a:xfrm>
              <a:off x="285840" y="3784680"/>
              <a:ext cx="2976480" cy="91440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00" name="Rounded Rectangle 14"/>
            <p:cNvSpPr/>
            <p:nvPr/>
          </p:nvSpPr>
          <p:spPr>
            <a:xfrm>
              <a:off x="322200" y="3828960"/>
              <a:ext cx="2903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mmunicating Reasoning</a:t>
              </a:r>
              <a:endParaRPr b="0" lang="en-US" sz="2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4601" name="Group 12" descr=""/>
          <p:cNvPicPr/>
          <p:nvPr/>
        </p:nvPicPr>
        <p:blipFill>
          <a:blip r:embed="rId5"/>
          <a:stretch/>
        </p:blipFill>
        <p:spPr>
          <a:xfrm>
            <a:off x="3005280" y="5059440"/>
            <a:ext cx="5711760" cy="877680"/>
          </a:xfrm>
          <a:prstGeom prst="rect">
            <a:avLst/>
          </a:prstGeom>
          <a:ln w="0">
            <a:noFill/>
          </a:ln>
        </p:spPr>
      </p:pic>
      <p:grpSp>
        <p:nvGrpSpPr>
          <p:cNvPr id="4602" name="Group 13"/>
          <p:cNvGrpSpPr/>
          <p:nvPr/>
        </p:nvGrpSpPr>
        <p:grpSpPr>
          <a:xfrm>
            <a:off x="285840" y="5010120"/>
            <a:ext cx="2976480" cy="914400"/>
            <a:chOff x="285840" y="5010120"/>
            <a:chExt cx="2976480" cy="914400"/>
          </a:xfrm>
        </p:grpSpPr>
        <p:sp>
          <p:nvSpPr>
            <p:cNvPr id="4603" name="Rounded Rectangle 26"/>
            <p:cNvSpPr/>
            <p:nvPr/>
          </p:nvSpPr>
          <p:spPr>
            <a:xfrm>
              <a:off x="285840" y="5010120"/>
              <a:ext cx="2976480" cy="914400"/>
            </a:xfrm>
            <a:prstGeom prst="roundRect">
              <a:avLst>
                <a:gd name="adj" fmla="val 16667"/>
              </a:avLst>
            </a:prstGeom>
            <a:solidFill>
              <a:srgbClr val="009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04" name="Rounded Rectangle 18"/>
            <p:cNvSpPr/>
            <p:nvPr/>
          </p:nvSpPr>
          <p:spPr>
            <a:xfrm>
              <a:off x="322200" y="5055840"/>
              <a:ext cx="29037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ata Analysis and Modeling</a:t>
              </a:r>
              <a:endParaRPr b="0" lang="en-US" sz="2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605" name="TextBox 42"/>
          <p:cNvSpPr/>
          <p:nvPr/>
        </p:nvSpPr>
        <p:spPr>
          <a:xfrm>
            <a:off x="6352200" y="866880"/>
            <a:ext cx="28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a/o Round 1 – released 8/29/11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plex Tex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2701"/>
              </a:spcBef>
              <a:spcAft>
                <a:spcPts val="601"/>
              </a:spcAft>
              <a:buClr>
                <a:srgbClr val="0091b2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91b2"/>
                </a:solidFill>
                <a:latin typeface="Arial"/>
              </a:rPr>
              <a:t>Performance on complex texts is the clearest differentiator in reading between students who are likely to be ready for college and those who are not.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1280" indent="-341280">
              <a:spcBef>
                <a:spcPts val="2701"/>
              </a:spcBef>
              <a:spcAft>
                <a:spcPts val="601"/>
              </a:spcAft>
              <a:buClr>
                <a:srgbClr val="0091b2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And this is true for both genders, all racial/ethnic groups, and all annual family income levels.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12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- </a:t>
            </a:r>
            <a:r>
              <a:rPr b="1" i="1" lang="en-US" sz="2400" spc="-1" strike="noStrike">
                <a:solidFill>
                  <a:srgbClr val="0091b2"/>
                </a:solidFill>
                <a:latin typeface="Arial"/>
              </a:rPr>
              <a:t>ACT Reading Between the Lines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12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8" name="Picture 1" descr=""/>
          <p:cNvPicPr/>
          <p:nvPr/>
        </p:nvPicPr>
        <p:blipFill>
          <a:blip r:embed="rId1"/>
          <a:stretch/>
        </p:blipFill>
        <p:spPr>
          <a:xfrm>
            <a:off x="39600" y="0"/>
            <a:ext cx="9104400" cy="6211800"/>
          </a:xfrm>
          <a:prstGeom prst="rect">
            <a:avLst/>
          </a:prstGeom>
          <a:ln w="0">
            <a:noFill/>
          </a:ln>
        </p:spPr>
      </p:pic>
      <p:sp>
        <p:nvSpPr>
          <p:cNvPr id="4609" name="Text Box 2"/>
          <p:cNvSpPr/>
          <p:nvPr/>
        </p:nvSpPr>
        <p:spPr>
          <a:xfrm>
            <a:off x="533520" y="5638680"/>
            <a:ext cx="761976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From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Reading Between the Lines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2"/>
              </a:rPr>
              <a:t>http://act.org/research/policymakers/pdf/reading_summary.pdf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entury Schoolbook"/>
              </a:rPr>
              <a:t>What is a text struc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Builders can use different kinds of structures to build different 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A skyscraper, for example, is a different kind of structure from a 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2" name="Picture 6" descr="bd10467_"/>
          <p:cNvPicPr/>
          <p:nvPr/>
        </p:nvPicPr>
        <p:blipFill>
          <a:blip r:embed="rId1"/>
          <a:stretch/>
        </p:blipFill>
        <p:spPr>
          <a:xfrm>
            <a:off x="4648320" y="2884320"/>
            <a:ext cx="3809880" cy="23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entury Schoolbook"/>
              </a:rPr>
              <a:t>What is a text struc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Writers use different structures to build their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Each text structure communicates ideas in a different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5" name="Picture 6" descr="bd06453_"/>
          <p:cNvPicPr/>
          <p:nvPr/>
        </p:nvPicPr>
        <p:blipFill>
          <a:blip r:embed="rId1"/>
          <a:stretch/>
        </p:blipFill>
        <p:spPr>
          <a:xfrm>
            <a:off x="685800" y="2139840"/>
            <a:ext cx="380988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314a"/>
                </a:solidFill>
                <a:latin typeface="Arial"/>
              </a:rPr>
              <a:t>Use the 10-20-30 rule</a:t>
            </a: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Attempt to follow Guy Kawasaki’s 10-20-30 rule: presentations should have no more than ten slides, last no longer than 20 minutes and no font should be smaller than 30 points.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7f7f"/>
                </a:solidFill>
                <a:latin typeface="Arial"/>
              </a:rPr>
              <a:t>With thanks to Matthew Stibbe, 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hlinkClick r:id="rId1"/>
              </a:rPr>
              <a:t>Articulate Marketing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14a"/>
                </a:solidFill>
                <a:latin typeface="Arial"/>
              </a:rPr>
              <a:t>Powerpoint Slides</a:t>
            </a: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Avoid large blocks of text. 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Illustrate your points, don’t completely duplicate them.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14a"/>
                </a:solidFill>
                <a:latin typeface="Arial"/>
              </a:rPr>
              <a:t>Proofread for errors</a:t>
            </a: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Presentations need careful proofreading: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Check for English errors. 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Avoid an overuse of words. 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Make sure slides are easy to read.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314a"/>
                </a:solidFill>
                <a:latin typeface="Arial"/>
              </a:rPr>
              <a:t>Rehearse</a:t>
            </a: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Practice makes a good presentation. Very few people can deliver a great presentation off the top of their head.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Rehearse the basic points you intend to make, in a clear order and with all the key facts memorized. 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314a"/>
                </a:solidFill>
                <a:latin typeface="Arial"/>
              </a:rPr>
              <a:t>Make eye contact with your audience</a:t>
            </a: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It is important to make eye contact, speak clearly and create an open communication channel.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Do not read the slides word for word.  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The focus should be on the presenter, and the powerpoint slides should enhance the message, not be the message.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7f7f"/>
                </a:solidFill>
                <a:latin typeface="Arial"/>
              </a:rPr>
              <a:t>With thanks to Jamie Smart, 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hlinkClick r:id="rId1"/>
              </a:rPr>
              <a:t>Innate Thinking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14a"/>
                </a:solidFill>
                <a:latin typeface="Arial"/>
              </a:rPr>
              <a:t>Easy to Use Powerpoint Template</a:t>
            </a: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Go to this website for a step-by-step guide to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Creating a powerpoint presentation: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hlinkClick r:id="rId1"/>
              </a:rPr>
              <a:t>www.owlnet.rice.edu/~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cain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hlinkClick r:id="rId3"/>
              </a:rPr>
              <a:t>proj/presenting.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hlinkClick r:id="rId4"/>
              </a:rPr>
              <a:t>ppt</a:t>
            </a:r>
            <a:r>
              <a:rPr b="1" i="1" lang="en-US" sz="28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14a"/>
                </a:solidFill>
                <a:latin typeface="Arial"/>
              </a:rPr>
              <a:t>You be the judge</a:t>
            </a: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The following slides are examples taken from educators.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Are they effective?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How could they change these to make them more effective?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5" name="TextBox 1"/>
          <p:cNvSpPr/>
          <p:nvPr/>
        </p:nvSpPr>
        <p:spPr>
          <a:xfrm>
            <a:off x="-45720" y="76320"/>
            <a:ext cx="909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Building a Culture of Giving 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ND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Receiving </a:t>
            </a:r>
            <a:r>
              <a:rPr b="1" lang="en-US" sz="4400" spc="-1" strike="noStrike">
                <a:solidFill>
                  <a:srgbClr val="f8f8ef"/>
                </a:solidFill>
                <a:latin typeface="Arial"/>
                <a:ea typeface="Arial"/>
              </a:rPr>
              <a:t>Actionable Feedback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66" name="TextBox 2"/>
          <p:cNvSpPr/>
          <p:nvPr/>
        </p:nvSpPr>
        <p:spPr>
          <a:xfrm>
            <a:off x="-454680" y="2330280"/>
            <a:ext cx="985824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√   </a:t>
            </a:r>
            <a:r>
              <a:rPr b="1" lang="en-US" sz="2200" spc="-1" strike="noStrike">
                <a:solidFill>
                  <a:srgbClr val="12ff2a"/>
                </a:solidFill>
                <a:latin typeface="Arial"/>
                <a:ea typeface="Arial"/>
              </a:rPr>
              <a:t>Humility/Curiosity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– no single person (coach, principal, consultant 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  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etc.) knows it all, even experts need help/support/feedback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√   </a:t>
            </a:r>
            <a:r>
              <a:rPr b="1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Collaborative </a:t>
            </a:r>
            <a:r>
              <a:rPr b="1" lang="en-US" sz="2200" spc="-1" strike="noStrike">
                <a:solidFill>
                  <a:srgbClr val="12ff2a"/>
                </a:solidFill>
                <a:latin typeface="Arial"/>
                <a:ea typeface="Arial"/>
              </a:rPr>
              <a:t>Partnership</a:t>
            </a:r>
            <a:r>
              <a:rPr b="1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is the path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– admin, coaches and 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consultants need to forge these relationships tied to agreed upon 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FOCUS - “Collaborative Coherence”- distributed leadership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√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Creating a </a:t>
            </a:r>
            <a:r>
              <a:rPr b="1" lang="en-US" sz="2200" spc="-1" strike="noStrike">
                <a:solidFill>
                  <a:srgbClr val="12ff2a"/>
                </a:solidFill>
                <a:latin typeface="Arial"/>
                <a:ea typeface="Arial"/>
              </a:rPr>
              <a:t>safe environment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for honest, open, trusting, inquiry &amp; 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risk taking… Lead by </a:t>
            </a:r>
            <a:r>
              <a:rPr b="1" lang="en-US" sz="2200" spc="-1" strike="noStrike" u="sng">
                <a:solidFill>
                  <a:srgbClr val="12ff2a"/>
                </a:solidFill>
                <a:uFillTx/>
                <a:latin typeface="Arial"/>
                <a:ea typeface="Arial"/>
              </a:rPr>
              <a:t>DOING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, not simply talking…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√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Establish </a:t>
            </a:r>
            <a:r>
              <a:rPr b="1" lang="en-US" sz="2200" spc="-1" strike="noStrike">
                <a:solidFill>
                  <a:srgbClr val="12ff2a"/>
                </a:solidFill>
                <a:latin typeface="Arial"/>
                <a:ea typeface="Arial"/>
              </a:rPr>
              <a:t>Feedback (</a:t>
            </a:r>
            <a:r>
              <a:rPr b="0" lang="en-US" sz="2200" spc="-1" strike="noStrike">
                <a:solidFill>
                  <a:srgbClr val="12ff2a"/>
                </a:solidFill>
                <a:latin typeface="Arial"/>
                <a:ea typeface="Arial"/>
              </a:rPr>
              <a:t>Giving &amp; Receiving </a:t>
            </a:r>
            <a:r>
              <a:rPr b="1" lang="en-US" sz="2200" spc="-1" strike="noStrike">
                <a:solidFill>
                  <a:srgbClr val="12ff2a"/>
                </a:solidFill>
                <a:latin typeface="Arial"/>
                <a:ea typeface="Arial"/>
              </a:rPr>
              <a:t>) for ALL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as shared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professional goal across the faculty – refining and extending our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skills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67" name="TextBox 3"/>
          <p:cNvSpPr/>
          <p:nvPr/>
        </p:nvSpPr>
        <p:spPr>
          <a:xfrm>
            <a:off x="5040" y="1752480"/>
            <a:ext cx="78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ef"/>
                </a:solidFill>
                <a:uFillTx/>
                <a:latin typeface="Arial"/>
                <a:ea typeface="Arial"/>
              </a:rPr>
              <a:t>Key Norms or Dispositions Leaders Must Nurture/Create: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3:35:13Z</dcterms:created>
  <dc:creator>Presentation Magazine</dc:creator>
  <dc:description/>
  <dc:language>en-US</dc:language>
  <cp:lastModifiedBy>Amy Kilbridge</cp:lastModifiedBy>
  <cp:lastPrinted>2015-07-28T19:41:11Z</cp:lastPrinted>
  <dcterms:modified xsi:type="dcterms:W3CDTF">2015-07-28T19:41:30Z</dcterms:modified>
  <cp:revision>56</cp:revision>
  <dc:subject/>
  <dc:title>Colour Pencils PowerPoint Template</dc:title>
</cp:coreProperties>
</file>