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9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68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88.xml" ContentType="application/vnd.openxmlformats-officedocument.theme+xml"/>
  <Override PartName="/ppt/theme/theme87.xml" ContentType="application/vnd.openxmlformats-officedocument.theme+xml"/>
  <Override PartName="/ppt/theme/theme106.xml" ContentType="application/vnd.openxmlformats-officedocument.theme+xml"/>
  <Override PartName="/ppt/theme/theme86.xml" ContentType="application/vnd.openxmlformats-officedocument.theme+xml"/>
  <Override PartName="/ppt/theme/theme105.xml" ContentType="application/vnd.openxmlformats-officedocument.theme+xml"/>
  <Override PartName="/ppt/theme/theme4.xml" ContentType="application/vnd.openxmlformats-officedocument.theme+xml"/>
  <Override PartName="/ppt/theme/theme85.xml" ContentType="application/vnd.openxmlformats-officedocument.theme+xml"/>
  <Override PartName="/ppt/theme/theme10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0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99.xml" ContentType="application/vnd.openxmlformats-officedocument.theme+xml"/>
  <Override PartName="/ppt/theme/theme62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96.xml" ContentType="application/vnd.openxmlformats-officedocument.theme+xml"/>
  <Override PartName="/ppt/theme/theme79.xml" ContentType="application/vnd.openxmlformats-officedocument.theme+xml"/>
  <Override PartName="/ppt/theme/theme89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67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.png" ContentType="image/png"/>
  <Override PartName="/ppt/media/image4.jpeg" ContentType="image/jpeg"/>
  <Override PartName="/ppt/media/image25.png" ContentType="image/png"/>
  <Override PartName="/ppt/media/image5.png" ContentType="image/png"/>
  <Override PartName="/ppt/media/image8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31.wmf" ContentType="image/x-wmf"/>
  <Override PartName="/ppt/media/image29.wmf" ContentType="image/x-wmf"/>
  <Override PartName="/ppt/media/image18.png" ContentType="image/png"/>
  <Override PartName="/ppt/media/image6.jpeg" ContentType="image/jpeg"/>
  <Override PartName="/ppt/media/image13.png" ContentType="image/png"/>
  <Override PartName="/ppt/media/image12.jpeg" ContentType="image/jpe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941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</p:sldMasterIdLst>
  <p:notesMasterIdLst>
    <p:notesMasterId r:id="rId107"/>
  </p:notesMasterIdLst>
  <p:sldIdLst>
    <p:sldId id="256" r:id="rId108"/>
    <p:sldId id="257" r:id="rId109"/>
    <p:sldId id="258" r:id="rId110"/>
    <p:sldId id="259" r:id="rId111"/>
    <p:sldId id="260" r:id="rId112"/>
    <p:sldId id="261" r:id="rId113"/>
    <p:sldId id="262" r:id="rId114"/>
    <p:sldId id="263" r:id="rId115"/>
    <p:sldId id="264" r:id="rId116"/>
    <p:sldId id="265" r:id="rId117"/>
    <p:sldId id="266" r:id="rId118"/>
    <p:sldId id="267" r:id="rId119"/>
    <p:sldId id="268" r:id="rId120"/>
    <p:sldId id="269" r:id="rId121"/>
    <p:sldId id="270" r:id="rId122"/>
    <p:sldId id="271" r:id="rId123"/>
    <p:sldId id="272" r:id="rId124"/>
    <p:sldId id="273" r:id="rId125"/>
    <p:sldId id="274" r:id="rId1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notesMaster" Target="notesMasters/notesMaster1.xml"/><Relationship Id="rId108" Type="http://schemas.openxmlformats.org/officeDocument/2006/relationships/slide" Target="slides/slide1.xml"/><Relationship Id="rId109" Type="http://schemas.openxmlformats.org/officeDocument/2006/relationships/slide" Target="slides/slide2.xml"/><Relationship Id="rId110" Type="http://schemas.openxmlformats.org/officeDocument/2006/relationships/slide" Target="slides/slide3.xml"/><Relationship Id="rId111" Type="http://schemas.openxmlformats.org/officeDocument/2006/relationships/slide" Target="slides/slide4.xml"/><Relationship Id="rId112" Type="http://schemas.openxmlformats.org/officeDocument/2006/relationships/slide" Target="slides/slide5.xml"/><Relationship Id="rId113" Type="http://schemas.openxmlformats.org/officeDocument/2006/relationships/slide" Target="slides/slide6.xml"/><Relationship Id="rId114" Type="http://schemas.openxmlformats.org/officeDocument/2006/relationships/slide" Target="slides/slide7.xml"/><Relationship Id="rId115" Type="http://schemas.openxmlformats.org/officeDocument/2006/relationships/slide" Target="slides/slide8.xml"/><Relationship Id="rId116" Type="http://schemas.openxmlformats.org/officeDocument/2006/relationships/slide" Target="slides/slide9.xml"/><Relationship Id="rId117" Type="http://schemas.openxmlformats.org/officeDocument/2006/relationships/slide" Target="slides/slide10.xml"/><Relationship Id="rId118" Type="http://schemas.openxmlformats.org/officeDocument/2006/relationships/slide" Target="slides/slide11.xml"/><Relationship Id="rId119" Type="http://schemas.openxmlformats.org/officeDocument/2006/relationships/slide" Target="slides/slide12.xml"/><Relationship Id="rId120" Type="http://schemas.openxmlformats.org/officeDocument/2006/relationships/slide" Target="slides/slide13.xml"/><Relationship Id="rId121" Type="http://schemas.openxmlformats.org/officeDocument/2006/relationships/slide" Target="slides/slide14.xml"/><Relationship Id="rId122" Type="http://schemas.openxmlformats.org/officeDocument/2006/relationships/slide" Target="slides/slide15.xml"/><Relationship Id="rId123" Type="http://schemas.openxmlformats.org/officeDocument/2006/relationships/slide" Target="slides/slide16.xml"/><Relationship Id="rId124" Type="http://schemas.openxmlformats.org/officeDocument/2006/relationships/slide" Target="slides/slide17.xml"/><Relationship Id="rId125" Type="http://schemas.openxmlformats.org/officeDocument/2006/relationships/slide" Target="slides/slide18.xml"/><Relationship Id="rId126" Type="http://schemas.openxmlformats.org/officeDocument/2006/relationships/slide" Target="slides/slide19.xml"/><Relationship Id="rId1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PlaceHolder 2"/>
          <p:cNvSpPr>
            <a:spLocks noGrp="1"/>
          </p:cNvSpPr>
          <p:nvPr>
            <p:ph type="dt" idx="26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46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PlaceHolder 5"/>
          <p:cNvSpPr>
            <a:spLocks noGrp="1"/>
          </p:cNvSpPr>
          <p:nvPr>
            <p:ph type="ftr" idx="26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PlaceHolder 6"/>
          <p:cNvSpPr>
            <a:spLocks noGrp="1"/>
          </p:cNvSpPr>
          <p:nvPr>
            <p:ph type="sldNum" idx="26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0B16-50A7-4DB7-AE7E-DC3184893D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1440"/>
                <a:tab algn="l" pos="2163600"/>
                <a:tab algn="l" pos="28861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8257EC16-DFD8-45F3-ACD5-2659D0A277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0" name="PlaceHolder 1"/>
          <p:cNvSpPr>
            <a:spLocks noGrp="1"/>
          </p:cNvSpPr>
          <p:nvPr>
            <p:ph type="sldImg"/>
          </p:nvPr>
        </p:nvSpPr>
        <p:spPr>
          <a:xfrm>
            <a:off x="1069920" y="708120"/>
            <a:ext cx="4724280" cy="3544920"/>
          </a:xfrm>
          <a:prstGeom prst="rect">
            <a:avLst/>
          </a:prstGeom>
          <a:ln w="0">
            <a:noFill/>
          </a:ln>
        </p:spPr>
      </p:sp>
      <p:sp>
        <p:nvSpPr>
          <p:cNvPr id="4621" name="PlaceHolder 2"/>
          <p:cNvSpPr>
            <a:spLocks noGrp="1"/>
          </p:cNvSpPr>
          <p:nvPr>
            <p:ph type="body"/>
          </p:nvPr>
        </p:nvSpPr>
        <p:spPr>
          <a:xfrm>
            <a:off x="685800" y="4491000"/>
            <a:ext cx="54864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4622" name="Text Box 3"/>
          <p:cNvSpPr/>
          <p:nvPr/>
        </p:nvSpPr>
        <p:spPr>
          <a:xfrm>
            <a:off x="3884760" y="8978760"/>
            <a:ext cx="29732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369440"/>
                <a:tab algn="l" pos="10820520"/>
              </a:tabLst>
            </a:pPr>
            <a:fld id="{9B647519-CAF4-47A9-98E1-BFB23860E3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1440"/>
                <a:tab algn="l" pos="2163600"/>
                <a:tab algn="l" pos="28861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39565274-1E41-441E-A807-EBB0E744D8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4" name="PlaceHolder 1"/>
          <p:cNvSpPr>
            <a:spLocks noGrp="1"/>
          </p:cNvSpPr>
          <p:nvPr>
            <p:ph type="sldImg"/>
          </p:nvPr>
        </p:nvSpPr>
        <p:spPr>
          <a:xfrm>
            <a:off x="1069920" y="708120"/>
            <a:ext cx="4724280" cy="3544920"/>
          </a:xfrm>
          <a:prstGeom prst="rect">
            <a:avLst/>
          </a:prstGeom>
          <a:ln w="0">
            <a:noFill/>
          </a:ln>
        </p:spPr>
      </p:sp>
      <p:sp>
        <p:nvSpPr>
          <p:cNvPr id="4625" name="PlaceHolder 2"/>
          <p:cNvSpPr>
            <a:spLocks noGrp="1"/>
          </p:cNvSpPr>
          <p:nvPr>
            <p:ph type="body"/>
          </p:nvPr>
        </p:nvSpPr>
        <p:spPr>
          <a:xfrm>
            <a:off x="685800" y="4491000"/>
            <a:ext cx="54864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1440"/>
                <a:tab algn="l" pos="2163600"/>
                <a:tab algn="l" pos="28861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6F7ACF1A-21CB-4241-86D5-266678C046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7" name="PlaceHolder 1"/>
          <p:cNvSpPr>
            <a:spLocks noGrp="1"/>
          </p:cNvSpPr>
          <p:nvPr>
            <p:ph type="sldImg"/>
          </p:nvPr>
        </p:nvSpPr>
        <p:spPr>
          <a:xfrm>
            <a:off x="1069920" y="708120"/>
            <a:ext cx="4724280" cy="3544920"/>
          </a:xfrm>
          <a:prstGeom prst="rect">
            <a:avLst/>
          </a:prstGeom>
          <a:ln w="0">
            <a:noFill/>
          </a:ln>
        </p:spPr>
      </p:sp>
      <p:sp>
        <p:nvSpPr>
          <p:cNvPr id="4628" name="PlaceHolder 2"/>
          <p:cNvSpPr>
            <a:spLocks noGrp="1"/>
          </p:cNvSpPr>
          <p:nvPr>
            <p:ph type="body"/>
          </p:nvPr>
        </p:nvSpPr>
        <p:spPr>
          <a:xfrm>
            <a:off x="685800" y="4491000"/>
            <a:ext cx="54864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6AC8-A94E-455D-B7CD-D569E4381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2201-1EB1-450C-A340-502603BF6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necessarily word for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8FA4-9168-4ECD-B4FD-38E7A014A6DD}" type="slidenum">
              <a:rPr b="0" lang="en-GB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507D-0F13-4B7C-8A83-B41C791B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334C-B0D6-44C5-A0CB-6F79DEBD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58D35D-C347-41B8-B987-2A6D1F293D64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FE90FFB2-2005-4F96-9EA6-37BA23B7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B4180AD8-8BEF-4DDF-9D42-AFC91165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FC6DF12-47AE-431E-8AF3-ACDAA852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DD46995F-D925-4523-B55B-C6F99FAE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024141BF-5915-4C56-A36A-78330467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FBAC7029-2AA9-4672-96D6-F9D1CA51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62CAEB2-7B56-4665-85EB-D0B08C04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3F32DC7E-70C6-4204-910E-E49B29BA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6F85F362-4F40-43BA-AC15-F81F29C8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D144D2A5-5EF5-40BD-A56B-66398D5B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0369FD-D769-4056-A5FC-BE0AB1F5353A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4D3942D2-55BF-4BB4-AEE9-D8336020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72ADD4C5-67B8-4382-90B4-60A0865B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1ED23B1A-3E1D-41F8-B322-8DF81C69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D7C56001-4927-4C12-8361-ED903075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DD5CF418-6B49-4771-99FD-E354866F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48BFBBF6-1324-40A9-8B1E-A38D9D7C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038A7217-595C-403A-A039-0EA9B98C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1FD94B7D-BC0E-422C-8583-7CE38152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28AE6DC0-FC2D-4DD2-819E-34CA941A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E69BCD0F-AB13-4CDF-B781-881EB0E0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C31F91-8D9D-4305-BB38-A3911BE1230C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5010571A-C2CD-4926-8EFE-1317A51A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26EF5A93-E8A2-4EF2-9459-02F8DB69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FEB233A0-5228-4671-B4CB-63EA5B96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A007C644-BA99-432F-BB79-A2D63CD7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281F49FC-F3CA-4396-BC20-657812DD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80B8E5E9-B71A-4D34-96F4-1E50EDE7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EECAD5AF-14BC-4F5F-AEBE-9C0C6F69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2D885555-7C1B-424F-97BE-D2F3D134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0D3FADCC-9378-4297-96B6-74588F37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9C553F06-23FB-4F92-9C2F-79508707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FEAE53-721C-41E6-9B5C-ED0EFDA6A914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BDE4E103-25BE-4272-8105-6F4A9F98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28A82959-2E64-404D-B654-E99420EF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89CC6F43-8427-404C-BB18-8BCEAB4C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528DC459-9D32-4592-B8A6-B7D70F2D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B2C195E0-8DDA-4C9C-BA2C-AE356A90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44BFAAF5-204B-42D0-9410-6177CC00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C50D48B4-A6C2-485A-895E-5448B4BE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48ED9628-C3B1-415D-ABF6-A679A744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045950D1-55D4-4E9D-809C-FED18838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83AC458E-D898-4821-920C-FDD68B62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ED1E28-54D7-4E77-9D3A-1ED1FF75DEDC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D37ADBA9-966C-432A-8A23-6554B1F1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53E4D255-7538-471B-9182-8CE29F07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BC63876-C3E6-418C-B21E-151D4229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913F89D-CDCF-43AA-BD34-26857203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E770E0EB-0EB0-425D-ABDB-355753A0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CE6CB48A-9B1C-4769-AD46-CFC88EF8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BB401AB5-CCD3-4B95-BD44-2E145922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48C2C9F2-B34B-41F8-979B-893C468D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6C03F911-8B17-4E71-9616-2C6D3BBD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1018BEE6-70B0-4479-8E56-BC735EEE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E4CF56-A2A8-4EB6-9E0D-677BDBB043FA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3A67C6AB-2868-45B4-8788-26015C69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BE006B4A-FDB6-4743-847F-0277BD4E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B3BFB066-B2A8-471E-B94E-DA981E66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FB6C5B3A-3464-4173-A14D-43552AEF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C725C368-5108-4EF1-AA58-04E752B7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C11A8558-F6F0-4063-89CD-85C84AFE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8F833ED8-DAF8-448C-BD65-AE335969B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13D655E2-644A-4EBE-8E75-F6F146AC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46852F00-F793-4FD3-B515-A112B0B7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AD47E1C0-F11F-45CD-B501-71D1CBE2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21ADC5-40A6-4BC4-A5F4-D5A232252053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2366EAE4-C6C3-4282-B5C9-AE07DFAD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DC11FA55-3C88-4798-B39A-B34896B1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8AF89C60-B3B5-4592-96ED-F333EBE8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79923E51-1CFC-4F81-9AB8-B1B0E4D1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9C3E6E33-DCC4-4599-90FD-787167D3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D95661E7-19DB-4E6E-A50D-ED37E671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784BDB1B-263C-475F-A293-21B98878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D6CD2859-5CEE-49D5-9EB8-F3459534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56AD67C3-B8A9-47F9-8CA8-AE5E48A7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B40CD1EE-9AB0-4CAA-B011-FD582BE1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177689-25AA-4F6D-80FD-B06E0440EED1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C4076A83-C39E-48C5-833C-520CB435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2DA742C1-8C65-4544-9ADD-5AB6FB8B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FE82F333-A6A2-4603-BFB4-35C5426F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31C1E553-0626-4C60-B928-253A6EFE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94B4E75F-BDB1-4BD4-BDE4-893C6EA8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D0F67DA7-8886-4D84-A4EF-7F753F03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81FB575C-C57C-42D9-8B0E-38C14831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448A30BA-0CF0-4211-8AE8-A8FBF5D1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C8697EF9-8E2B-4A9A-9E8F-91D24758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EA4A8406-34FE-4988-AF48-2FFDC1C9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FA96EA-775D-4605-BC40-053EC2F9931F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9C68F334-8525-43FD-845B-C381FC8D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583FFB97-04F3-4759-A40D-BE712315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E71FF6C6-AD8C-4047-AE33-5029AC62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398E2D30-8D26-4E76-9D63-9C00EEAF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E88D0A3E-B12A-48FB-AA2B-8D966F12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397EB599-7EF3-4CA1-BE21-5A1CDAD0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A57027CE-57C1-4D81-AE21-70E25D21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E84E2B90-F22B-4CB8-99CD-7A7E9919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7088ACA4-0E3B-408E-A3E9-7CE63EB1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08DBBDB1-B6CD-4E4B-9492-7B7C9562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4C61F-1BB5-440F-BA3D-2F691C6FE722}" type="slidenum">
              <a:t>&lt;#&gt;</a:t>
            </a:fld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2DAAB448-D567-4F43-9A15-EFE0AAE5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E792788C-08ED-419C-8855-1EB00241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F6E9A815-E458-4026-BFFE-4BA4831C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02708869-76CE-49F4-82CD-B75E4B36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FBC6C550-6F1B-4381-A8F7-0356BE78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C8A699AF-FDF2-4DB2-B66B-FB2A7F18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9149CF84-8D5E-417E-B768-7221F029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AEBF396B-05FF-49A2-80CB-B62582F5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1C8A2CF0-E830-4084-974E-1C7DB61C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CE44AF42-EB5D-4507-ADB9-6E68E82E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3A9-4C79-44C9-B83C-14C9C3A0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90126-6C29-48CE-99EF-D19815109C0D}" type="slidenum">
              <a:t>&lt;#&gt;</a:t>
            </a:fld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46D5C927-49C7-488B-992A-52060BAE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2E9980FE-CC91-478B-89E8-C1C22789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17ECC617-8C5E-4816-8820-01E07FBC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467C77E-6460-4A32-939E-402A8332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374B708C-D599-4CAD-9265-C87548D8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B1485EE5-49F2-45CF-A846-AEB7EFF2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74CD8590-FACF-43B8-9374-27232766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88FEA77A-AF27-4D9F-BFEA-6F43616C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8FCB99E4-8907-40C3-9A30-57C51FA3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999E0C69-F808-4F0E-A90F-445A7BF5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C66A3-8EC8-474B-A9D3-2FF35385BE4C}" type="slidenum">
              <a:t>&lt;#&gt;</a:t>
            </a:fld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2EA305A9-F30E-40DA-B866-48C8FC9D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F3A47074-9F6D-459B-AC24-98E23AB2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EB6085CF-3D95-43F4-A8E7-326773D1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539C920D-104F-4298-9C2C-C53282D4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BADA49DB-359B-4A16-8773-CD5B3590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7733CCA9-CF59-4FDB-9148-29D2B613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5BFA7C9E-6928-4FE5-8B8A-9DE0673B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FEEEDD25-FF20-4F98-B87D-9A1FB387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8930B6DD-A59E-4333-84CC-E8A12D77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101796C9-70EE-43E7-BF2B-E1D4EEFE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B6256-E3CF-4107-B031-15F187EB6336}" type="slidenum">
              <a:t>&lt;#&gt;</a:t>
            </a:fld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58560C46-F95F-438D-8C93-DB5D8CC5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59BB797B-A0F9-4D1B-AE35-E7B2715C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9CE3A55C-C9B0-4400-97AD-5CA2CE4A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3F8D174-9343-4D7D-BD01-EC4758A3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30A6606-2D41-4712-86E0-075712CC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A8E05941-0188-41EB-8467-ACBF5294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1EE73578-BF51-43A4-97FD-D405935C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BC0EBEEE-5B3C-4BC6-9A5B-6B1B380D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7C2AE732-1F24-450E-BB5D-EC1CCC37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ACB76AF2-ADC6-4B3D-B71C-80E32DB8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48ECD-8401-4214-8C15-7D78DDD31A45}" type="slidenum">
              <a:t>&lt;#&gt;</a:t>
            </a:fld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E78E210F-02E5-4097-9BE7-C54CB730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312BDBE0-AB7A-4BF9-86C6-73B6D331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A83C9229-4546-4547-958C-71A09343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E118CB73-DB55-4780-A46C-30A3372F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FD7C2CB1-0F3A-4943-9B8C-291F542F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22EC266E-C86A-44C4-85F6-930E4FB4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0ACAF7AF-A7F9-434E-9D20-9EA0386B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729302B8-6FCD-401D-AFD8-1E8AB7E7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C4ED0570-52A0-4550-A7A6-BD78B101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0F7849DC-255C-46B4-B6FF-E87CF9AA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B07EE-0F71-4BCB-9D38-E56CC58DAA65}" type="slidenum">
              <a:t>&lt;#&gt;</a:t>
            </a:fld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6643B002-4C18-4F1D-AB98-0F7A3957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74C19B97-A67E-4794-B4CA-CFDD6865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EC985CFA-C37C-4F76-A9E1-84F06809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CBBEDF8C-3B7B-42DD-9BF4-AD79A52B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2AC1F983-6C07-4E5C-B0E4-04C3981E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D3CD375B-2196-4ECF-84ED-E900990A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29798E32-4BA5-4FC3-B6BD-56ED7B0A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C736EF30-3997-46FF-86EC-E9393206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301FE614-B9F7-4D0F-BB12-D1094489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94246975-BF1A-4F43-B4B0-3419A692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B1C32-954F-48C8-AFDA-BF16E09F43C2}" type="slidenum">
              <a:t>&lt;#&gt;</a:t>
            </a:fld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0A64611B-1CB2-4360-A57B-212FFFC4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3CB82D2E-92DF-496F-8DA7-35F48451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7EFC1939-3929-4BAD-B788-DD9E4C35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0DB8B4D4-4015-470D-BA9C-B098890E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A922E079-4482-4185-B65B-D4FBC1ED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63E0467D-0C7E-46A7-AAD6-A75C2BF8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A86CFAD5-4E11-4F89-956A-AD8B06A1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EDC6899B-E0E5-4284-B4ED-D0037349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10F18AA9-F853-4D43-8C20-3BFB38EA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274F7F4F-1655-4E2B-BF82-FC15543B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D70C0-7E40-4CCA-864E-F8637A0408E3}" type="slidenum">
              <a:t>&lt;#&gt;</a:t>
            </a:fld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38E23729-587E-456C-A9FA-9DE7B62C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E8450A92-73CC-468B-86A3-436D144D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C8CF791A-FE38-4B70-88AF-644A9F8B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782E3888-0C55-4B37-8A0E-AB23243E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B605A32E-B568-430B-B894-4D6D8F03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20098B9E-968E-4ED2-B17B-DEFB00B0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3FC6DE70-05F8-4A53-A5AB-AC7983E7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B63A7034-1BCE-4D56-980A-52ADF462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F9822910-3929-4EFA-AF01-94CDCD45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E5D768F7-6421-438D-977E-96C4635D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E710A-3CFC-40D1-A5A3-1A70E9818448}" type="slidenum">
              <a:t>&lt;#&gt;</a:t>
            </a:fld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7FAB9CBB-9664-4956-9AF0-505614FF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0A2F037B-727D-468D-A874-480AB03C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7D8BE596-7EA4-4ADE-AAD3-A3D8B37C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EE6191B7-F6F4-489A-A852-4FCA97AD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D5E6860D-4197-430A-B543-E8C808D4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9D791D75-484B-4EC5-8637-5662A5D7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4939B801-0E80-467E-AC06-3617D530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88E1032C-B580-443C-A8AB-A5B41CA0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873B7CAA-04EE-45AB-9254-773BAFB9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E69CA1DD-D3F9-4BED-B569-E3BBE385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80EFE-147D-47C8-8628-A420692E80F4}" type="slidenum">
              <a:t>&lt;#&gt;</a:t>
            </a:fld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D436FE4D-D94E-4A99-A64E-D5C87200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D75F2E68-0630-494E-90AD-0E16078C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6DFAD76A-AF51-448A-BE28-A1663819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0093F832-CDD7-4D82-B869-3F2C5B2E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02F0F30A-8C34-4AAA-A15D-34A863E6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4001C8D9-2B30-4622-B46B-37D9D1D9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F62AA8DA-BF04-4FE9-AF0F-849BEB01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B1A4177F-D794-46ED-9166-608BC383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46704D80-6FCE-4F95-9336-695FBC46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F00D502B-D864-4C47-8B64-95D2B7F0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F81C6-A6AD-4CA4-9A49-F9759687C518}" type="slidenum">
              <a:t>&lt;#&gt;</a:t>
            </a:fld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517EB483-7F58-4CAD-9D46-ECA168BB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CA9DEA04-5EE1-4B93-A4C7-82327072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7958B84E-7FE5-425B-802A-FF27B59C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66E83C88-E995-4A89-88FD-D64646BC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01CEE2B-7095-4F45-8D68-EBCFD26C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A461760F-3FD1-4087-8C71-CA58F06D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D97FDA04-9412-4B5E-8420-52CC11D0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6B76F8E5-3AF0-4EC9-B65E-23431E42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C9333B89-F768-405D-BE73-CD626524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DCE7ACB9-F27D-4826-8E12-8BDA8119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DEF5-4007-4DF3-929A-286B0E031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ECD2F-7048-433B-BE0C-48BBD5EEDE4F}" type="slidenum">
              <a:t>&lt;#&gt;</a:t>
            </a:fld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DB5B80A6-9E4F-4AAB-AC72-2AD8A1C6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47BC508B-3728-43C4-A1C4-2D4DFC5E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FEC29DFE-34CC-4A13-A0BB-7751E2BB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34849EA-1A63-4C0A-ACEE-169D7C83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D42469E7-4892-40F8-B296-33FD9DB4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3518B632-5FE7-4078-A655-EA0DC2C3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049A2CC9-4D43-4E82-9EF0-9823DFFB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4372706-C930-43A3-B384-ECC1D4C1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99F3B056-DBD9-41AE-8E55-618E8839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5AACBD27-1859-4267-8863-5368E57D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941887-C4F2-4697-8DBF-41C3991F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80F0E84-908E-406C-8985-D433534A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47017E1D-D3C0-4811-AEA7-8E9A0FE6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F51D7085-C6B4-4B92-BDE4-E173A3EC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B96D55BE-24C9-4EDC-91C6-7B637D32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D57982AB-A80C-47D5-BEED-589E1381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FD90EA26-3F8C-42A5-8FD1-A9B6ECEE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C2406AC6-0736-4F0E-AA4B-A58078CB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AAF679AD-DFA7-47A1-BBE6-A7FFEF10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4E84DAEE-DBC3-4795-954A-6CFA3833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7753F44D-9146-446A-A04C-6D7D91F9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CD1D7D-5D9D-474F-8ADA-B63CE1A28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1191A03F-50E8-4222-87B1-AB9647D7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E02C9667-FCE2-47B1-8826-1926B608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C6603346-6C45-4E0C-B08B-5EB6BB9F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B23F3A4C-2F35-4959-8640-8D5D3C69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B8663AEF-6669-4D33-8B50-E5F095D3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0E3EE264-08E5-4AC0-B660-D04901A2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B9E59B9F-A29B-4C15-8EB6-8943DF59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5BE11AFF-8621-4E1F-9148-AE5FD755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C970553E-2043-44F9-B11F-EEC8C5E0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4251338F-8CE2-4259-9EC3-E9A54D41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D0D84-F5A8-43C8-A66E-A5941D30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10C346EB-9E69-4119-B8FA-ABBC2C69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364CEAAC-E822-4883-8427-83E2C929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18F46E24-4C2E-4279-B2D5-5E93D2E8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133B308C-5FC6-40CB-9C68-17F4782A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910762A6-1CAF-465F-A03C-AD4FB4DA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F10FCC3F-BEA2-47AB-8B91-C627BD52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9FC6288C-71C8-411E-9263-0CBEAC08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574549DE-C1D6-4F09-93C3-23C8E4A7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D4787B13-5BA2-4EC8-81CE-0D810E0F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12D58A51-B974-4092-9AAB-7DE06589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56BE8-6B69-4F4B-9892-880EB6FD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E16F562C-EBDF-4FC3-BB99-7281BDEA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EC72E9DB-A1A3-471A-AB64-E46DBD30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2AE3D013-6961-4FCC-87A0-AA734E2A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966590FE-BDD4-46E3-95CF-9D25B8D4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B5515536-E417-4813-9C3C-901A1EE7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947F7824-694B-4A88-8939-121FB437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9D5029DB-4772-4081-A77D-35671EF1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7B15B7B8-B2C5-4408-B09B-A82AE6A8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A5BFD436-0778-4A40-A710-DB6B4CBD5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2BF9A190-27C7-43D7-AF59-0AF5569D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C96E3A-3330-49C2-8BC9-F41E0721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3F970A91-C9A9-48AE-8C47-AA2FD3A7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C8E1FB7E-A399-447F-9782-9078C02E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0213D572-9CBE-480C-A09B-E83422AF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AFBEDBE4-B8EF-40C4-A1CF-FB3D37F1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83F76892-BCF8-48EF-8ED6-8757418D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B5E02E3C-CDAE-40D2-9398-8F68AA30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64889AE9-5191-465E-BDD0-9D34C2D2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685B9F49-D16C-4A94-9C18-7EE1B8A0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B0FD2012-05F6-4B38-B174-3F77CAC8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DA7E92B0-BB80-4EBF-9636-F90BF481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64481-2FC8-4707-B68B-A5D973D2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386D3131-C0AE-497D-BA09-93F2A33C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89440-1DF4-4809-B8AE-7FEC60F5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B4127-02C7-4886-B9D2-AE87492C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E524D-29F5-4B58-8BD0-33D4FB69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0246-A490-4828-9C2F-1358FD0D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4B89E3-DD49-4035-A10D-7C97F77F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89A602-A242-4EE8-91C8-2D08ACB5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AAA79-30E2-4947-B80C-E63CD155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FA8FC6-1FC7-461B-AFFF-327DE9C5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1AF76-A4D4-44E9-AB22-1C221040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55B705-FE09-4212-B159-625EB5FE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0B1AC1-C37D-41FB-93E5-788A8208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E7F25-6A78-4C5F-B3A7-83024FB1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2160AF-3B1F-4F0D-9588-9858237A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544ED-AF71-4AF3-9E2E-8796702D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9EA0-5C16-473F-AF17-8915AA8A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1F6E29-EEDD-4966-9F69-28C9F016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2B032-6B7E-48FC-8CB2-3CB601A7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E0829E-4E7A-4419-8C07-01063097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281273-15E9-4F4A-95CF-1FB483A1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E18D7-2A33-4979-8760-C3A19C00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E542E3-8AAC-4F61-9791-49D98AE0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8B27CD-4A13-4574-87A5-C2C13344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1252F4-4C84-4A76-84B2-9758F042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E95F0D-17C7-40D5-B9C4-D52AC7E8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A621D9-CEC0-40EB-A412-7FF91548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3248-BD20-46AD-9B70-3BA4F0F3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46FD91-F3E7-47C4-A3A2-643149B5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3E237B-4954-41A9-A02E-92074CC6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DEDB7C-6E9A-487D-A0C7-04C4D8D6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F2A7E8-E950-43E4-94E4-07F162C6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534E1B-C94D-4B9A-8CCB-E7C67FDB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F6919F-0F15-4247-8E6B-83569260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720872-5E71-4D26-8A10-87C040F1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1F9BB-628E-4878-B42C-3B55FC70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AEE00A-22FD-4959-86FF-FA1D7B52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7C4E60-B414-4323-91F5-7108A071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0B66-FD92-4F07-AB7A-119663DB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234F2F-5CA0-491D-9E06-7139AFD7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5B954-BB6B-4428-9D4A-1529F0E0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24FBF3-FAF2-4C62-94B2-CAB2928F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DD0DFE-D512-4209-98F8-1C417FF5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64C07E-AD4A-4572-984B-1B88BECF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4A417A-F9C9-4E7B-9639-1F47B2A8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45F44-FD55-424B-91ED-AD20EB12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CDD694-99DC-46A7-B3B7-E5CA0C2A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4B022C-BA43-4303-869E-BE4D9F65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181E08-F4C1-4691-BAA8-61AFEEB8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C011-93A0-40E8-82EB-DEBF727E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8C28DD-F369-4A0B-AB50-78943B7F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CA58F25-5549-42D1-82FE-E35D378D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65E122-B988-450A-B70C-8E87574A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016C78-A373-4078-89DA-9C3810E6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81AB08-5CEA-4AD5-8883-9CAA726D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94B62B-1193-47B6-997E-866D18E7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BB5EDB-0D73-43BD-A712-F2976CA0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B7B781-039E-430E-A0E8-B906A39C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F82E049-5CFF-416C-8101-B1FA8CEA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F6AD00-E66E-4E3E-8700-B00AD212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381B-C38E-491A-85F2-66EA02BA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D57CE0-BF1A-4888-AB29-0FACB002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779E55-94FF-4B97-B4ED-3A5374DB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0465C2B-4103-48F5-B1B0-3C29C70E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555D46-2207-4A9E-9924-B9F0BE51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1D0EC55-1DA6-4BB8-A3A4-CF06A824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CC96196-66B0-4C12-B16D-3DCAF70D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44D85EA-9B48-418C-B6A5-1CBBBBD9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85BEF3D-FB89-470B-890A-F5701BD2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B357878-E1CD-4D15-AF50-4EC1B8F1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6EFB749-30E7-4246-A790-92EB075D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D86C-FFE1-4F69-9B12-1782545D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A448CAE-9E7E-43EF-855D-816C21A1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936028-FD5A-4810-BF40-B8D9A0BE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EB0515F-0D8B-4CD8-8A14-4AA5D834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304D719-B200-421C-9A3C-309D5249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5B7AC1D-E8D3-4CDD-8DC1-E6000006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EB1B444-8AE4-47B8-B974-42ED1CB7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2DE9DC4-3C9B-4B1D-AFEB-E0735458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AAF4C19-FC45-4B5F-974F-48FE386E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48A5759-7CBA-4590-B9D9-27ACD053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7C9F0B5-4481-458F-B857-002AF749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758E-DFD0-4DE4-8C54-DA94612B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9E61-902C-4F2C-A6B0-07E2B325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5063296-A293-4902-B044-D6E60F49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31FE86C-CF4E-49E6-BF1E-64BB09EE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C2456A3-2E30-44BC-B8DA-B4373CDB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421C5E1-BA05-4DBC-8D68-7EBA3DDA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B80D31-4B97-459F-8A8C-F85A4ED5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E842ACE-34D7-4F71-8DA5-5B2C7B9A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5EAD527-51DC-488C-A997-FF5E8DBF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085F692-1DDF-46CB-9EE2-DD003660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41106AA-DE32-48C4-B48C-86C028A7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33C40D3-9A9E-4F34-A5EE-3489D0F5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7BA1-F4BB-4718-8327-1C50300B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80E8A7D-96D4-498A-8569-C1E5B614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053E476-94FE-4AA0-9102-610C3443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675DC51-AA4D-44E7-8B11-973ADCF3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65F4E2A-0132-45DF-B5AB-8EB66446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DB912B9-A309-456F-ACDB-F94847FE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B193939-1918-4447-BDD8-AC3DD45C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ED331CE-D8FB-4B9E-AEC5-50F1B8E0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6005718-B394-4D67-BB5A-4A964571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4DE3A59-AA8B-4893-A953-945F82E4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F16DFE8-804B-4AD4-81B9-27C3F977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64AC-5B1D-4B42-B89B-D398C146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FBB14C1-421C-4789-A298-592D539A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9DC9F0B-6A8B-4A7D-A52B-89579453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C871999-013C-4010-AE91-E4C2A12B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9B06381-906E-4C0E-B7EC-DCD1990C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AAC87B9-8070-488A-818A-A6DCF20A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50340EC-2E90-4039-B912-683BAB37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FA02BB9-5A84-4A42-9A23-D8F69993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2C44E09-55D8-4EDC-88DB-37C99D2E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024A58F-5164-4621-A2E2-0D298838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CE0F269-A09E-4D8B-811E-F2AB9185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8D57-0612-4830-9023-8D35B11E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790D8A1-59B9-4028-9E66-BCD52D3D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D7E540E-CF41-4953-BD17-BB4DC127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CED5762-47A9-40FD-9A32-33059DE2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A6A496A-CF43-4E7F-8074-071B2D44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F555FFF-8782-4D6E-B311-5BF57952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648BE96-123A-4EC3-B594-7377A515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00B26EE-C10C-4533-AAAC-82A9E919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EE4C439-718D-466E-A9ED-E36BF342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AAE040D-88BE-4024-BF41-BD437784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1351B8E-0925-4F48-924C-84914F96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3C4E-131D-4B3C-BB26-624E2179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BB0DCCD-149C-4BAA-9564-489D2947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C84A337-5159-4614-B4C8-239090A7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E54ABB8-7BA5-4402-99B6-F536A7B2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06BF699-87CF-4546-8B7F-EDA69A63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2E063E0-C0D4-4804-BC76-2BAD035A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C34D5EA-E048-4DD4-B4BA-2D51B959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78D60C9-1E6F-4D3D-AA42-CEEB0F07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1BC09EB-4908-4257-A364-563A4A1A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7D923E4-289C-434B-87E9-D0C8C15B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7B1C289-293E-4F2C-AF8D-DBA501F3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7D5FA-26C1-4301-B3E1-18CE38B6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D00577A-9C4E-4BF5-957E-1BFA0F56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13EA3A0-A818-45F6-8CAD-27685457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23CCDC8-613D-4394-8CB7-C694F294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D9A8141-024E-407F-8E28-2A58BDD3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848283A-DE18-48E0-96DE-399043D5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51C698C-15E1-4982-889F-07468CE6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8CF55FE-DB8C-4969-8882-DE9CE52F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04F7E6B-671E-4A70-9812-735488AF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638F4C8-4D91-4C3B-90EB-B66251FF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D46074C-640F-4E0B-B74A-E2960540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8E487-F16A-40D9-9C9F-DF3597D6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2168E05-3B39-4591-B948-3A6901D6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6CB5CA7-D593-45BA-8FB2-7554BF5A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D8683FF-8B96-42DB-B4C8-928EB040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B4B348E-E916-435C-A77A-F15B049D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BC1992E-727E-4794-8C0E-90A222417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7DAD7E5-688C-409C-B4DF-54E9E0C7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C3582DD-A1E0-49BB-A13A-0BA5C4BC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C281250-1031-490E-AA8F-A16802D2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6C81CBA-D2DA-4A63-AD77-4B52B575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C01EF06-2103-456B-9279-4E055864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A3498-8C46-41BE-8E31-33F49614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20C8643-7751-4140-B5EA-A0ADB2BF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F7DBE28-66A0-43F6-9EE4-D248BD4A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8A83D63-4E30-4323-B9AF-AD781EE3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E3A0EFB-7332-4B3C-918E-8FA6343C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737E263-37DD-474E-AC01-FBED9D05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D013821-BCA2-48C5-A92A-99C0EC86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293B24F-3343-4A70-8B1C-44A22D879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F142F4C-45ED-4778-9CBD-45FAAAAE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7E2DF3F-48E3-455B-9391-4D73CAF9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939FE3C-FC45-45A0-A337-B1D3DDE3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DA4AF-5704-4E6A-82D7-FF7038B7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9347262-CB12-4973-9637-7EFA3E71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A5B9256-8972-44EF-8FF2-F0EBAD8B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E52322F-3BD9-42DC-AD9F-02ABC150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F4099C2-CFEC-4C1E-8A32-D64DFD2D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9DFB5C6-CFBB-443E-A5E3-79A5F8C8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3B9BA65-A599-4101-9AE5-D545E546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BA347DD-8693-4A0B-9180-09B933A8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3AEF4B5-0ECA-44E5-ADF5-3627F888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AA0E6F4-03AA-4E86-9A51-70A53EA0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314243C-F414-4B69-BD9E-E4FA8E20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625EE-789D-4DF5-97EA-0E3A8A8B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495C22D-A22C-4CF2-87BB-674804E0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EA411CD-BDDA-4468-8026-349CC989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36F146D-FD74-4B5E-A6FA-EEBCD72A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62B8BFC-0C87-4160-9B64-9C5BECE8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EC8D17F-FEF3-45BF-BCAF-3BF5D8A5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C73C81F-2894-4632-AAC5-8B73215E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3C45601-A0DE-48FD-84D6-3D8F5B12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03E7185-C578-4079-8406-556370B7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EFB7170-2D2C-498C-9FEC-9D78AA8C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36E6CEB-AE0B-42D4-AA12-8402BF97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88C3-E66C-49F0-9F83-B3ACAF83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34F8A-19FB-4BC0-9A63-03F1828D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50989B6-61CF-43A3-B98B-17546201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F12CE56-AE68-496D-BFEB-35AC7AA5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436F5ED-8D33-4B8A-8A5B-D6484AEC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93B2F16-968B-4536-987C-F8264DF9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3494DE1-4721-497A-8819-369F0230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09B84ED-731E-4FEC-80BB-4958721B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C916CC3-8D9D-4519-B88E-66C9C5D9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6526F2A-7214-4564-996E-C394CF1F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2FF8B96-64A8-4495-AF3D-9BA231AC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2C16E45-515A-4A39-90FE-1EC86F24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C3180-3B76-4A37-851C-779F61D1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C172F25-2914-4D04-9F90-034A1703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E677D5E-BA16-44BA-BAB9-1B1DB096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C04AE3D-0BFC-4132-9CAC-F095BEAA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08A928D-E8B1-49CF-A31B-3DBDC8FE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7444CF7-57B5-4D6E-A834-FAB953BD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D77530C-AABA-4803-AAE4-A46280FC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E4077B5-EEDD-4EEB-9065-19443750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7856B73-2D3E-44FF-891F-1FFA81E1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B3C5A2D-D462-43EE-9212-28DC27CD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38C7681-BC3C-4A4B-8A06-C6FC71C7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F407A-A1F7-4645-9850-B0473D57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85A2C6F-792A-465E-B717-6F1D508C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58F0F22-9B9A-4F70-84E9-337EB3A9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CC10F6F-BCF1-4C50-AB40-69681FAF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B86B0BC-8FE2-4C3F-AE54-96A8F138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5EB8363-6863-4FC8-B3D2-B5A39A3D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F8E8266-5B38-4258-AE75-74227C3D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5DABEF0-4D0E-4AFF-9066-E45836F6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462D888-4781-4A86-8011-40D5D3E7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F48BB98-3812-41A9-95FE-B0FD8E27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B5FC3FB-116D-4D3A-B550-8444D7F4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BD93E-4C59-4AC7-86D4-950AFC03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F15EECF-6FD8-427C-ACFD-BE240B84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4E979C3-C9CC-4C43-88A2-B2FD8A2E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10DBA11-C763-4CFE-A442-1FA1FD5A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9E8D3BB-EE11-4893-9C1F-35FFE287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8F33285-FAB9-4C98-BE1A-4EC13A5E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EDA4D37-E139-4AE2-BC26-CD6C2397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3C53513-B265-485F-9D8A-B44306DB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A691006-9660-4FA6-B6F3-16F15DE2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C621B85-9511-49CF-B5A8-F18349FB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31E9A0E-D5C8-44E9-B010-C4908188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67D5E-D427-441F-A8B4-E96DFB0E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5132DE3-66FB-424D-8D01-CBD2BC83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3332CBC-932E-40A3-A91C-32DDE352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DC20F46-BC67-4699-B316-B1CBBA0D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4112BCF-43F3-41B5-ABCB-B9C59656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7315760-4B4D-4E0C-84E7-3B9B48CC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0144557-E143-4D00-83B8-520613AC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2188D60-5DF5-4BEB-B5CD-7D9A5B06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3A5C1F6-D543-4248-93AC-8DDE3E59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155EA5C-2472-45E9-B8E1-135FEF67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937567C-1293-4F03-AEEF-A395BAD8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DA4A1-2E5B-4D69-B538-6E7FDE61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4063466-50D3-40DD-ADBA-8367B5C6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B4959C9-7F4A-4604-A04C-8F3FCD0F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CE17167E-8138-40C8-B1E0-DC5589CB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58D537A-F18F-41E7-A1E5-BD2AF50F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DBC5C27-2697-48E9-9EA9-F47659E2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E28A62A-E270-4629-86BC-F7CBB090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A67464F-A87E-488B-8068-FE1E9BB1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9EAC857-C3CE-4862-A8FE-1CD84BE8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685956B-9ECD-4930-8B34-09602C72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93B8840-A93D-4E6A-B8AE-039B3732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550D7-952C-4DE5-831B-89F1B5E7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EF45A6A-E4AA-4588-92F2-F2011694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2D4E2F6-21F8-434D-90CA-1D7667F5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9A2A583-4919-4C39-9E5F-C9CDA1DA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8C4FF98-81FB-4ED3-BA2A-4D0F1DA0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2462845-C9EC-4619-982C-AE3B675C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0DE1035-C092-43CD-BBAE-740D5194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82E907A-3B13-42B4-992D-ACB8BD7A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28F62BAD-89A4-44A2-B498-1A1E9F7B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27905F0-9AFA-4081-A459-AD68C217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3AAB5B9-E982-4725-BE7F-06B028B7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94AFC-2058-4937-8641-27094ECD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6B0FD50-428A-4108-8686-9CC68BE5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715F499-5A32-40EF-9283-E95AA47C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5F20028-F7A1-4C1C-90CA-7EF863CF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3C310F7-7ABA-4801-83B4-F799BB2B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E87AF5A-9F48-4F22-A624-7DCAE7E5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F75C3E2-FCDB-48A4-8E1C-E2FD27D1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D178FB5-D5CC-4FFC-A253-380E4D94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68DFBD4-1619-4150-8F34-179F72D7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59D0529-30FC-4A8F-8578-EB58C18A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4F74361-4057-45E0-8D9F-51C99767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DBEEF-A923-428A-B771-4CDE4375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0996F2E-1C26-4377-A00D-8946D042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61FAF0B-D7E2-45D7-9CFC-75B90F0E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AAA5153-38BE-406C-9761-BD8ACBC1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D5ECFA5-C367-4FE1-A289-8EB45A72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132770F-59FD-48EE-8632-A188494A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A96F1B7-92C5-417D-BEF3-7EC325E4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6354D3B-C2B4-4D41-851D-6E6FC626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997DC7C-E3F2-4740-8F9C-39252A3C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F4A681C-600A-45C7-9AD3-DCC4C6AF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7B7258C-3241-482D-B47F-27F18F38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DEEE4-423B-444F-B5B6-2B1CF1AD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2696164-9D5C-4A4C-A866-B76B380B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B74D2B2-6A6E-4584-A8A4-4D310C44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62754A4-AC8D-4037-89B3-F2984502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06F9614-995D-42B0-AADA-47D4F627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99ABB9B-A594-4087-A809-12591FF0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A07CE30-6BC9-49A0-987F-BDE187CD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29CBBEE-A483-41A4-8079-D5BEA7BB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2100E29-0350-461F-A069-0C2FFB93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877C2DE-0CD9-4000-B697-F9162CD1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F68A764-CA91-4BFA-BB61-20FDDAF1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7DB-A68F-43AE-9C79-16613BD5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8962F-4C96-4603-9569-420D96C7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DE1542D-11CF-49E4-AD1A-E6CC854B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9DB629F-3AEF-4EF0-839C-C4315903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6E98A86-4B59-4D71-BDF9-CEABCB00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A79337F-0DAA-4810-8E93-11FC6896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84D7BAE-E122-4852-8530-5C780266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9DD59B4-1F01-497B-BDF3-E625C315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24C6A3E-FA60-43BC-A007-901BACFA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6E531C1-64A5-4DFE-BF3B-B8CB8C45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92B95AB-385A-4001-8E6A-20976D0C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6CB4541-451D-4DB1-9F1B-D3C94AFA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C77DD-B609-46ED-95C5-B5A2CEB7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8C4660C-8A5E-4FDF-8634-97289BB6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E9806C6-14CA-422A-9AF0-65A07106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F655601-543C-41F0-A12B-90884F4F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8B564F2-AF27-4A57-91D0-5CEFDD41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681B7EF-682F-4E0B-A185-2C60E0CD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0DBC23E-4741-4BD7-8FF8-8127C86E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602E5B5-0359-4193-A47A-3DD917E0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FBF532A-BDA7-48F3-A300-19555210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9283F31-DC75-4F4E-ACF2-318D8AE8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6D3B7D1-FFEB-4891-BA26-E37070B2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E63F2-0815-45EE-91C0-E0BE8CC1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E403FB7-E1EB-45E0-939D-ED422269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B504FAD-912C-4D78-9A35-71B018FF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E7F2C77-6399-424A-8017-7A1A0E60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8CB92D2-85FB-4F9A-A5F5-FAA0B5EB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8652946-FB17-472C-9D53-D435AF3D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65055A9-0D44-4E6B-81CD-77E1CC42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E1C7103-BB63-4E6A-8EC7-B7DAB029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22565FE-E81D-49EE-842A-BD88BC8E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4E739FA-31A3-4CEE-8050-2070E75B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B3E86C1-3346-4F3C-AC5D-B6F6363B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50F6A-C25C-4B95-84DC-F6D410FA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DE5AF17-3127-4C33-BD3A-C725E102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201C013-2ED9-4576-A1B3-F212FD6D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581F59C-6C1E-41FC-B5E9-7230DD58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33E7CFC-DD7D-4697-B656-C5AF0F9D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87A4C12-E7C7-4442-81D8-0394917A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AAA2876-83B2-4512-B3AC-EF1795DD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C6F3386-4E90-4D2D-B264-24929334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BF74F81-CD28-474E-AA8A-447A1DB6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6E05842-FCB4-42C5-811D-39AC5E3A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D682C3D-429C-4E8C-A290-E89322F6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7C398-85F8-4DF2-894A-C930CDB9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9B7BC82-D04A-47EE-80CE-18C35281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6A87478-44F3-42D9-AD21-D3B37A6C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D16136F-99EB-407F-B882-FEA001AB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0937396-24D4-4D28-9130-38544BA6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4D38361-D1FF-4D3A-A09E-F36E2F67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707A068-C4DA-4A99-B629-259C5D8A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91203FC-DD46-4284-8C70-440ED705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EEA4219-693B-461C-9044-F3AA46FC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BBE4CA7-227A-452E-A1D1-144AE079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989C646-CFBB-40BE-8022-35A0CD35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AA800-3CDA-4328-96FB-6C86A371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D230DA5-67B3-450E-8F5A-20A1CB87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ACE9A45-706D-4633-9C55-D72E8CF8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EA6A329-7BEA-4E19-A025-31ED5908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93275F9-6A1A-40E8-BBC2-1D79B505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D009D7C-27E7-4FD5-B238-0B7385C6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7993414-0564-4923-8600-B526A43D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B06B701-C7FF-475C-B5A9-D13500A2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C2809BE-D563-4558-B41D-CE3D9C62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61299C3-B878-450E-9478-8BE760DD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F4BF83D-4492-4306-A1FB-72BD2062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51300-B2C7-4EC4-8F0C-D825955E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8FED318-85DB-4451-A84F-511B6DAE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EDE8EF4-93F9-495F-89DA-EBAF73C1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FBEA47D-D868-47E8-B823-D20E091D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38168B7-FB24-4EBC-A404-F1362339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61716C5-D4D8-48D7-B33F-F3A5CE06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6DAB836-EEEC-4312-A6A0-22CE3CDA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E2A3243-40F2-4F1B-8AF2-FCED7CF4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388BBC4-3626-4595-A83D-DBF690D4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4E97624-FF67-4F2B-9A26-A79CC0A1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621A855-2848-4EDF-89D2-595DF40C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A485E-A545-4051-925E-E2E54BE2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BDC9B8D-34A6-421F-8C7F-F5B748E6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63738BA-7C79-4EFC-9408-D43B6854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05E1636-2A64-4BAC-8D51-4088B7F5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4FEE35A-4967-427A-9E63-F9F5A25C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31FBCD3-FF49-4FFD-BCCF-28B213E4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EFBEEC3-31A8-48AD-9719-24AA5845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90A84ED-731F-456F-B0A0-E219362A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CCE6205-A9C3-4C2E-9DA3-59AD66DA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AAD5D2A-6855-455C-8CEA-55F04F82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44B1469-98A1-4DAF-9E77-8A8D0654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9000A-03AD-4847-93D9-8B7395A5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E1A03D5-64F0-469C-9B3C-50C11710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90A1E29C-819E-415A-9B38-2D242F1D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06614FF-AF37-492B-8419-3ABA693D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FA5E196-214A-4466-9192-47E0DDFE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8741511-F4CC-4416-A1BF-4C16301E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22D18EB-56A2-4A5B-987C-1118FA93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D4C87590-0A2C-404A-86F1-A6FF1837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E74542A-89CF-4E42-9B2A-F6673D08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E9758A0E-9A93-4C02-84F6-80E2AD64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31BDE615-ACCF-432C-8182-853F7C70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70775-2822-408E-BE43-AAA7E4EE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5FF4790-BB6A-4362-8C24-18080BF3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F0AC2AA-C0F6-46C0-A7D3-9FDEFC19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3B0CA8D2-E0EA-49A2-A42B-8664D0C4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4AE515A8-BEE8-4E27-8D3D-2D4D5535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7C38A0D-D20A-4655-BD57-23F3140F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819D7BF-4515-449C-8FCC-4EA6CA82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681543B4-5DDB-4BA5-8868-C22AD682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A14A989-315E-429B-B918-49989724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AC47D33-F0E1-4BFD-9F37-E4CA42AA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F455A26-7CC7-48C8-A8DD-B979766B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D43-7D11-497C-A4EB-28F61C26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A5D64-288D-4695-94CA-FBD7E837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31DC187-A500-4C09-B72E-9F896FCB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FF11B59-4986-4F6C-8680-9F6F1312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3702512F-8305-4666-9771-5E809466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1AC0174-6BEB-4562-8619-E1B22311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D5EAD6F5-6350-4A25-BA46-56661ED2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20BC730E-9665-4AF5-B4A8-5B81AAC3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13C647A-D097-42A7-8437-FB4769B6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55148521-5244-4834-90EC-4B828D3D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E2FC85C-481E-4C42-8C7E-B314B359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A2B25CB-452A-43CA-91ED-8B373033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8AF55-E0B6-4DAF-92EC-A9B58267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53DF68F-2538-4522-834D-E32901F8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196AC71-6CB0-49F6-9DBF-F4EA29D4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AD3E431E-59AA-4E8C-82DE-5CC11BE3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487CBA2-3BC3-4598-885C-C495FB09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B4CD8F6-AF85-4FAE-93B6-5DFB0159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D5FD076-4BEB-4AE1-8B63-EF473E9F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A228FF3-C150-44D5-9D11-2A153E23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40FACF5-73AE-460F-92A0-6D2A73BF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B557DF7E-E4A4-41D0-ADED-0F6EEA41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7335414-6E66-451D-B0B8-2B0ECCFA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A01A5-7170-4D53-B03E-FA8EC601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248F98B-A68E-418F-8FC0-BD3AE46B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3C5A0C9-0ACA-4998-A64E-E52499C9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AC5E95C-DE8C-4160-99B6-D3AB1590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C6CA4A3-8704-49E6-AD93-6998BAF6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CB09464-15B4-432B-A1F3-D019B050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750BDC0-BE67-49BA-A594-4A45F786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A319800-6F45-4053-A564-3FA8F63E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8979ED5-E1DE-4721-83EB-8AA3EAFB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BA76939-9142-42C3-86D5-3FAEE80E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D117AA0-1B96-4C19-AB5F-C7932B69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2C2D4-0521-4A36-93E3-8C053D2B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945DE9A-D193-4C82-844B-34EA1D98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07D20C9-76B9-4CFD-8E17-C75A818B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65EA3E1-08B5-42D3-A98D-AC3C3939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B6200FD-7831-41BB-9C45-27F1EAC7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1E5E068D-BE57-437F-91AE-47BA125F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194E2FF-4A74-4B76-B520-28636A5E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3AFB23D-2169-400E-BC3C-2641490B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28E279A-E9D1-4433-B81D-E8AEA859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A6CCAC1-6F32-433B-BD92-DAC2B34F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45AA5B31-5D08-4959-8032-06D06105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EF64B-DA8F-4D33-9ECD-9E40C2C5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9BA7F17-73ED-4E96-952E-C1E61FAF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BD16389-09A3-490A-ADEA-FAFCE998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78DD75F-6AE0-499A-93DC-7397BAD6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EA2EE29-CEA1-4895-867C-8E811898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96629726-1F73-4B39-9329-7A3AF581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60D11C2-FD3E-4740-87C9-862023BA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81DA427-1574-4708-A665-5579B0C4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621B393-F5E2-408B-B836-4C3A25B0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97E5B87-4B90-49A8-9166-CCBD37EE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1C15F83-5246-431D-A345-571D85BF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2B97A-8C57-4FD1-BA71-245A489C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0B13347-1AFC-422C-A2E5-9193787D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D1C293B-992B-4779-83E0-7A253526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774F6E5-2A52-425E-BA42-90127872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E48FDC5-AC97-4754-84C0-23F79172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B6E4F57-4AC5-4E68-8AF6-2C836F68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DD1D20D1-77D0-44DE-9388-9EAA1A43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3D5D37B-1575-46F2-B0A0-2C85FA04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ED19DA4-E246-42E6-8BF1-E6A5165A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26F8E3A-B0F4-46B4-9E21-9053A027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A2BEA7E3-80D7-4900-9CF7-A1BAB822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B731B-9842-44BB-819F-15738321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11DD2CF-3717-4894-B433-7F347E39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21410C3-3E5D-4DF0-9777-F181EE7D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B47B2C9-4584-4F0F-B18A-EF5CE898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214E247-0E7E-4C94-9C95-9AC8CCD3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A93E4201-B2CA-4C8B-ABD0-5EFFE375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5A1E2-73CF-4B91-A80D-75A5B460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CDB12-AB36-4011-BF12-ACF52E6C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8F2B5-CA4F-4A26-87B9-92AC8EB3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311-A9D8-4721-A30D-E23034C5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99D8F-A127-47BD-BD3D-4272300F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A898D-4562-445A-BFCA-B3A95246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78ED8-89D2-438A-869C-4F9010F9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B2F58-3A84-4508-ABAD-C9EEEA05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ED09A1B-0852-4D87-827D-CB27E64EB893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0D8EDAB-992B-44DD-8737-5475A1573FB3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8D2B283-8956-4C53-9943-03DF4F190E1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3A71F-A3E7-4E67-BC7F-8AC63445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DBE7C73-30AC-4C7D-B756-BB6D57AEFFE0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3E0F091-7479-4185-824C-16EEF220D24B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CE2E374-3B69-46D1-B86A-F18A2AEB62B7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C2F6D71-CBCC-43A5-B93F-749E2DC862EF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ACBFA1E-8516-4A1B-A075-36B3F988AACD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BEBCFE9-44A1-43C4-A112-3832AFD673D7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41FE0F2-A24D-460C-9746-EE5E3AA5956C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C114E03-7183-416D-B054-D28536020F32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2FC8969-FB79-42C9-978E-3290CC318FC1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5B91EC2-E71D-4C4D-9F68-0BB1A0F01B5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BA881-2DD7-4FBF-8D04-EA9F021B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1A33C50-E5EB-4AEA-A0E1-AF699C6C3280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E9A39F0-510F-4437-AD6E-E98746316688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B1512D26-D027-4525-8760-F4048746AC2A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4FE801D1-789D-43DC-ACEA-26A70F0571A0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D1D4668-3E4B-4114-9DE2-C23E2E92DF45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49901148-D62B-4F53-BD7A-EE1CAD6316A2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E6A9ECA-BF11-4531-A906-2B9B65559A5E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120BD65-9460-499F-B7BD-657DFC595525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8E859B7-C233-475A-A4B7-165B5DF8CB31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71F53AB-F1B1-4723-B6F4-E4211815493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7DEF6-1982-4B77-8C08-2FB3B095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F097829-1BBD-45E9-8E9C-8CACCCB3DF15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F566967-CF73-4339-A796-EAECD0CC6E6B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7A7EE2B-9F6B-482D-A3F0-31AEDF26F96D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9287975-ACAD-4C81-987A-0C62D02D0EE0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E07C78B-FA66-48CE-95EC-E2BD93F817B5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83FD192-4FA8-48E4-9F9E-A41BB685D1E5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631E5B5-8084-4C6B-8ECE-B94606707F1D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A1DF06C-0880-4628-8650-E90696C02149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19FD7D7-E4B3-444A-B7D1-418D874DB68A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9612BEB-19B0-4D8D-BE9F-2BC8AFA7066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072C5-4001-434F-8839-E51EF21C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BA7A29E-B4B8-4E72-9F8E-8D1E3BE3828B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E36C893-0896-45D7-AC10-595D2227051C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1FD6178-B68C-41D2-A8DD-5758A5C8293C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FC8FB1B-2D2B-43A2-B1D6-4FF4A121F3FE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61830F6-35DA-450A-A059-5E120A2DA30D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EDBC2C2-520E-4050-9E7F-47986D611DB3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ECD4F14D-0A04-4459-80AA-0EECE4D23111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86719A5-74DD-4D14-8D57-BEF1FD8E24ED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A6460DE-6175-433B-86C2-D76F2645B0C4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B13FC86-E483-4DDC-A9DF-F599F622A39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271CF-7CDA-4AD2-9F5C-79A78188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5AA7BA8-457A-4ADF-B3CF-30CFFC778979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975C2F4-23CB-4E64-BDBC-E3366D4929C6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1E377E4-95DB-4DA4-95F3-C1D93C8FB182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7772821-D55D-47F8-86BB-7E635C5FE9B0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3D766031-91D0-4456-A2A8-7BCFA249F8D4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F2575021-DA6D-4B3C-BD4D-5F0AA37B0701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BB38E74-9EAA-40C2-B035-97F23E5C182C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C2BF41F-D562-4097-84CF-2D4D44BAA780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559E538-BA98-4AD6-9E74-F7CEDE2EA21E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82D4978-99BA-42EA-B0A9-AD87B4E00FB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0FC0E-6A00-4C5A-8DA9-C48910C4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0C66AD2-7710-405C-898F-1D551FF2F323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7DE0CD8-6A24-43F4-9F1B-E715A429B011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D5CA885-74C4-499B-ADD5-165E5CBE66B6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C2FC226-D8B5-4AEB-9A58-89DCAF132AD2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6841426-74B6-4397-9645-BFCAEC84A76E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6E05AF3-6A0C-4F87-8CF8-F444D85D303F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E3C0503-BA7D-4CE4-A6D1-F3E3EB6FFF6A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7215786-ADC7-45FA-A67D-81FE4AFC3F21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9232B56-3C20-4B48-9A49-0F88102A1976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CA1F591-69A8-4505-8C94-827ACE6FF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8E54-C25E-4A3E-B8DE-C4B38045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DA2A3-B4A0-45FC-B1EF-B1DBFE10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E79736F-3BC3-49BA-B671-0C1B814C455F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8468DB1-9378-4B21-97C5-84C6C90821DB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A7B5E6E-6167-4E5B-9534-F54CE5DA4492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3515520-4BA6-4F39-8374-AC553A8CAF38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8665E59-209C-4374-8FBD-A6DABD314D87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2D7EAAB-86F1-4DAE-8ADF-67ADD4649029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03ADF75-5F2E-4921-890A-9A5249672CBF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094631C-BA33-4E84-B355-F8363EF5607B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4171BA7-D6C3-471D-B0A9-81B57B67F335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CC82CFEB-A3F1-48FA-8E99-504B538C0BB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BAD81-5C24-4FFE-92C9-7B000E90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5E6C868D-F2B9-404F-942E-FA378A310549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345C58CD-93C2-457A-A9AB-5A892FC6D611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35F154BA-CECD-4F54-AE98-711BC4B226FF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5536DA4C-2E9F-4481-A2EF-B79906729AE6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2C67BEA6-590A-40AA-9272-EB823698EEFA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36EBF251-B1A9-46FB-91A9-BC25BFDC7FBD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7A04C5AA-C4FD-413F-B761-7AB225159303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DDB7924F-DEAF-46F8-B936-ECF8558704EF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E58CFB59-C249-4E4E-AAD4-6EB9BE1168BC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8ECCBE03-3421-4947-9D26-D4B2F86771F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5DE1E-C61B-4658-BBEA-A06FDBDA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417A3237-7323-4AFD-A0CD-29CCBBFFC94F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67E65C0-B92E-44D5-ACE2-A009AEEABED8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73E89BC-1FA1-4107-A1A7-3C6E48382B62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77A2A32-7CDF-4B9C-9800-04D5FF3E8E5E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FA36F1D-8BE2-4842-B34F-29EFF1BB2C9D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F5ABE40-EAA2-4B67-BED4-220DDF1311F7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CA30642-0C1A-4FA2-BA03-6EFE4E914292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52C04F2-6228-433C-975B-92D0FD3770AB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A321C0C-0213-437B-83E1-5D0DE6F57F70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F0F20BE-672C-405F-B678-C576F6BE1E8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395E2AE-D73B-450F-BBD0-A15795868491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F65F835-4494-4D73-839C-3F269CAEA503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DAB8879-43F9-499F-8484-8267D82A9B3D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E1FF8DB-494A-4B57-A7D8-D1C58301E651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58E09B3-6338-4B08-BBD6-40D4BB01B363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76FE1B7-6D62-43D6-9D7B-C9A52B65D1FA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E104620-AB48-4E99-96A3-0796480258E7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A44B9B0-05C5-49A3-83B9-184F9968AF14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71C2ABA-90A2-426A-ABDA-F885297D6B02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467BF03-4DFE-4CAF-95AA-EA509AC0A71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D4F8882-3F24-4292-AC89-AFFEBCEF7898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191B8B5-5508-4923-AD89-6486E24F4264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75842A7-8774-419F-B345-F9C203AC2A6F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9A4AF71-A313-496B-8765-C8CB55780B0B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D174D94-6E9F-4C55-B3A6-11150AD5EC02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4EBF2C6-0C87-46F6-9AC4-DDC253BA670C}" type="slidenum">
              <a:t>&lt;#&gt;</a:t>
            </a:fld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AA81EFB-4B28-460B-A5C9-C26BE1365DE5}" type="slidenum">
              <a:t>&lt;#&gt;</a:t>
            </a:fld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974BFA8-3057-438F-8146-CB194AC43B54}" type="slidenum">
              <a:t>&lt;#&gt;</a:t>
            </a:fld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28E95D8F-8A2C-4690-B290-E8E182B3640F}" type="slidenum">
              <a:t>&lt;#&gt;</a:t>
            </a:fld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AFC1784-2FE6-4CD6-B4AA-30FE62FA9F2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AE8F89C-8376-4B22-AF02-C9DAE7E2B91F}" type="slidenum">
              <a:t>&lt;#&gt;</a:t>
            </a:fld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846C6C3-42D5-4D4B-8F0E-29FC2FE0696F}" type="slidenum">
              <a:t>&lt;#&gt;</a:t>
            </a:fld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6442440-8182-4082-9BFF-DB36C9DB0CDF}" type="slidenum">
              <a:t>&lt;#&gt;</a:t>
            </a:fld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AF5DB89-5863-43FE-BE61-EECB71C7E1E1}" type="slidenum">
              <a:t>&lt;#&gt;</a:t>
            </a:fld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FE8B81B-8855-4806-986F-0E58A5DCCEF4}" type="slidenum">
              <a:t>&lt;#&gt;</a:t>
            </a:fld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B263040-6D38-4520-8DEC-45C5ACB49CB1}" type="slidenum">
              <a:t>&lt;#&gt;</a:t>
            </a:fld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D037B33-7BE9-4283-AC68-F2189D858E8B}" type="slidenum">
              <a:t>&lt;#&gt;</a:t>
            </a:fld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F041B0C-D059-48D3-A531-99434F8F9672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790396A-3CC4-45F0-BF4C-95168D323493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7BC0530-3986-442A-A174-F5DECBE193A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D48C90C-9CC2-43A2-ADAE-AFDBC52CAA00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CDCFD40-BCA4-44AA-8F4D-96A538281C63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9085A64-4CFA-481E-9064-495AFD7E66C2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785B2CD-AA9F-4475-B3C0-3FD58C83609C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3A4CD81-7115-4527-9705-68B71019C1F7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CB9EBDB-9540-4BB6-B7D3-4C79A7E01498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6AFF9D3-81D6-4DB4-87DE-E4A63B8489AC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E27471F-8B0A-4430-88C4-428EDC290208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F4EF4F6-6BB4-4543-AAEE-9F5969FE977F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D91E10C-A97A-42DA-838C-1EB0832062A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0E1A0FA-8043-4ACE-8D9D-9D1D68E37EB6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096CFB5-1364-40D3-8612-A4B68A8A561B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53677E6-9FEF-4081-A66D-E0D4EC0F545E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96BBDC1-B496-495B-8656-EAA03CC20205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8B5A869-0CD2-4E76-B30A-1DA3BC6CB95C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1907AE6-C3A4-4B98-ABD1-C0B8EE3F4654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41E50F0-B7B6-4C77-9624-EB12A8C14A28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8ED9065-65BF-4D0A-9E71-BEFFA9DA52FA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E5972C4-77AC-405B-82C1-ECCE38EAD1D7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078E5D0-95AF-4B12-8F76-CD2708F23D5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481EA07-EF35-43DF-88D1-A1C503375F47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B0EDF168-7BE3-41AC-ADE6-13156D7BFD44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A3D04E57-B51D-4864-8063-7C0D2A099CDA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C1AA0410-413F-47FF-9F6F-BC896FC21327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5F695672-D6D0-4942-B77E-4932E1A0FD9D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56892619-692E-4F3D-9D90-BF6244526289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A41C96D2-188A-4D19-8902-60F0894E1050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17EE79CE-A1E9-494A-B76B-CE0746D67A4B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F2031EA6-5077-4953-ACE2-45EACBE7FF67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03E9FB58-A865-4BE4-85D8-9B593A562B3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325E0EB5-100F-447B-90C0-D776D89EDAAB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8C4AA85F-1B46-4C24-9EB3-70D49979B712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D5945F83-D6DA-41B6-800F-B942CDD36CA6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5C8C438-F111-44D3-83E8-DE7B7D6C307B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6BBDB38-3449-4B96-A2DD-D4F408B7B043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2C1D238-11E6-4DDF-B0F9-9B0070B2FEBA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39DF28D-736A-4D6D-AB30-C9329C109177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A4075A28-1F6D-463A-99BB-3C69B970E803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01EE169-0437-4163-88A9-376074452F26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08053C9-2D87-4286-85F6-C63D971AE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225F-5A40-49F4-8B81-3C9D435F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68AD140-97AB-49B9-AA01-03518D4022E3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D9F8279-DD32-4D72-8476-26C2210F9D64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71D4998-72D5-4E1D-A25F-4ADC89A9C142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9B8B4C0B-7451-4A53-8468-C572EA2AC767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F5FCD6E-C26E-4EA8-B1B8-042D2C871D17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2841FD3-6DF1-4E1F-80C7-6F00EDC233CD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68CFF3D-AD9B-4AD7-BF87-1DABE10B6098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AD366F6-0C6C-4D45-8943-8074B53B8D0E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3FDB090-F10E-466F-A92C-4B14AFDD0540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6AC62FB-860F-4F53-8CD4-CE3D457E71D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BE35BE3-D748-4A40-ACB7-B5647EC08533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5DB52CD-F20C-402A-A96E-5EF02DCF275E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C73313C-C215-4332-B6AF-DD4C68C0A5BB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FC05459-2473-41C1-9586-7C7F418BA30D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7B430BA-87F4-497D-A038-556DA5A8B3BE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44DE8FA-C33F-495D-9C6F-00A0DB81A70F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F855F0F-C772-4DFA-B7B2-838C9F94E700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8241C8D0-CDF8-4B42-9FB6-7B449172ADB8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63F763F0-529F-407E-B32D-B02BC67843B4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E4025EC2-3AD6-4572-8C1E-2963DEA9178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5B0F170E-770D-484C-A815-2B88D78E7921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0864F6C9-5850-498A-ACCC-07E77A134E15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538AAF3C-A3BD-4DC6-8C63-7AA8CC06530F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1B887982-9FDA-4C14-AADF-72F19D49BA79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BF798C2D-9469-477D-AD7E-CA1BE0AEDFC1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F90C4F38-F621-4657-8C1A-D5D988A09177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418285F7-A1B5-4354-BF76-7B2FE12B8844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C33CFB94-7571-47CE-9EDA-36F93B6298B1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3C493033-69EE-4B00-A31D-AD7FC407FEB7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BBB876E-6EC5-4443-B462-AE2B73A5074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24629B2-5675-4D7B-9FCB-E6CA34AE1B98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242637B-A89D-4786-8806-2C9974B11227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6EBA88E-B1C8-48D5-9E93-F4EC3C9E99C4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3077FBE-4C59-4008-928D-03FE3A880762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0122F81-48CE-4542-96D6-E68076E4E2C1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A88227F-412F-41E5-A086-D7E16A27384B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08DA9ED9-B150-4D9A-BF24-B681B9791346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79F8E6C-B904-4FB0-96D7-B5FDF2B29206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50576DE-D9C7-4B81-9A1E-C21FEE08F061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CD7E91F-C71E-4CEB-BF54-3B673636187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8D29512-A1D3-421A-80FF-759160DA2CBF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D9F5E2F-4B16-4E25-A81A-FC96DD1B40FA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C9B10C6-5D5F-467A-99A8-D29B5B594B32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B98F844-0F55-45CA-8661-4A06835FFEFE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0DD9EAE-579A-451D-8553-6ABA05B4EE90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6C14528-D529-4EF2-9802-5AAB825516DD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596F5D9-2B1D-40DC-8D07-4D125D1DF15B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B3BD879-1347-4F6B-961A-F101EDDD1747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90098FF-902E-4CD1-A6D7-605858AB564D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D242E4F-7C83-4139-83DD-D3A38113158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C358A62-A406-4491-8345-0E0E41A5F18A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EE3646C-F1E8-48F3-9C4A-0AEBF66BCFB3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91E72ED-411F-41C9-8092-FDF941729F2F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DA80340A-FE19-4C1A-BEAB-4B4E9A3C211E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51EB84CB-4577-4F26-8C9E-7F7650B8BF22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6B6ED7C6-58E0-44D9-A736-4D6F00C8166B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55BC4E30-41D9-4917-AA8F-8EAA1EDE10B8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DE020E4B-B689-4895-AFAC-52ADB3AEE598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483C607E-8EFE-48D6-9E81-C18C77B27AB2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01DE5927-58D0-403F-BE8B-619F9F5C52D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5739D9A7-E371-4690-BAED-CCA7B5CA84B7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72FDF272-1B9B-4086-8730-B9D8635A535C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01A442F5-985F-480C-93F5-902B94C8973D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55D10550-C1DC-4362-8440-BE15A88CCA8A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70C3B0AF-25F4-438B-B297-3DE1981874B4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60BC256-5D53-48E4-A46D-9F6A178C8683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BFE4CD8-D834-4C41-8557-37DB1D15FA6A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B5069BF-2B9F-4BE1-A416-8E1AF8AC82E7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D7D0398-65FA-4062-8810-715BF1597241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CF99D63-B197-4FEF-8313-CF0145D3516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BC2500BE-614F-48EE-9830-5FA2A2218F3F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8869D9F-E1D5-49E8-9D6F-171202497572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46EAF9D-0153-44D1-8868-ECC326EEDCAD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D622E27-7F40-4035-8E8F-7D9AEC4E21B7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33966EC-44FB-415A-BD5C-B6D92C8E9F1A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1654672-DFF2-4D53-B09F-47D62803E43D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99C0FBF-3EF1-45E4-8177-7106962784A9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82F4630-0CC2-496B-B6CB-9CEDC8C334F4}" type="slidenum">
              <a:t>&lt;#&gt;</a:t>
            </a:fld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280E4B8-E8D7-4DC5-82F0-BC5BC018D1DA}" type="slidenum">
              <a:t>&lt;#&gt;</a:t>
            </a:fld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BE6AC7C-B692-4BB4-8691-AF7F89D61BA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52BB0CF-73B1-41A3-B885-9C44514906E0}" type="slidenum">
              <a:t>&lt;#&gt;</a:t>
            </a:fld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9E14185-7302-4F49-BC6B-7A6CD48075D7}" type="slidenum">
              <a:t>&lt;#&gt;</a:t>
            </a:fld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3578E2E-BC6F-447F-B2D7-6C9535BF8A58}" type="slidenum">
              <a:t>&lt;#&gt;</a:t>
            </a:fld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E42FEBD-9BF8-4118-8AB0-50B975A92C76}" type="slidenum">
              <a:t>&lt;#&gt;</a:t>
            </a:fld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87D1680-6EC0-41F6-AEAD-6828ABBB7CC6}" type="slidenum">
              <a:t>&lt;#&gt;</a:t>
            </a:fld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3D8D653-8FD9-4F46-BD1C-4099811C13CB}" type="slidenum">
              <a:t>&lt;#&gt;</a:t>
            </a:fld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D354A8C-7DA1-4E01-8B8F-5EACC83D11DD}" type="slidenum">
              <a:t>&lt;#&gt;</a:t>
            </a:fld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9A6C75A-6387-46CC-A2E9-9B75D6FD8EDF}" type="slidenum">
              <a:t>&lt;#&gt;</a:t>
            </a:fld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AE58157-647F-40BE-A03F-4CD01DD7C819}" type="slidenum">
              <a:t>&lt;#&gt;</a:t>
            </a:fld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D6981D79-F7AB-4747-B4CE-33FE8FD430D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96AB5D77-5B4E-494A-8AD9-9BB5F04E0355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C4D19865-6C49-4CF3-8C24-D8A4665F66C6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6799CDF8-6134-4290-A17D-B138C1FCB508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1EECA2D9-494F-484A-905B-8D5A437EEDEB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6423CAC9-F559-4780-A2C7-61438E4824F5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89BA203B-7243-4023-811E-163440E01FCE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0AC2C94D-451F-4923-A55D-3D79CBA63A82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B917A987-5ABF-45CD-B6A2-D25EB14E49B2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46E6F9B0-DC4F-4C88-9A5F-351E66F571C3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9EB3FB82-A857-49BB-87E7-A508508A4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9791-2EA8-49C6-BD4D-5D8D98C4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B28ADCCA-BB13-4CBA-9221-F071C9C4AE69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74FF1DB-B232-46E4-8BF9-32631D3615F2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E3EC974-C91F-465A-8053-BFACE3DED418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118F852-F395-4CEC-AC22-34959B81995A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F138FBD-3B98-479C-B45D-7D013D66F1B6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3E6AA27-BB71-44F3-9D98-5F23CE889279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24F97A1-A9D3-4B81-8FA9-6A92CD7BF02E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EB72353-AD72-4302-AD44-0D42A115F17A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F87C14C-2180-4948-A3B0-886180515C5F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7786052-A619-4267-ACBD-4CB54E9DED2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9C59E36-BDDC-49E3-A69A-D5BFD2D3C0B1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5162638-D34F-44F9-A8B5-BD6CA45B38F1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1B944F32-B1E7-4522-8D2F-215ECF10A5D2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4C7FF04-350E-4F3E-BFAC-89B08269A804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DA43B48-6B26-4BB5-B253-9E1925A6BB3F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68632A6-A7E6-4DFB-A847-99BE5682F6F5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A4B233F-132D-4843-A8A1-FD78358E4BA8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FC1E1F5-E3DE-4D65-A851-A8EC2EC529CA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AE175A0-0B1E-4A65-A0E7-D1112DDB8CC0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008C5F4-74B2-4D93-BDCD-F7223A15BCF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8FB4430-BDD4-475F-9A8D-0BBCA7A35F1C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AEA0C30-7EC5-409D-A818-546550965B09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66BF60C-6C11-4591-ADC4-674F610D8A25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98016D5-05CE-4130-A72F-728FAEA50A32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90A2DEC-07A0-449B-8848-DA51412079BB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00AAC00-B145-48AB-8428-66F2C9C7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C787554-7061-44D9-8D12-8EC76CCE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213ECF2-7392-4BDF-8AE0-DF8F784D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D0A273B-E735-4015-BFFD-29644F44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1A82EC6-C9F0-4F9D-8178-1279F89E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438A53C-C550-4A13-864E-C8EAF839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4AB50D2-2DFD-49E6-8066-A80F2F97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EA845AE-A5A8-47CE-9247-080E7FA9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6657422-49B1-4298-A455-661BEC29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F21D749-22F2-4AB0-83C2-95BD17F2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9FBAE18-E3B8-47A6-9E63-FDC30578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86CEB58-2057-4271-AC75-3741CB6F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501ABC6-2990-45BE-A8F8-27B570A2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FD3861C-6D1E-4D16-B1D0-C9076E43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9C69352-2833-49E4-A209-25B201C2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F64284B-FA33-43AE-B913-F9251C61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E06DB72-74D6-4523-80F6-DC5605B0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2A46E85-607C-48EB-B161-6857FCB6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EE7852A-E750-4001-B12B-DE5E7FA0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FC7367F-0AA1-4BDC-A615-E0C5A511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7FB74AB5-F87B-4DD3-AAFE-D8C252A7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99B1133-3ECC-41F2-9D3F-5E1CA7DA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87951DA-0B53-4F29-9EFC-61FB6918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BF63AEA-7C6D-4641-AC28-705686DA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919BA31-2FC0-4FE7-BC6D-D1B2EE4F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65FD224-6F58-4536-9AF4-B0E69779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3F4C07A-BB9F-41B7-B1EB-AAB952FF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4A28285-EF34-409A-A39C-800E3C6A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63D425E-C439-45BC-B365-51B3CC7D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4557715-AFB7-4400-856C-036306E0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410C74B-0D99-4097-AEAA-3BDB3736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FDCC14E-F77F-452F-A7A1-19DC7E62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082D35D-3860-499E-A7CA-950F4DB8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3C015D0-8881-4E8E-BCE1-722624C4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2B07ADA-469A-4720-973F-DBEBDE78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EF059B0E-372F-430C-BE8C-76979F04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662C9676-CE5D-4BF7-BB6E-0EAF621B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68D46DCF-B64F-43F8-9625-EA6FC98F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A33F298F-54EE-41B7-BB39-B2C23DA3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63EB131E-2E6A-4254-8C4A-09632842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D712D2E9-EE11-4541-B8D6-F0995BCD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CACB9B85-5343-448C-9877-1C3295A7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05841B94-3682-4A37-ACDA-3E1EBD24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A8C442A4-6B8E-4135-85F0-75422B7E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8AFA41F8-7F2A-44E3-9947-CDAC5914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57B7BC-92A9-42E6-AF9E-48A696645640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4AE17A5D-DEBB-46E0-ADCD-6D911FE3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89484E9F-B447-4ADB-B236-628E694F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B7DF63D0-D3FF-4E6F-B34C-CE36A1F2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686235B1-6361-4748-82F7-E1339681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0BACC6FC-9871-4E63-A9E7-A56AB764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AFDD2381-C303-4FDC-B8EB-813EAF32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AF28659F-3BCE-4FF5-9FE3-BC7F16ED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7DB5AF6A-6538-401E-BC89-3F84162E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3D7DB507-8996-4C26-92D0-F0FA778A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32672441-F2ED-467E-B18D-360E4E52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03036E-F5D5-4B17-ADE0-F2DB5BEB2453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9CEE6144-6221-4B35-8B55-30C7AAF2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21309451-628D-4A9F-8EBB-B4A66BD3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9287A6FF-913D-404F-A436-E058C1E8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7406B5D0-2A0D-4B04-B51A-31FB9636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CA778A78-FCE0-4402-A150-DA27C664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E8483804-ECB7-4D46-91D4-B278F6D5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2D59B63B-5989-4017-B766-9B118950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3E1A6C87-FD0E-4F2B-9281-8530BDDF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9B8290D4-21DD-4401-B9A5-40425580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A44D40A3-FCD7-4B0C-A7CF-57C937EE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65BA47-9DCA-4D99-869D-AB8493C77DBB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1C63666C-A173-41E1-8D37-98F5317A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75E9ADA0-0596-41CA-BDE4-965E3495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45F7F464-5B3A-42AC-930F-987B068F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F504E49B-78D8-41BC-B6D2-E0C63554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C34F2199-B0BC-45D9-9B54-0AFB5512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367D847B-2392-450E-8DAF-8A272655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7A16B5E5-7208-41BF-9969-3926B2D9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D9FB27B5-59B4-428E-89A0-B13D4FB5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C6EAF882-0F68-4F8F-BC69-7AC12470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54A186EF-3101-454B-A0A9-7D933A0B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89.xml"/><Relationship Id="rId4" Type="http://schemas.openxmlformats.org/officeDocument/2006/relationships/slideLayout" Target="../slideLayouts/slideLayout1190.xml"/><Relationship Id="rId5" Type="http://schemas.openxmlformats.org/officeDocument/2006/relationships/slideLayout" Target="../slideLayouts/slideLayout1191.xml"/><Relationship Id="rId6" Type="http://schemas.openxmlformats.org/officeDocument/2006/relationships/slideLayout" Target="../slideLayouts/slideLayout1192.xml"/><Relationship Id="rId7" Type="http://schemas.openxmlformats.org/officeDocument/2006/relationships/slideLayout" Target="../slideLayouts/slideLayout1193.xml"/><Relationship Id="rId8" Type="http://schemas.openxmlformats.org/officeDocument/2006/relationships/slideLayout" Target="../slideLayouts/slideLayout1194.xml"/><Relationship Id="rId9" Type="http://schemas.openxmlformats.org/officeDocument/2006/relationships/slideLayout" Target="../slideLayouts/slideLayout1195.xml"/><Relationship Id="rId10" Type="http://schemas.openxmlformats.org/officeDocument/2006/relationships/slideLayout" Target="../slideLayouts/slideLayout1196.xml"/><Relationship Id="rId11" Type="http://schemas.openxmlformats.org/officeDocument/2006/relationships/slideLayout" Target="../slideLayouts/slideLayout1197.xml"/><Relationship Id="rId12" Type="http://schemas.openxmlformats.org/officeDocument/2006/relationships/slideLayout" Target="../slideLayouts/slideLayout1198.xml"/><Relationship Id="rId13" Type="http://schemas.openxmlformats.org/officeDocument/2006/relationships/slideLayout" Target="../slideLayouts/slideLayout1199.xml"/><Relationship Id="rId14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01.xml"/><Relationship Id="rId4" Type="http://schemas.openxmlformats.org/officeDocument/2006/relationships/slideLayout" Target="../slideLayouts/slideLayout1202.xml"/><Relationship Id="rId5" Type="http://schemas.openxmlformats.org/officeDocument/2006/relationships/slideLayout" Target="../slideLayouts/slideLayout1203.xml"/><Relationship Id="rId6" Type="http://schemas.openxmlformats.org/officeDocument/2006/relationships/slideLayout" Target="../slideLayouts/slideLayout1204.xml"/><Relationship Id="rId7" Type="http://schemas.openxmlformats.org/officeDocument/2006/relationships/slideLayout" Target="../slideLayouts/slideLayout1205.xml"/><Relationship Id="rId8" Type="http://schemas.openxmlformats.org/officeDocument/2006/relationships/slideLayout" Target="../slideLayouts/slideLayout1206.xml"/><Relationship Id="rId9" Type="http://schemas.openxmlformats.org/officeDocument/2006/relationships/slideLayout" Target="../slideLayouts/slideLayout1207.xml"/><Relationship Id="rId10" Type="http://schemas.openxmlformats.org/officeDocument/2006/relationships/slideLayout" Target="../slideLayouts/slideLayout1208.xml"/><Relationship Id="rId11" Type="http://schemas.openxmlformats.org/officeDocument/2006/relationships/slideLayout" Target="../slideLayouts/slideLayout1209.xml"/><Relationship Id="rId12" Type="http://schemas.openxmlformats.org/officeDocument/2006/relationships/slideLayout" Target="../slideLayouts/slideLayout1210.xml"/><Relationship Id="rId13" Type="http://schemas.openxmlformats.org/officeDocument/2006/relationships/slideLayout" Target="../slideLayouts/slideLayout1211.xml"/><Relationship Id="rId14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3.xml"/><Relationship Id="rId4" Type="http://schemas.openxmlformats.org/officeDocument/2006/relationships/slideLayout" Target="../slideLayouts/slideLayout1214.xml"/><Relationship Id="rId5" Type="http://schemas.openxmlformats.org/officeDocument/2006/relationships/slideLayout" Target="../slideLayouts/slideLayout1215.xml"/><Relationship Id="rId6" Type="http://schemas.openxmlformats.org/officeDocument/2006/relationships/slideLayout" Target="../slideLayouts/slideLayout1216.xml"/><Relationship Id="rId7" Type="http://schemas.openxmlformats.org/officeDocument/2006/relationships/slideLayout" Target="../slideLayouts/slideLayout1217.xml"/><Relationship Id="rId8" Type="http://schemas.openxmlformats.org/officeDocument/2006/relationships/slideLayout" Target="../slideLayouts/slideLayout1218.xml"/><Relationship Id="rId9" Type="http://schemas.openxmlformats.org/officeDocument/2006/relationships/slideLayout" Target="../slideLayouts/slideLayout1219.xml"/><Relationship Id="rId10" Type="http://schemas.openxmlformats.org/officeDocument/2006/relationships/slideLayout" Target="../slideLayouts/slideLayout1220.xml"/><Relationship Id="rId11" Type="http://schemas.openxmlformats.org/officeDocument/2006/relationships/slideLayout" Target="../slideLayouts/slideLayout1221.xml"/><Relationship Id="rId12" Type="http://schemas.openxmlformats.org/officeDocument/2006/relationships/slideLayout" Target="../slideLayouts/slideLayout1222.xml"/><Relationship Id="rId13" Type="http://schemas.openxmlformats.org/officeDocument/2006/relationships/slideLayout" Target="../slideLayouts/slideLayout1223.xml"/><Relationship Id="rId14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25.xml"/><Relationship Id="rId4" Type="http://schemas.openxmlformats.org/officeDocument/2006/relationships/slideLayout" Target="../slideLayouts/slideLayout1226.xml"/><Relationship Id="rId5" Type="http://schemas.openxmlformats.org/officeDocument/2006/relationships/slideLayout" Target="../slideLayouts/slideLayout1227.xml"/><Relationship Id="rId6" Type="http://schemas.openxmlformats.org/officeDocument/2006/relationships/slideLayout" Target="../slideLayouts/slideLayout1228.xml"/><Relationship Id="rId7" Type="http://schemas.openxmlformats.org/officeDocument/2006/relationships/slideLayout" Target="../slideLayouts/slideLayout1229.xml"/><Relationship Id="rId8" Type="http://schemas.openxmlformats.org/officeDocument/2006/relationships/slideLayout" Target="../slideLayouts/slideLayout1230.xml"/><Relationship Id="rId9" Type="http://schemas.openxmlformats.org/officeDocument/2006/relationships/slideLayout" Target="../slideLayouts/slideLayout1231.xml"/><Relationship Id="rId10" Type="http://schemas.openxmlformats.org/officeDocument/2006/relationships/slideLayout" Target="../slideLayouts/slideLayout1232.xml"/><Relationship Id="rId11" Type="http://schemas.openxmlformats.org/officeDocument/2006/relationships/slideLayout" Target="../slideLayouts/slideLayout1233.xml"/><Relationship Id="rId12" Type="http://schemas.openxmlformats.org/officeDocument/2006/relationships/slideLayout" Target="../slideLayouts/slideLayout1234.xml"/><Relationship Id="rId13" Type="http://schemas.openxmlformats.org/officeDocument/2006/relationships/slideLayout" Target="../slideLayouts/slideLayout1235.xml"/><Relationship Id="rId14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37.xml"/><Relationship Id="rId4" Type="http://schemas.openxmlformats.org/officeDocument/2006/relationships/slideLayout" Target="../slideLayouts/slideLayout1238.xml"/><Relationship Id="rId5" Type="http://schemas.openxmlformats.org/officeDocument/2006/relationships/slideLayout" Target="../slideLayouts/slideLayout1239.xml"/><Relationship Id="rId6" Type="http://schemas.openxmlformats.org/officeDocument/2006/relationships/slideLayout" Target="../slideLayouts/slideLayout1240.xml"/><Relationship Id="rId7" Type="http://schemas.openxmlformats.org/officeDocument/2006/relationships/slideLayout" Target="../slideLayouts/slideLayout1241.xml"/><Relationship Id="rId8" Type="http://schemas.openxmlformats.org/officeDocument/2006/relationships/slideLayout" Target="../slideLayouts/slideLayout1242.xml"/><Relationship Id="rId9" Type="http://schemas.openxmlformats.org/officeDocument/2006/relationships/slideLayout" Target="../slideLayouts/slideLayout1243.xml"/><Relationship Id="rId10" Type="http://schemas.openxmlformats.org/officeDocument/2006/relationships/slideLayout" Target="../slideLayouts/slideLayout1244.xml"/><Relationship Id="rId11" Type="http://schemas.openxmlformats.org/officeDocument/2006/relationships/slideLayout" Target="../slideLayouts/slideLayout1245.xml"/><Relationship Id="rId12" Type="http://schemas.openxmlformats.org/officeDocument/2006/relationships/slideLayout" Target="../slideLayouts/slideLayout1246.xml"/><Relationship Id="rId13" Type="http://schemas.openxmlformats.org/officeDocument/2006/relationships/slideLayout" Target="../slideLayouts/slideLayout1247.xml"/><Relationship Id="rId14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49.xml"/><Relationship Id="rId4" Type="http://schemas.openxmlformats.org/officeDocument/2006/relationships/slideLayout" Target="../slideLayouts/slideLayout1250.xml"/><Relationship Id="rId5" Type="http://schemas.openxmlformats.org/officeDocument/2006/relationships/slideLayout" Target="../slideLayouts/slideLayout1251.xml"/><Relationship Id="rId6" Type="http://schemas.openxmlformats.org/officeDocument/2006/relationships/slideLayout" Target="../slideLayouts/slideLayout1252.xml"/><Relationship Id="rId7" Type="http://schemas.openxmlformats.org/officeDocument/2006/relationships/slideLayout" Target="../slideLayouts/slideLayout1253.xml"/><Relationship Id="rId8" Type="http://schemas.openxmlformats.org/officeDocument/2006/relationships/slideLayout" Target="../slideLayouts/slideLayout1254.xml"/><Relationship Id="rId9" Type="http://schemas.openxmlformats.org/officeDocument/2006/relationships/slideLayout" Target="../slideLayouts/slideLayout1255.xml"/><Relationship Id="rId10" Type="http://schemas.openxmlformats.org/officeDocument/2006/relationships/slideLayout" Target="../slideLayouts/slideLayout1256.xml"/><Relationship Id="rId11" Type="http://schemas.openxmlformats.org/officeDocument/2006/relationships/slideLayout" Target="../slideLayouts/slideLayout1257.xml"/><Relationship Id="rId12" Type="http://schemas.openxmlformats.org/officeDocument/2006/relationships/slideLayout" Target="../slideLayouts/slideLayout1258.xml"/><Relationship Id="rId13" Type="http://schemas.openxmlformats.org/officeDocument/2006/relationships/slideLayout" Target="../slideLayouts/slideLayout1259.xml"/><Relationship Id="rId14" Type="http://schemas.openxmlformats.org/officeDocument/2006/relationships/slideLayout" Target="../slideLayouts/slideLayout126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89.xml"/><Relationship Id="rId6" Type="http://schemas.openxmlformats.org/officeDocument/2006/relationships/slideLayout" Target="../slideLayouts/slideLayout590.xml"/><Relationship Id="rId7" Type="http://schemas.openxmlformats.org/officeDocument/2006/relationships/slideLayout" Target="../slideLayouts/slideLayout591.xml"/><Relationship Id="rId8" Type="http://schemas.openxmlformats.org/officeDocument/2006/relationships/slideLayout" Target="../slideLayouts/slideLayout592.xml"/><Relationship Id="rId9" Type="http://schemas.openxmlformats.org/officeDocument/2006/relationships/slideLayout" Target="../slideLayouts/slideLayout593.xml"/><Relationship Id="rId10" Type="http://schemas.openxmlformats.org/officeDocument/2006/relationships/slideLayout" Target="../slideLayouts/slideLayout594.xml"/><Relationship Id="rId11" Type="http://schemas.openxmlformats.org/officeDocument/2006/relationships/slideLayout" Target="../slideLayouts/slideLayout595.xml"/><Relationship Id="rId12" Type="http://schemas.openxmlformats.org/officeDocument/2006/relationships/slideLayout" Target="../slideLayouts/slideLayout596.xml"/><Relationship Id="rId13" Type="http://schemas.openxmlformats.org/officeDocument/2006/relationships/slideLayout" Target="../slideLayouts/slideLayout597.xml"/><Relationship Id="rId14" Type="http://schemas.openxmlformats.org/officeDocument/2006/relationships/slideLayout" Target="../slideLayouts/slideLayout598.xml"/><Relationship Id="rId15" Type="http://schemas.openxmlformats.org/officeDocument/2006/relationships/slideLayout" Target="../slideLayouts/slideLayout599.xml"/><Relationship Id="rId16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5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5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21.xml"/><Relationship Id="rId4" Type="http://schemas.openxmlformats.org/officeDocument/2006/relationships/slideLayout" Target="../slideLayouts/slideLayout1022.xml"/><Relationship Id="rId5" Type="http://schemas.openxmlformats.org/officeDocument/2006/relationships/slideLayout" Target="../slideLayouts/slideLayout1023.xml"/><Relationship Id="rId6" Type="http://schemas.openxmlformats.org/officeDocument/2006/relationships/slideLayout" Target="../slideLayouts/slideLayout1024.xml"/><Relationship Id="rId7" Type="http://schemas.openxmlformats.org/officeDocument/2006/relationships/slideLayout" Target="../slideLayouts/slideLayout1025.xml"/><Relationship Id="rId8" Type="http://schemas.openxmlformats.org/officeDocument/2006/relationships/slideLayout" Target="../slideLayouts/slideLayout1026.xml"/><Relationship Id="rId9" Type="http://schemas.openxmlformats.org/officeDocument/2006/relationships/slideLayout" Target="../slideLayouts/slideLayout1027.xml"/><Relationship Id="rId10" Type="http://schemas.openxmlformats.org/officeDocument/2006/relationships/slideLayout" Target="../slideLayouts/slideLayout1028.xml"/><Relationship Id="rId11" Type="http://schemas.openxmlformats.org/officeDocument/2006/relationships/slideLayout" Target="../slideLayouts/slideLayout1029.xml"/><Relationship Id="rId12" Type="http://schemas.openxmlformats.org/officeDocument/2006/relationships/slideLayout" Target="../slideLayouts/slideLayout1030.xml"/><Relationship Id="rId13" Type="http://schemas.openxmlformats.org/officeDocument/2006/relationships/slideLayout" Target="../slideLayouts/slideLayout1031.xml"/><Relationship Id="rId14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3.xml"/><Relationship Id="rId4" Type="http://schemas.openxmlformats.org/officeDocument/2006/relationships/slideLayout" Target="../slideLayouts/slideLayout1094.xml"/><Relationship Id="rId5" Type="http://schemas.openxmlformats.org/officeDocument/2006/relationships/slideLayout" Target="../slideLayouts/slideLayout1095.xml"/><Relationship Id="rId6" Type="http://schemas.openxmlformats.org/officeDocument/2006/relationships/slideLayout" Target="../slideLayouts/slideLayout1096.xml"/><Relationship Id="rId7" Type="http://schemas.openxmlformats.org/officeDocument/2006/relationships/slideLayout" Target="../slideLayouts/slideLayout1097.xml"/><Relationship Id="rId8" Type="http://schemas.openxmlformats.org/officeDocument/2006/relationships/slideLayout" Target="../slideLayouts/slideLayout1098.xml"/><Relationship Id="rId9" Type="http://schemas.openxmlformats.org/officeDocument/2006/relationships/slideLayout" Target="../slideLayouts/slideLayout1099.xml"/><Relationship Id="rId10" Type="http://schemas.openxmlformats.org/officeDocument/2006/relationships/slideLayout" Target="../slideLayouts/slideLayout1100.xml"/><Relationship Id="rId11" Type="http://schemas.openxmlformats.org/officeDocument/2006/relationships/slideLayout" Target="../slideLayouts/slideLayout1101.xml"/><Relationship Id="rId12" Type="http://schemas.openxmlformats.org/officeDocument/2006/relationships/slideLayout" Target="../slideLayouts/slideLayout1102.xml"/><Relationship Id="rId13" Type="http://schemas.openxmlformats.org/officeDocument/2006/relationships/slideLayout" Target="../slideLayouts/slideLayout1103.xml"/><Relationship Id="rId14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05.xml"/><Relationship Id="rId4" Type="http://schemas.openxmlformats.org/officeDocument/2006/relationships/slideLayout" Target="../slideLayouts/slideLayout1106.xml"/><Relationship Id="rId5" Type="http://schemas.openxmlformats.org/officeDocument/2006/relationships/slideLayout" Target="../slideLayouts/slideLayout1107.xml"/><Relationship Id="rId6" Type="http://schemas.openxmlformats.org/officeDocument/2006/relationships/slideLayout" Target="../slideLayouts/slideLayout1108.xml"/><Relationship Id="rId7" Type="http://schemas.openxmlformats.org/officeDocument/2006/relationships/slideLayout" Target="../slideLayouts/slideLayout1109.xml"/><Relationship Id="rId8" Type="http://schemas.openxmlformats.org/officeDocument/2006/relationships/slideLayout" Target="../slideLayouts/slideLayout1110.xml"/><Relationship Id="rId9" Type="http://schemas.openxmlformats.org/officeDocument/2006/relationships/slideLayout" Target="../slideLayouts/slideLayout1111.xml"/><Relationship Id="rId10" Type="http://schemas.openxmlformats.org/officeDocument/2006/relationships/slideLayout" Target="../slideLayouts/slideLayout1112.xml"/><Relationship Id="rId11" Type="http://schemas.openxmlformats.org/officeDocument/2006/relationships/slideLayout" Target="../slideLayouts/slideLayout1113.xml"/><Relationship Id="rId12" Type="http://schemas.openxmlformats.org/officeDocument/2006/relationships/slideLayout" Target="../slideLayouts/slideLayout1114.xml"/><Relationship Id="rId13" Type="http://schemas.openxmlformats.org/officeDocument/2006/relationships/slideLayout" Target="../slideLayouts/slideLayout1115.xml"/><Relationship Id="rId14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17.xml"/><Relationship Id="rId4" Type="http://schemas.openxmlformats.org/officeDocument/2006/relationships/slideLayout" Target="../slideLayouts/slideLayout1118.xml"/><Relationship Id="rId5" Type="http://schemas.openxmlformats.org/officeDocument/2006/relationships/slideLayout" Target="../slideLayouts/slideLayout1119.xml"/><Relationship Id="rId6" Type="http://schemas.openxmlformats.org/officeDocument/2006/relationships/slideLayout" Target="../slideLayouts/slideLayout1120.xml"/><Relationship Id="rId7" Type="http://schemas.openxmlformats.org/officeDocument/2006/relationships/slideLayout" Target="../slideLayouts/slideLayout1121.xml"/><Relationship Id="rId8" Type="http://schemas.openxmlformats.org/officeDocument/2006/relationships/slideLayout" Target="../slideLayouts/slideLayout1122.xml"/><Relationship Id="rId9" Type="http://schemas.openxmlformats.org/officeDocument/2006/relationships/slideLayout" Target="../slideLayouts/slideLayout1123.xml"/><Relationship Id="rId10" Type="http://schemas.openxmlformats.org/officeDocument/2006/relationships/slideLayout" Target="../slideLayouts/slideLayout1124.xml"/><Relationship Id="rId11" Type="http://schemas.openxmlformats.org/officeDocument/2006/relationships/slideLayout" Target="../slideLayouts/slideLayout1125.xml"/><Relationship Id="rId12" Type="http://schemas.openxmlformats.org/officeDocument/2006/relationships/slideLayout" Target="../slideLayouts/slideLayout1126.xml"/><Relationship Id="rId13" Type="http://schemas.openxmlformats.org/officeDocument/2006/relationships/slideLayout" Target="../slideLayouts/slideLayout1127.xml"/><Relationship Id="rId14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29.xml"/><Relationship Id="rId4" Type="http://schemas.openxmlformats.org/officeDocument/2006/relationships/slideLayout" Target="../slideLayouts/slideLayout1130.xml"/><Relationship Id="rId5" Type="http://schemas.openxmlformats.org/officeDocument/2006/relationships/slideLayout" Target="../slideLayouts/slideLayout1131.xml"/><Relationship Id="rId6" Type="http://schemas.openxmlformats.org/officeDocument/2006/relationships/slideLayout" Target="../slideLayouts/slideLayout1132.xml"/><Relationship Id="rId7" Type="http://schemas.openxmlformats.org/officeDocument/2006/relationships/slideLayout" Target="../slideLayouts/slideLayout1133.xml"/><Relationship Id="rId8" Type="http://schemas.openxmlformats.org/officeDocument/2006/relationships/slideLayout" Target="../slideLayouts/slideLayout1134.xml"/><Relationship Id="rId9" Type="http://schemas.openxmlformats.org/officeDocument/2006/relationships/slideLayout" Target="../slideLayouts/slideLayout1135.xml"/><Relationship Id="rId10" Type="http://schemas.openxmlformats.org/officeDocument/2006/relationships/slideLayout" Target="../slideLayouts/slideLayout1136.xml"/><Relationship Id="rId11" Type="http://schemas.openxmlformats.org/officeDocument/2006/relationships/slideLayout" Target="../slideLayouts/slideLayout1137.xml"/><Relationship Id="rId12" Type="http://schemas.openxmlformats.org/officeDocument/2006/relationships/slideLayout" Target="../slideLayouts/slideLayout1138.xml"/><Relationship Id="rId13" Type="http://schemas.openxmlformats.org/officeDocument/2006/relationships/slideLayout" Target="../slideLayouts/slideLayout1139.xml"/><Relationship Id="rId14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41.xml"/><Relationship Id="rId4" Type="http://schemas.openxmlformats.org/officeDocument/2006/relationships/slideLayout" Target="../slideLayouts/slideLayout1142.xml"/><Relationship Id="rId5" Type="http://schemas.openxmlformats.org/officeDocument/2006/relationships/slideLayout" Target="../slideLayouts/slideLayout1143.xml"/><Relationship Id="rId6" Type="http://schemas.openxmlformats.org/officeDocument/2006/relationships/slideLayout" Target="../slideLayouts/slideLayout1144.xml"/><Relationship Id="rId7" Type="http://schemas.openxmlformats.org/officeDocument/2006/relationships/slideLayout" Target="../slideLayouts/slideLayout1145.xml"/><Relationship Id="rId8" Type="http://schemas.openxmlformats.org/officeDocument/2006/relationships/slideLayout" Target="../slideLayouts/slideLayout1146.xml"/><Relationship Id="rId9" Type="http://schemas.openxmlformats.org/officeDocument/2006/relationships/slideLayout" Target="../slideLayouts/slideLayout1147.xml"/><Relationship Id="rId10" Type="http://schemas.openxmlformats.org/officeDocument/2006/relationships/slideLayout" Target="../slideLayouts/slideLayout1148.xml"/><Relationship Id="rId11" Type="http://schemas.openxmlformats.org/officeDocument/2006/relationships/slideLayout" Target="../slideLayouts/slideLayout1149.xml"/><Relationship Id="rId12" Type="http://schemas.openxmlformats.org/officeDocument/2006/relationships/slideLayout" Target="../slideLayouts/slideLayout1150.xml"/><Relationship Id="rId13" Type="http://schemas.openxmlformats.org/officeDocument/2006/relationships/slideLayout" Target="../slideLayouts/slideLayout1151.xml"/><Relationship Id="rId14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53.xml"/><Relationship Id="rId4" Type="http://schemas.openxmlformats.org/officeDocument/2006/relationships/slideLayout" Target="../slideLayouts/slideLayout1154.xml"/><Relationship Id="rId5" Type="http://schemas.openxmlformats.org/officeDocument/2006/relationships/slideLayout" Target="../slideLayouts/slideLayout1155.xml"/><Relationship Id="rId6" Type="http://schemas.openxmlformats.org/officeDocument/2006/relationships/slideLayout" Target="../slideLayouts/slideLayout1156.xml"/><Relationship Id="rId7" Type="http://schemas.openxmlformats.org/officeDocument/2006/relationships/slideLayout" Target="../slideLayouts/slideLayout1157.xml"/><Relationship Id="rId8" Type="http://schemas.openxmlformats.org/officeDocument/2006/relationships/slideLayout" Target="../slideLayouts/slideLayout1158.xml"/><Relationship Id="rId9" Type="http://schemas.openxmlformats.org/officeDocument/2006/relationships/slideLayout" Target="../slideLayouts/slideLayout1159.xml"/><Relationship Id="rId10" Type="http://schemas.openxmlformats.org/officeDocument/2006/relationships/slideLayout" Target="../slideLayouts/slideLayout1160.xml"/><Relationship Id="rId11" Type="http://schemas.openxmlformats.org/officeDocument/2006/relationships/slideLayout" Target="../slideLayouts/slideLayout1161.xml"/><Relationship Id="rId12" Type="http://schemas.openxmlformats.org/officeDocument/2006/relationships/slideLayout" Target="../slideLayouts/slideLayout1162.xml"/><Relationship Id="rId13" Type="http://schemas.openxmlformats.org/officeDocument/2006/relationships/slideLayout" Target="../slideLayouts/slideLayout1163.xml"/><Relationship Id="rId14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65.xml"/><Relationship Id="rId4" Type="http://schemas.openxmlformats.org/officeDocument/2006/relationships/slideLayout" Target="../slideLayouts/slideLayout1166.xml"/><Relationship Id="rId5" Type="http://schemas.openxmlformats.org/officeDocument/2006/relationships/slideLayout" Target="../slideLayouts/slideLayout1167.xml"/><Relationship Id="rId6" Type="http://schemas.openxmlformats.org/officeDocument/2006/relationships/slideLayout" Target="../slideLayouts/slideLayout1168.xml"/><Relationship Id="rId7" Type="http://schemas.openxmlformats.org/officeDocument/2006/relationships/slideLayout" Target="../slideLayouts/slideLayout1169.xml"/><Relationship Id="rId8" Type="http://schemas.openxmlformats.org/officeDocument/2006/relationships/slideLayout" Target="../slideLayouts/slideLayout1170.xml"/><Relationship Id="rId9" Type="http://schemas.openxmlformats.org/officeDocument/2006/relationships/slideLayout" Target="../slideLayouts/slideLayout1171.xml"/><Relationship Id="rId10" Type="http://schemas.openxmlformats.org/officeDocument/2006/relationships/slideLayout" Target="../slideLayouts/slideLayout1172.xml"/><Relationship Id="rId11" Type="http://schemas.openxmlformats.org/officeDocument/2006/relationships/slideLayout" Target="../slideLayouts/slideLayout1173.xml"/><Relationship Id="rId12" Type="http://schemas.openxmlformats.org/officeDocument/2006/relationships/slideLayout" Target="../slideLayouts/slideLayout1174.xml"/><Relationship Id="rId13" Type="http://schemas.openxmlformats.org/officeDocument/2006/relationships/slideLayout" Target="../slideLayouts/slideLayout1175.xml"/><Relationship Id="rId14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77.xml"/><Relationship Id="rId4" Type="http://schemas.openxmlformats.org/officeDocument/2006/relationships/slideLayout" Target="../slideLayouts/slideLayout1178.xml"/><Relationship Id="rId5" Type="http://schemas.openxmlformats.org/officeDocument/2006/relationships/slideLayout" Target="../slideLayouts/slideLayout1179.xml"/><Relationship Id="rId6" Type="http://schemas.openxmlformats.org/officeDocument/2006/relationships/slideLayout" Target="../slideLayouts/slideLayout1180.xml"/><Relationship Id="rId7" Type="http://schemas.openxmlformats.org/officeDocument/2006/relationships/slideLayout" Target="../slideLayouts/slideLayout1181.xml"/><Relationship Id="rId8" Type="http://schemas.openxmlformats.org/officeDocument/2006/relationships/slideLayout" Target="../slideLayouts/slideLayout1182.xml"/><Relationship Id="rId9" Type="http://schemas.openxmlformats.org/officeDocument/2006/relationships/slideLayout" Target="../slideLayouts/slideLayout1183.xml"/><Relationship Id="rId10" Type="http://schemas.openxmlformats.org/officeDocument/2006/relationships/slideLayout" Target="../slideLayouts/slideLayout1184.xml"/><Relationship Id="rId11" Type="http://schemas.openxmlformats.org/officeDocument/2006/relationships/slideLayout" Target="../slideLayouts/slideLayout1185.xml"/><Relationship Id="rId12" Type="http://schemas.openxmlformats.org/officeDocument/2006/relationships/slideLayout" Target="../slideLayouts/slideLayout1186.xml"/><Relationship Id="rId13" Type="http://schemas.openxmlformats.org/officeDocument/2006/relationships/slideLayout" Target="../slideLayouts/slideLayout1187.xml"/><Relationship Id="rId14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393C-C639-4F0E-AA7B-D1332D95ED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86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88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21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1CD40-8AD7-4030-9E39-F15E22625CF8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2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PlaceHolder 3"/>
          <p:cNvSpPr>
            <a:spLocks noGrp="1"/>
          </p:cNvSpPr>
          <p:nvPr>
            <p:ph type="dt" idx="24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9" name="PlaceHolder 4"/>
          <p:cNvSpPr>
            <a:spLocks noGrp="1"/>
          </p:cNvSpPr>
          <p:nvPr>
            <p:ph type="ftr" idx="2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0" name="PlaceHolder 5"/>
          <p:cNvSpPr>
            <a:spLocks noGrp="1"/>
          </p:cNvSpPr>
          <p:nvPr>
            <p:ph type="sldNum" idx="25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573C-DA64-4732-B274-21F1726DD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3"/>
    <p:sldLayoutId id="2147484937" r:id="rId4"/>
    <p:sldLayoutId id="2147484938" r:id="rId5"/>
    <p:sldLayoutId id="2147484939" r:id="rId6"/>
    <p:sldLayoutId id="2147484940" r:id="rId7"/>
    <p:sldLayoutId id="2147484941" r:id="rId8"/>
    <p:sldLayoutId id="2147484942" r:id="rId9"/>
    <p:sldLayoutId id="2147484943" r:id="rId10"/>
    <p:sldLayoutId id="2147484944" r:id="rId11"/>
    <p:sldLayoutId id="2147484945" r:id="rId12"/>
    <p:sldLayoutId id="2147484946" r:id="rId13"/>
    <p:sldLayoutId id="2147484947" r:id="rId14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PlaceHolder 3"/>
          <p:cNvSpPr>
            <a:spLocks noGrp="1"/>
          </p:cNvSpPr>
          <p:nvPr>
            <p:ph type="dt" idx="25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0" name="PlaceHolder 4"/>
          <p:cNvSpPr>
            <a:spLocks noGrp="1"/>
          </p:cNvSpPr>
          <p:nvPr>
            <p:ph type="ftr" idx="2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1" name="PlaceHolder 5"/>
          <p:cNvSpPr>
            <a:spLocks noGrp="1"/>
          </p:cNvSpPr>
          <p:nvPr>
            <p:ph type="sldNum" idx="25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6326-C23E-406E-A9F3-E1D55CDDA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3"/>
    <p:sldLayoutId id="2147484950" r:id="rId4"/>
    <p:sldLayoutId id="2147484951" r:id="rId5"/>
    <p:sldLayoutId id="2147484952" r:id="rId6"/>
    <p:sldLayoutId id="2147484953" r:id="rId7"/>
    <p:sldLayoutId id="2147484954" r:id="rId8"/>
    <p:sldLayoutId id="2147484955" r:id="rId9"/>
    <p:sldLayoutId id="2147484956" r:id="rId10"/>
    <p:sldLayoutId id="2147484957" r:id="rId11"/>
    <p:sldLayoutId id="2147484958" r:id="rId12"/>
    <p:sldLayoutId id="2147484959" r:id="rId13"/>
    <p:sldLayoutId id="2147484960" r:id="rId14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PlaceHolder 3"/>
          <p:cNvSpPr>
            <a:spLocks noGrp="1"/>
          </p:cNvSpPr>
          <p:nvPr>
            <p:ph type="dt" idx="2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81" name="PlaceHolder 4"/>
          <p:cNvSpPr>
            <a:spLocks noGrp="1"/>
          </p:cNvSpPr>
          <p:nvPr>
            <p:ph type="ftr" idx="2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82" name="PlaceHolder 5"/>
          <p:cNvSpPr>
            <a:spLocks noGrp="1"/>
          </p:cNvSpPr>
          <p:nvPr>
            <p:ph type="sldNum" idx="2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16B4-60AE-4185-A6C6-E1D1F05EB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3"/>
    <p:sldLayoutId id="2147484963" r:id="rId4"/>
    <p:sldLayoutId id="2147484964" r:id="rId5"/>
    <p:sldLayoutId id="2147484965" r:id="rId6"/>
    <p:sldLayoutId id="2147484966" r:id="rId7"/>
    <p:sldLayoutId id="2147484967" r:id="rId8"/>
    <p:sldLayoutId id="2147484968" r:id="rId9"/>
    <p:sldLayoutId id="2147484969" r:id="rId10"/>
    <p:sldLayoutId id="2147484970" r:id="rId11"/>
    <p:sldLayoutId id="2147484971" r:id="rId12"/>
    <p:sldLayoutId id="2147484972" r:id="rId13"/>
    <p:sldLayoutId id="2147484973" r:id="rId14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PlaceHolder 3"/>
          <p:cNvSpPr>
            <a:spLocks noGrp="1"/>
          </p:cNvSpPr>
          <p:nvPr>
            <p:ph type="dt" idx="2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2" name="PlaceHolder 4"/>
          <p:cNvSpPr>
            <a:spLocks noGrp="1"/>
          </p:cNvSpPr>
          <p:nvPr>
            <p:ph type="ftr" idx="2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3" name="PlaceHolder 5"/>
          <p:cNvSpPr>
            <a:spLocks noGrp="1"/>
          </p:cNvSpPr>
          <p:nvPr>
            <p:ph type="sldNum" idx="2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652D-30B0-4C3D-9A88-78068F09D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3"/>
    <p:sldLayoutId id="2147484976" r:id="rId4"/>
    <p:sldLayoutId id="2147484977" r:id="rId5"/>
    <p:sldLayoutId id="2147484978" r:id="rId6"/>
    <p:sldLayoutId id="2147484979" r:id="rId7"/>
    <p:sldLayoutId id="2147484980" r:id="rId8"/>
    <p:sldLayoutId id="2147484981" r:id="rId9"/>
    <p:sldLayoutId id="2147484982" r:id="rId10"/>
    <p:sldLayoutId id="2147484983" r:id="rId11"/>
    <p:sldLayoutId id="2147484984" r:id="rId12"/>
    <p:sldLayoutId id="2147484985" r:id="rId13"/>
    <p:sldLayoutId id="2147484986" r:id="rId14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PlaceHolder 3"/>
          <p:cNvSpPr>
            <a:spLocks noGrp="1"/>
          </p:cNvSpPr>
          <p:nvPr>
            <p:ph type="dt" idx="26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63" name="PlaceHolder 4"/>
          <p:cNvSpPr>
            <a:spLocks noGrp="1"/>
          </p:cNvSpPr>
          <p:nvPr>
            <p:ph type="ftr" idx="2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64" name="PlaceHolder 5"/>
          <p:cNvSpPr>
            <a:spLocks noGrp="1"/>
          </p:cNvSpPr>
          <p:nvPr>
            <p:ph type="sldNum" idx="26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45EC-C399-4A4B-BFC0-43F04980C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3"/>
    <p:sldLayoutId id="2147484989" r:id="rId4"/>
    <p:sldLayoutId id="2147484990" r:id="rId5"/>
    <p:sldLayoutId id="2147484991" r:id="rId6"/>
    <p:sldLayoutId id="2147484992" r:id="rId7"/>
    <p:sldLayoutId id="2147484993" r:id="rId8"/>
    <p:sldLayoutId id="2147484994" r:id="rId9"/>
    <p:sldLayoutId id="2147484995" r:id="rId10"/>
    <p:sldLayoutId id="2147484996" r:id="rId11"/>
    <p:sldLayoutId id="2147484997" r:id="rId12"/>
    <p:sldLayoutId id="2147484998" r:id="rId13"/>
    <p:sldLayoutId id="2147484999" r:id="rId14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 type="dt" idx="26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 type="ftr" idx="2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05" name="PlaceHolder 5"/>
          <p:cNvSpPr>
            <a:spLocks noGrp="1"/>
          </p:cNvSpPr>
          <p:nvPr>
            <p:ph type="sldNum" idx="26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A127-5D40-40D2-87B4-8D3F4CBF7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3"/>
    <p:sldLayoutId id="2147485002" r:id="rId4"/>
    <p:sldLayoutId id="2147485003" r:id="rId5"/>
    <p:sldLayoutId id="2147485004" r:id="rId6"/>
    <p:sldLayoutId id="2147485005" r:id="rId7"/>
    <p:sldLayoutId id="2147485006" r:id="rId8"/>
    <p:sldLayoutId id="2147485007" r:id="rId9"/>
    <p:sldLayoutId id="2147485008" r:id="rId10"/>
    <p:sldLayoutId id="2147485009" r:id="rId11"/>
    <p:sldLayoutId id="2147485010" r:id="rId12"/>
    <p:sldLayoutId id="2147485011" r:id="rId13"/>
    <p:sldLayoutId id="2147485012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A066-51B3-4EA7-81A5-4953087A5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949F-E2A9-4A9C-BCD9-803E208E1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0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9704-A238-4134-8510-6B92659B4F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3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978A-D543-4C9E-BF23-8F1437EDAC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CD33-400A-4CBA-B437-567FAF5406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768C-5C1B-4F88-89F8-9E4941FB3A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B684-A048-47BB-9AEE-B257ED5885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45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DDB0-FB31-49EA-89F4-3229F4786A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48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427D-F798-41E6-91B0-CC611407E2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AE53-B616-4D7D-A39F-1F362A8326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dt" idx="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ftr" idx="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 type="sldNum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ACB4-79DF-4A94-80CB-31C1532B8E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5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0231-66A7-4F82-BE52-2A21A2D88E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5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575B-3335-46B7-B7E3-DA5E17E769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944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5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6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6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1275-0C97-4346-BE00-629744006AE4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9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990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91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92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93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6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6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6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C28C-74BC-4267-AA59-C96863271FAC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6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6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6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6FAE-0886-4217-84C2-392404E563E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6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6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7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1AA1-4608-4AFF-B29C-0598974AD2A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dt" idx="7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ftr" idx="7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 type="sldNum" idx="7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F54C-D1DD-49A5-AEAE-DD7343692345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 type="dt" idx="7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 type="ftr" idx="7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 type="sldNum" idx="7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4737-CB5B-4D59-AD71-0E3C41A6FFA2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 type="dt" idx="7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 type="ftr" idx="7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 type="sldNum" idx="7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84C6-C11F-463D-AD44-761FF8B64B91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85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6FB8-39D3-4048-8B2B-D8A3AD04CC7A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dt" idx="8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ftr" idx="8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 type="sldNum" idx="8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BB5E-05E6-4259-AEBD-53DE5611D0DF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 type="dt" idx="8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 type="ftr" idx="8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 type="sldNum" idx="8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4389-D2A6-4EE3-9DC2-473C050B87A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dt" idx="8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ftr" idx="8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sldNum" idx="8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D32A-ED01-4872-B554-FB496128923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 type="dt" idx="8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 type="ftr" idx="9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 type="sldNum" idx="9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F6B7-8524-4EC6-9D66-CF27B083CFCC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 type="dt" idx="9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 type="ftr" idx="9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 type="sldNum" idx="9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B905-5116-43CE-BD20-32252215D64C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 type="dt" idx="9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 type="ftr" idx="9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 type="sldNum" idx="9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4683-6A1F-4BFF-B2FD-F9F0C29B07E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 type="sldNum" idx="1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69A6-E286-4619-B443-FCDA5CAE26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1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811B-F675-43CD-B76F-F2AE9F6979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 type="dt" idx="1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 type="ftr" idx="1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 type="sldNum" idx="10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D3F2-2371-4B7A-B600-0F7C44117B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 type="dt" idx="1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 type="ftr" idx="1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 type="sldNum" idx="10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5A2E-2672-447A-8EE8-ED84036182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3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32AF-182B-48B7-A938-58894CBA897E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dt" idx="1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ftr" idx="1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 type="sldNum" idx="1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E613-3366-45A3-BC96-8422308D57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 type="dt" idx="1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 type="ftr" idx="1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 type="sldNum" idx="1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9419-3CA1-48F3-A46E-B0D465C74F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 type="dt" idx="1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 type="ftr" idx="1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 type="sldNum" idx="1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F01F-AD0C-4424-85E7-6D0727A2F0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 type="dt" idx="1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 type="ftr" idx="1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 type="sldNum" idx="1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BCAB-75A7-40F5-A35F-2BE13D7643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 type="dt" idx="1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 type="ftr" idx="1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 type="sldNum" idx="1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1995-C5FE-43AA-9934-2598AD027F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A32E-4F64-4C49-9BD1-0EE4A9CAD7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991B-577E-4724-BF01-86021B0C36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93DA-2482-4EBB-ACB0-18C874C2A6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Shape 13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Shape 17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Shape 20"/>
          <p:cNvSpPr/>
          <p:nvPr/>
        </p:nvSpPr>
        <p:spPr>
          <a:xfrm>
            <a:off x="8064360" y="958680"/>
            <a:ext cx="40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315200" cy="1452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Arc 3"/>
          <p:cNvSpPr/>
          <p:nvPr/>
        </p:nvSpPr>
        <p:spPr>
          <a:xfrm rot="10800000">
            <a:off x="8178480" y="-1266840"/>
            <a:ext cx="3282840" cy="2766960"/>
          </a:xfrm>
          <a:custGeom>
            <a:avLst/>
            <a:gdLst/>
            <a:ahLst/>
            <a:rect l="l" t="t" r="r" b="b"/>
            <a:pathLst>
              <a:path stroke="0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  <a:lnTo>
                  <a:pt x="1641475" y="1383507"/>
                </a:lnTo>
                <a:lnTo>
                  <a:pt x="2309823" y="119873"/>
                </a:lnTo>
                <a:close/>
              </a:path>
              <a:path fill="none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2" name="Arc 4"/>
          <p:cNvSpPr/>
          <p:nvPr/>
        </p:nvSpPr>
        <p:spPr>
          <a:xfrm rot="10800000">
            <a:off x="7499520" y="-1842840"/>
            <a:ext cx="4867200" cy="3598920"/>
          </a:xfrm>
          <a:custGeom>
            <a:avLst/>
            <a:gdLst/>
            <a:ahLst/>
            <a:rect l="l" t="t" r="r" b="b"/>
            <a:pathLst>
              <a:path stroke="0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  <a:lnTo>
                  <a:pt x="2433638" y="1799432"/>
                </a:lnTo>
                <a:lnTo>
                  <a:pt x="3206071" y="93045"/>
                </a:lnTo>
                <a:close/>
              </a:path>
              <a:path fill="none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</a:path>
            </a:pathLst>
          </a:custGeom>
          <a:noFill/>
          <a:ln w="6048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3" name="Arc 5"/>
          <p:cNvSpPr/>
          <p:nvPr/>
        </p:nvSpPr>
        <p:spPr>
          <a:xfrm rot="10800000">
            <a:off x="7304040" y="-1904760"/>
            <a:ext cx="4867200" cy="3760920"/>
          </a:xfrm>
          <a:custGeom>
            <a:avLst/>
            <a:gdLst/>
            <a:ahLst/>
            <a:rect l="l" t="t" r="r" b="b"/>
            <a:pathLst>
              <a:path stroke="0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  <a:lnTo>
                  <a:pt x="2433638" y="1880394"/>
                </a:lnTo>
                <a:lnTo>
                  <a:pt x="3011833" y="53842"/>
                </a:lnTo>
                <a:close/>
              </a:path>
              <a:path fill="none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4" name="Straight Connector 6"/>
          <p:cNvSpPr/>
          <p:nvPr/>
        </p:nvSpPr>
        <p:spPr>
          <a:xfrm flipV="1">
            <a:off x="457200" y="3122640"/>
            <a:ext cx="8229600" cy="9360"/>
          </a:xfrm>
          <a:prstGeom prst="line">
            <a:avLst/>
          </a:prstGeom>
          <a:ln w="50760">
            <a:solidFill>
              <a:srgbClr val="0096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5" name="Arc 7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6" name="Arc 8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7" name="Arc 9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50760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48" name="Picture 10" descr="SMARTER_logo_big.png"/>
          <p:cNvPicPr/>
          <p:nvPr/>
        </p:nvPicPr>
        <p:blipFill>
          <a:blip r:embed="rId3"/>
          <a:stretch/>
        </p:blipFill>
        <p:spPr>
          <a:xfrm>
            <a:off x="581040" y="358920"/>
            <a:ext cx="7981920" cy="2423880"/>
          </a:xfrm>
          <a:prstGeom prst="rect">
            <a:avLst/>
          </a:prstGeom>
          <a:ln w="0">
            <a:noFill/>
          </a:ln>
        </p:spPr>
      </p:pic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8134-76F3-4010-A85E-F0AD13254304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Arc 3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009644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8" name="Arc 4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009644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9" name="Arc 5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28440">
            <a:solidFill>
              <a:srgbClr val="009644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90" name="Rectangle 6"/>
          <p:cNvGrpSpPr/>
          <p:nvPr/>
        </p:nvGrpSpPr>
        <p:grpSpPr>
          <a:xfrm>
            <a:off x="0" y="0"/>
            <a:ext cx="9144000" cy="1170000"/>
            <a:chOff x="0" y="0"/>
            <a:chExt cx="9144000" cy="1170000"/>
          </a:xfrm>
        </p:grpSpPr>
        <p:pic>
          <p:nvPicPr>
            <p:cNvPr id="209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2" name=""/>
            <p:cNvSpPr/>
            <p:nvPr/>
          </p:nvSpPr>
          <p:spPr>
            <a:xfrm>
              <a:off x="0" y="0"/>
              <a:ext cx="914400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93" name="Footer Placeholder 4"/>
          <p:cNvSpPr/>
          <p:nvPr/>
        </p:nvSpPr>
        <p:spPr>
          <a:xfrm>
            <a:off x="5059440" y="635328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4" name="Slide Number Placeholder 5"/>
          <p:cNvSpPr/>
          <p:nvPr/>
        </p:nvSpPr>
        <p:spPr>
          <a:xfrm>
            <a:off x="4227480" y="6519960"/>
            <a:ext cx="689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6786-7BEB-4FF5-A5DB-63A42C9AFCA9}" type="slidenum">
              <a:rPr b="0" lang="en-US" sz="1100" spc="-1" strike="noStrike">
                <a:solidFill>
                  <a:srgbClr val="1f497d"/>
                </a:solidFill>
                <a:latin typeface="Arial"/>
                <a:ea typeface="MS PGothic"/>
              </a:rPr>
              <a:t>&lt;number&gt;</a:t>
            </a:fld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5" name="Arc 9"/>
          <p:cNvSpPr/>
          <p:nvPr/>
        </p:nvSpPr>
        <p:spPr>
          <a:xfrm rot="10800000">
            <a:off x="8076960" y="-1276200"/>
            <a:ext cx="3028680" cy="2552400"/>
          </a:xfrm>
          <a:custGeom>
            <a:avLst/>
            <a:gdLst/>
            <a:ahLst/>
            <a:rect l="l" t="t" r="r" b="b"/>
            <a:pathLst>
              <a:path stroke="0" w="3028950" h="2552700">
                <a:moveTo>
                  <a:pt x="2131066" y="110571"/>
                </a:moveTo>
                <a:cubicBezTo>
                  <a:pt x="2683949" y="318268"/>
                  <a:pt x="3036979" y="783471"/>
                  <a:pt x="3028812" y="1293570"/>
                </a:cubicBezTo>
                <a:lnTo>
                  <a:pt x="1514475" y="1276350"/>
                </a:lnTo>
                <a:lnTo>
                  <a:pt x="2131066" y="110571"/>
                </a:lnTo>
                <a:close/>
              </a:path>
              <a:path fill="none" w="3028950" h="2552700">
                <a:moveTo>
                  <a:pt x="2131066" y="110571"/>
                </a:moveTo>
                <a:cubicBezTo>
                  <a:pt x="2683949" y="318268"/>
                  <a:pt x="3036979" y="783471"/>
                  <a:pt x="3028812" y="1293570"/>
                </a:cubicBezTo>
              </a:path>
            </a:pathLst>
          </a:custGeom>
          <a:noFill/>
          <a:ln w="28440">
            <a:solidFill>
              <a:srgbClr val="ffffff">
                <a:alpha val="1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6" name="Arc 10"/>
          <p:cNvSpPr/>
          <p:nvPr/>
        </p:nvSpPr>
        <p:spPr>
          <a:xfrm rot="10800000">
            <a:off x="7519680" y="-1852200"/>
            <a:ext cx="4489560" cy="3321000"/>
          </a:xfrm>
          <a:custGeom>
            <a:avLst/>
            <a:gdLst/>
            <a:ahLst/>
            <a:rect l="l" t="t" r="r" b="b"/>
            <a:pathLst>
              <a:path stroke="0" w="4489450" h="3321051">
                <a:moveTo>
                  <a:pt x="3519206" y="293599"/>
                </a:moveTo>
                <a:cubicBezTo>
                  <a:pt x="4059111" y="569067"/>
                  <a:pt x="4409147" y="1005431"/>
                  <a:pt x="4477298" y="1487982"/>
                </a:cubicBezTo>
                <a:lnTo>
                  <a:pt x="2244725" y="1660526"/>
                </a:lnTo>
                <a:lnTo>
                  <a:pt x="3519206" y="293599"/>
                </a:lnTo>
                <a:close/>
              </a:path>
              <a:path fill="none" w="4489450" h="3321051">
                <a:moveTo>
                  <a:pt x="3519206" y="293599"/>
                </a:moveTo>
                <a:cubicBezTo>
                  <a:pt x="4059111" y="569067"/>
                  <a:pt x="4409147" y="1005431"/>
                  <a:pt x="4477298" y="1487982"/>
                </a:cubicBezTo>
              </a:path>
            </a:pathLst>
          </a:custGeom>
          <a:noFill/>
          <a:ln w="60480">
            <a:solidFill>
              <a:srgbClr val="ffffff">
                <a:alpha val="1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7" name="Arc 11"/>
          <p:cNvSpPr/>
          <p:nvPr/>
        </p:nvSpPr>
        <p:spPr>
          <a:xfrm rot="10800000">
            <a:off x="7324200" y="-1914480"/>
            <a:ext cx="4489560" cy="3470400"/>
          </a:xfrm>
          <a:custGeom>
            <a:avLst/>
            <a:gdLst/>
            <a:ahLst/>
            <a:rect l="l" t="t" r="r" b="b"/>
            <a:pathLst>
              <a:path stroke="0" w="4489450" h="3470275">
                <a:moveTo>
                  <a:pt x="3606558" y="355799"/>
                </a:moveTo>
                <a:cubicBezTo>
                  <a:pt x="4107389" y="651250"/>
                  <a:pt x="4424541" y="1095792"/>
                  <a:pt x="4480559" y="1580859"/>
                </a:cubicBezTo>
                <a:lnTo>
                  <a:pt x="2244725" y="1735138"/>
                </a:lnTo>
                <a:lnTo>
                  <a:pt x="3606558" y="355799"/>
                </a:lnTo>
                <a:close/>
              </a:path>
              <a:path fill="none" w="4489450" h="3470275">
                <a:moveTo>
                  <a:pt x="3606558" y="355799"/>
                </a:moveTo>
                <a:cubicBezTo>
                  <a:pt x="4107389" y="651250"/>
                  <a:pt x="4424541" y="1095792"/>
                  <a:pt x="4480559" y="1580859"/>
                </a:cubicBezTo>
              </a:path>
            </a:pathLst>
          </a:custGeom>
          <a:noFill/>
          <a:ln w="28440">
            <a:solidFill>
              <a:srgbClr val="ffffff">
                <a:alpha val="1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98" name="Picture 12" descr="SMARTER_logo_250.png"/>
          <p:cNvPicPr/>
          <p:nvPr/>
        </p:nvPicPr>
        <p:blipFill>
          <a:blip r:embed="rId4"/>
          <a:stretch/>
        </p:blipFill>
        <p:spPr>
          <a:xfrm>
            <a:off x="7342200" y="6183360"/>
            <a:ext cx="1427040" cy="433440"/>
          </a:xfrm>
          <a:prstGeom prst="rect">
            <a:avLst/>
          </a:prstGeom>
          <a:ln w="0">
            <a:noFill/>
          </a:ln>
        </p:spPr>
      </p:pic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5"/>
    <p:sldLayoutId id="2147484287" r:id="rId6"/>
    <p:sldLayoutId id="2147484288" r:id="rId7"/>
    <p:sldLayoutId id="2147484289" r:id="rId8"/>
    <p:sldLayoutId id="2147484290" r:id="rId9"/>
    <p:sldLayoutId id="2147484291" r:id="rId10"/>
    <p:sldLayoutId id="2147484292" r:id="rId11"/>
    <p:sldLayoutId id="2147484293" r:id="rId12"/>
    <p:sldLayoutId id="2147484294" r:id="rId13"/>
    <p:sldLayoutId id="2147484295" r:id="rId14"/>
    <p:sldLayoutId id="2147484296" r:id="rId15"/>
    <p:sldLayoutId id="2147484297" r:id="rId16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Arc 3"/>
          <p:cNvSpPr/>
          <p:nvPr/>
        </p:nvSpPr>
        <p:spPr>
          <a:xfrm rot="10800000">
            <a:off x="8178480" y="-1266840"/>
            <a:ext cx="3282840" cy="2766960"/>
          </a:xfrm>
          <a:custGeom>
            <a:avLst/>
            <a:gdLst/>
            <a:ahLst/>
            <a:rect l="l" t="t" r="r" b="b"/>
            <a:pathLst>
              <a:path stroke="0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  <a:lnTo>
                  <a:pt x="1641475" y="1383507"/>
                </a:lnTo>
                <a:lnTo>
                  <a:pt x="2309823" y="119873"/>
                </a:lnTo>
                <a:close/>
              </a:path>
              <a:path fill="none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8" name="Arc 4"/>
          <p:cNvSpPr/>
          <p:nvPr/>
        </p:nvSpPr>
        <p:spPr>
          <a:xfrm rot="10800000">
            <a:off x="7499520" y="-1842840"/>
            <a:ext cx="4867200" cy="3598920"/>
          </a:xfrm>
          <a:custGeom>
            <a:avLst/>
            <a:gdLst/>
            <a:ahLst/>
            <a:rect l="l" t="t" r="r" b="b"/>
            <a:pathLst>
              <a:path stroke="0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  <a:lnTo>
                  <a:pt x="2433638" y="1799432"/>
                </a:lnTo>
                <a:lnTo>
                  <a:pt x="3206071" y="93045"/>
                </a:lnTo>
                <a:close/>
              </a:path>
              <a:path fill="none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</a:path>
            </a:pathLst>
          </a:custGeom>
          <a:noFill/>
          <a:ln w="6048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9" name="Arc 5"/>
          <p:cNvSpPr/>
          <p:nvPr/>
        </p:nvSpPr>
        <p:spPr>
          <a:xfrm rot="10800000">
            <a:off x="7304040" y="-1904760"/>
            <a:ext cx="4867200" cy="3760920"/>
          </a:xfrm>
          <a:custGeom>
            <a:avLst/>
            <a:gdLst/>
            <a:ahLst/>
            <a:rect l="l" t="t" r="r" b="b"/>
            <a:pathLst>
              <a:path stroke="0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  <a:lnTo>
                  <a:pt x="2433638" y="1880394"/>
                </a:lnTo>
                <a:lnTo>
                  <a:pt x="3011833" y="53842"/>
                </a:lnTo>
                <a:close/>
              </a:path>
              <a:path fill="none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0" name="Arc 6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1" name="Arc 7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2" name="Arc 8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5076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143" name="Picture 11" descr="SMARTER_logo_250.png"/>
          <p:cNvPicPr/>
          <p:nvPr/>
        </p:nvPicPr>
        <p:blipFill>
          <a:blip r:embed="rId3"/>
          <a:stretch/>
        </p:blipFill>
        <p:spPr>
          <a:xfrm>
            <a:off x="7342200" y="6183360"/>
            <a:ext cx="1427040" cy="433440"/>
          </a:xfrm>
          <a:prstGeom prst="rect">
            <a:avLst/>
          </a:prstGeom>
          <a:ln w="0">
            <a:noFill/>
          </a:ln>
        </p:spPr>
      </p:pic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2" name="Picture 3" descr="SBAC_logo_HEADER_11.18.2010.tif"/>
          <p:cNvPicPr/>
          <p:nvPr/>
        </p:nvPicPr>
        <p:blipFill>
          <a:blip r:embed="rId2"/>
          <a:stretch/>
        </p:blipFill>
        <p:spPr>
          <a:xfrm>
            <a:off x="7385040" y="6199200"/>
            <a:ext cx="1560600" cy="476280"/>
          </a:xfrm>
          <a:prstGeom prst="rect">
            <a:avLst/>
          </a:prstGeom>
          <a:ln w="0">
            <a:noFill/>
          </a:ln>
        </p:spPr>
      </p:pic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Arc 3"/>
          <p:cNvSpPr/>
          <p:nvPr/>
        </p:nvSpPr>
        <p:spPr>
          <a:xfrm rot="10800000">
            <a:off x="8178480" y="-1266840"/>
            <a:ext cx="3282840" cy="2766960"/>
          </a:xfrm>
          <a:custGeom>
            <a:avLst/>
            <a:gdLst/>
            <a:ahLst/>
            <a:rect l="l" t="t" r="r" b="b"/>
            <a:pathLst>
              <a:path stroke="0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  <a:lnTo>
                  <a:pt x="1641475" y="1383507"/>
                </a:lnTo>
                <a:lnTo>
                  <a:pt x="2309823" y="119873"/>
                </a:lnTo>
                <a:close/>
              </a:path>
              <a:path fill="none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2" name="Arc 4"/>
          <p:cNvSpPr/>
          <p:nvPr/>
        </p:nvSpPr>
        <p:spPr>
          <a:xfrm rot="10800000">
            <a:off x="7499520" y="-1842840"/>
            <a:ext cx="4867200" cy="3598920"/>
          </a:xfrm>
          <a:custGeom>
            <a:avLst/>
            <a:gdLst/>
            <a:ahLst/>
            <a:rect l="l" t="t" r="r" b="b"/>
            <a:pathLst>
              <a:path stroke="0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  <a:lnTo>
                  <a:pt x="2433638" y="1799432"/>
                </a:lnTo>
                <a:lnTo>
                  <a:pt x="3206071" y="93045"/>
                </a:lnTo>
                <a:close/>
              </a:path>
              <a:path fill="none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</a:path>
            </a:pathLst>
          </a:custGeom>
          <a:noFill/>
          <a:ln w="6048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3" name="Arc 5"/>
          <p:cNvSpPr/>
          <p:nvPr/>
        </p:nvSpPr>
        <p:spPr>
          <a:xfrm rot="10800000">
            <a:off x="7304040" y="-1904760"/>
            <a:ext cx="4867200" cy="3760920"/>
          </a:xfrm>
          <a:custGeom>
            <a:avLst/>
            <a:gdLst/>
            <a:ahLst/>
            <a:rect l="l" t="t" r="r" b="b"/>
            <a:pathLst>
              <a:path stroke="0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  <a:lnTo>
                  <a:pt x="2433638" y="1880394"/>
                </a:lnTo>
                <a:lnTo>
                  <a:pt x="3011833" y="53842"/>
                </a:lnTo>
                <a:close/>
              </a:path>
              <a:path fill="none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4" name="Arc 6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5" name="Arc 7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6" name="Arc 8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5076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27" name="Picture 11" descr="SMARTER_logo_250.png"/>
          <p:cNvPicPr/>
          <p:nvPr/>
        </p:nvPicPr>
        <p:blipFill>
          <a:blip r:embed="rId3"/>
          <a:stretch/>
        </p:blipFill>
        <p:spPr>
          <a:xfrm>
            <a:off x="7342200" y="6183360"/>
            <a:ext cx="1427040" cy="4334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67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268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269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270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1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72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27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 type="sldNum" idx="13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CF00-A1AB-4ED8-956E-1E503748761F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 type="ftr" idx="13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314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315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316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317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8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319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32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 type="sldNum" idx="13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7738-33C2-457D-BE4F-CA5169EE3859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 type="ftr" idx="13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361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362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363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364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5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366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36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 type="sldNum" idx="13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9863-7CB0-49D2-A29A-95CFE2A12248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 type="ftr" idx="13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40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40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1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41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1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41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 type="sldNum" idx="14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DC90-8960-4DF3-B544-CCBB8ED53B67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 type="ftr" idx="14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455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456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57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458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9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60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46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 type="sldNum" idx="14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8B95-22AB-4626-B364-3E6EBB2C73ED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 type="ftr" idx="14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2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503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504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505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6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07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0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 type="sldNum" idx="14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0D11-5AE8-4A47-970A-D57DE338EAB0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 type="ftr" idx="14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B195-0CF2-449B-9F43-8E059BB41C7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49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550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551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552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3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4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 type="sldNum" idx="14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20DC-7A04-4F4B-9B9B-1773C6AEA16E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 type="ftr" idx="14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96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597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598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599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0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01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60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 type="sldNum" idx="14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E3D0-37FA-4C96-805E-8D1C0F96031A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PlaceHolder 4"/>
          <p:cNvSpPr>
            <a:spLocks noGrp="1"/>
          </p:cNvSpPr>
          <p:nvPr>
            <p:ph type="ftr" idx="14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643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644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45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646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7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8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6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 type="sldNum" idx="15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92A2-B36E-4BDE-8985-BDBBA12BE020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 type="ftr" idx="15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690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691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92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693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95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69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PlaceHolder 3"/>
          <p:cNvSpPr>
            <a:spLocks noGrp="1"/>
          </p:cNvSpPr>
          <p:nvPr>
            <p:ph type="sldNum" idx="15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4F32-77F8-4733-9244-02AF0C5F23DD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4"/>
          <p:cNvSpPr>
            <a:spLocks noGrp="1"/>
          </p:cNvSpPr>
          <p:nvPr>
            <p:ph type="ftr" idx="15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737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738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739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740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1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2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74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 type="sldNum" idx="15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4FDE-A70E-4E80-A568-4BB121746AB9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 type="ftr" idx="15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784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785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786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787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8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9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79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 type="sldNum" idx="15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2E37-959B-4935-B3B8-0CD978EEDC18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 type="ftr" idx="15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831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832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833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834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5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6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83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 type="sldNum" idx="15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1264-38F5-4774-BBD3-707FC52EF8D7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4"/>
          <p:cNvSpPr>
            <a:spLocks noGrp="1"/>
          </p:cNvSpPr>
          <p:nvPr>
            <p:ph type="ftr" idx="15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87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87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88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88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8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 type="sldNum" idx="16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BC2B-477B-49A5-9438-08EB1069AACC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 type="ftr" idx="16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925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926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927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928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9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0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9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 type="sldNum" idx="16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F4F3-6629-4CED-847A-81890CA85035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 type="ftr" idx="16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972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973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974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975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6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7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97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 type="sldNum" idx="16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79DD-14DB-4CBA-BB23-44C59D9CE9D5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 type="ftr" idx="16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hape 13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315200" cy="1452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019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020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021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022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3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4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0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26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PlaceHolder 3"/>
          <p:cNvSpPr>
            <a:spLocks noGrp="1"/>
          </p:cNvSpPr>
          <p:nvPr>
            <p:ph type="sldNum" idx="16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69EC-2F27-48D9-99B4-06E6E9033B0A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PlaceHolder 4"/>
          <p:cNvSpPr>
            <a:spLocks noGrp="1"/>
          </p:cNvSpPr>
          <p:nvPr>
            <p:ph type="ftr" idx="16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066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067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068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069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0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1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07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 type="sldNum" idx="16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C964-B48F-4C8C-8DA5-AEBFF46FB808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 type="ftr" idx="16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113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114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115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116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7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8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11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3"/>
          <p:cNvSpPr>
            <a:spLocks noGrp="1"/>
          </p:cNvSpPr>
          <p:nvPr>
            <p:ph type="sldNum" idx="17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D89C-C7F5-4516-AAE0-F2DCC9B6B965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PlaceHolder 4"/>
          <p:cNvSpPr>
            <a:spLocks noGrp="1"/>
          </p:cNvSpPr>
          <p:nvPr>
            <p:ph type="ftr" idx="17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160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161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162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163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4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5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1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 type="sldNum" idx="17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C083-7BF4-4F05-AE40-DB07FE114B43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 type="ftr" idx="17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207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208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209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210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1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2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2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 type="sldNum" idx="17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816F-138F-44AA-A80B-266EED9046B4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 type="ftr" idx="17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254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255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256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257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8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9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26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 type="sldNum" idx="17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FDA8-55D2-4876-B6C4-9EC367BCA0A0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PlaceHolder 4"/>
          <p:cNvSpPr>
            <a:spLocks noGrp="1"/>
          </p:cNvSpPr>
          <p:nvPr>
            <p:ph type="ftr" idx="17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01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302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303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304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5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6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30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308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9" name="PlaceHolder 3"/>
          <p:cNvSpPr>
            <a:spLocks noGrp="1"/>
          </p:cNvSpPr>
          <p:nvPr>
            <p:ph type="sldNum" idx="17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21D2-130B-4FC7-B3B7-41AEFA497899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PlaceHolder 4"/>
          <p:cNvSpPr>
            <a:spLocks noGrp="1"/>
          </p:cNvSpPr>
          <p:nvPr>
            <p:ph type="ftr" idx="17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4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34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35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35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3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Num" idx="18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69F2-EE54-4604-9D76-FEA2082A8471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ftr" idx="18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 type="dt" idx="1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 type="ftr" idx="1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8" name="PlaceHolder 5"/>
          <p:cNvSpPr>
            <a:spLocks noGrp="1"/>
          </p:cNvSpPr>
          <p:nvPr>
            <p:ph type="sldNum" idx="1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EA89-69A0-44FF-A634-5D3228F9E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PlaceHolder 3"/>
          <p:cNvSpPr>
            <a:spLocks noGrp="1"/>
          </p:cNvSpPr>
          <p:nvPr>
            <p:ph type="dt" idx="1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8" name="PlaceHolder 4"/>
          <p:cNvSpPr>
            <a:spLocks noGrp="1"/>
          </p:cNvSpPr>
          <p:nvPr>
            <p:ph type="ftr" idx="1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9" name="PlaceHolder 5"/>
          <p:cNvSpPr>
            <a:spLocks noGrp="1"/>
          </p:cNvSpPr>
          <p:nvPr>
            <p:ph type="sldNum" idx="1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A150-E433-4198-B298-395C6E35D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 type="dt" idx="1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 type="ftr" idx="1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0" name="PlaceHolder 5"/>
          <p:cNvSpPr>
            <a:spLocks noGrp="1"/>
          </p:cNvSpPr>
          <p:nvPr>
            <p:ph type="sldNum" idx="1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53A9-9B8D-4FE4-B95B-7A3721AF1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 type="dt" idx="1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 type="ftr" idx="1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21" name="PlaceHolder 5"/>
          <p:cNvSpPr>
            <a:spLocks noGrp="1"/>
          </p:cNvSpPr>
          <p:nvPr>
            <p:ph type="sldNum" idx="1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7CF4-61FE-4822-AAB0-A73809E6E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PlaceHolder 3"/>
          <p:cNvSpPr>
            <a:spLocks noGrp="1"/>
          </p:cNvSpPr>
          <p:nvPr>
            <p:ph type="dt" idx="1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1" name="PlaceHolder 4"/>
          <p:cNvSpPr>
            <a:spLocks noGrp="1"/>
          </p:cNvSpPr>
          <p:nvPr>
            <p:ph type="ftr" idx="1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2" name="PlaceHolder 5"/>
          <p:cNvSpPr>
            <a:spLocks noGrp="1"/>
          </p:cNvSpPr>
          <p:nvPr>
            <p:ph type="sldNum" idx="1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FABA-B828-4167-9533-92E398DEF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 type="dt" idx="1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 type="ftr" idx="1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3" name="PlaceHolder 5"/>
          <p:cNvSpPr>
            <a:spLocks noGrp="1"/>
          </p:cNvSpPr>
          <p:nvPr>
            <p:ph type="sldNum" idx="1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2B9B-DC57-4FC3-9F5C-436614256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 type="dt" idx="2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 type="ftr" idx="2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44" name="PlaceHolder 5"/>
          <p:cNvSpPr>
            <a:spLocks noGrp="1"/>
          </p:cNvSpPr>
          <p:nvPr>
            <p:ph type="sldNum" idx="2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43AD-39B4-4FF6-A5C0-46D1CD84D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dt" idx="2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84" name="PlaceHolder 4"/>
          <p:cNvSpPr>
            <a:spLocks noGrp="1"/>
          </p:cNvSpPr>
          <p:nvPr>
            <p:ph type="ftr" idx="2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85" name="PlaceHolder 5"/>
          <p:cNvSpPr>
            <a:spLocks noGrp="1"/>
          </p:cNvSpPr>
          <p:nvPr>
            <p:ph type="sldNum" idx="2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EF74-0985-4903-AA40-10A2E331D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PlaceHolder 3"/>
          <p:cNvSpPr>
            <a:spLocks noGrp="1"/>
          </p:cNvSpPr>
          <p:nvPr>
            <p:ph type="dt" idx="2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25" name="PlaceHolder 4"/>
          <p:cNvSpPr>
            <a:spLocks noGrp="1"/>
          </p:cNvSpPr>
          <p:nvPr>
            <p:ph type="ftr" idx="2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26" name="PlaceHolder 5"/>
          <p:cNvSpPr>
            <a:spLocks noGrp="1"/>
          </p:cNvSpPr>
          <p:nvPr>
            <p:ph type="sldNum" idx="2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88EF-0B2D-47EE-98E4-FE08C0ECE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3"/>
    <p:sldLayoutId id="2147484755" r:id="rId4"/>
    <p:sldLayoutId id="2147484756" r:id="rId5"/>
    <p:sldLayoutId id="2147484757" r:id="rId6"/>
    <p:sldLayoutId id="2147484758" r:id="rId7"/>
    <p:sldLayoutId id="2147484759" r:id="rId8"/>
    <p:sldLayoutId id="2147484760" r:id="rId9"/>
    <p:sldLayoutId id="2147484761" r:id="rId10"/>
    <p:sldLayoutId id="2147484762" r:id="rId11"/>
    <p:sldLayoutId id="2147484763" r:id="rId12"/>
    <p:sldLayoutId id="2147484764" r:id="rId13"/>
    <p:sldLayoutId id="2147484765" r:id="rId14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PlaceHolder 3"/>
          <p:cNvSpPr>
            <a:spLocks noGrp="1"/>
          </p:cNvSpPr>
          <p:nvPr>
            <p:ph type="dt" idx="2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6" name="PlaceHolder 4"/>
          <p:cNvSpPr>
            <a:spLocks noGrp="1"/>
          </p:cNvSpPr>
          <p:nvPr>
            <p:ph type="ftr" idx="2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7" name="PlaceHolder 5"/>
          <p:cNvSpPr>
            <a:spLocks noGrp="1"/>
          </p:cNvSpPr>
          <p:nvPr>
            <p:ph type="sldNum" idx="2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5C2F-A410-4061-9540-0F26466CD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PlaceHolder 3"/>
          <p:cNvSpPr>
            <a:spLocks noGrp="1"/>
          </p:cNvSpPr>
          <p:nvPr>
            <p:ph type="dt" idx="2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7" name="PlaceHolder 4"/>
          <p:cNvSpPr>
            <a:spLocks noGrp="1"/>
          </p:cNvSpPr>
          <p:nvPr>
            <p:ph type="ftr" idx="2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8" name="PlaceHolder 5"/>
          <p:cNvSpPr>
            <a:spLocks noGrp="1"/>
          </p:cNvSpPr>
          <p:nvPr>
            <p:ph type="sldNum" idx="2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C059-35D2-4233-A656-C33E7EB86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 type="dt" idx="2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 type="ftr" idx="2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9" name="PlaceHolder 5"/>
          <p:cNvSpPr>
            <a:spLocks noGrp="1"/>
          </p:cNvSpPr>
          <p:nvPr>
            <p:ph type="sldNum" idx="2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2F47-B0AD-45A7-A131-7365C31F2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3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4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4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19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2A7ED-D8E7-4F49-AF33-A8F44CC6C323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0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PlaceHolder 3"/>
          <p:cNvSpPr>
            <a:spLocks noGrp="1"/>
          </p:cNvSpPr>
          <p:nvPr>
            <p:ph type="dt" idx="2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9" name="PlaceHolder 4"/>
          <p:cNvSpPr>
            <a:spLocks noGrp="1"/>
          </p:cNvSpPr>
          <p:nvPr>
            <p:ph type="ftr" idx="2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90" name="PlaceHolder 5"/>
          <p:cNvSpPr>
            <a:spLocks noGrp="1"/>
          </p:cNvSpPr>
          <p:nvPr>
            <p:ph type="sldNum" idx="2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BB5F-0D11-48F2-A429-F9E050A6F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 type="dt" idx="2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 type="ftr" idx="2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31" name="PlaceHolder 5"/>
          <p:cNvSpPr>
            <a:spLocks noGrp="1"/>
          </p:cNvSpPr>
          <p:nvPr>
            <p:ph type="sldNum" idx="2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B0D7-C51A-443D-B612-47B8E66D5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PlaceHolder 3"/>
          <p:cNvSpPr>
            <a:spLocks noGrp="1"/>
          </p:cNvSpPr>
          <p:nvPr>
            <p:ph type="dt" idx="2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71" name="PlaceHolder 4"/>
          <p:cNvSpPr>
            <a:spLocks noGrp="1"/>
          </p:cNvSpPr>
          <p:nvPr>
            <p:ph type="ftr" idx="2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72" name="PlaceHolder 5"/>
          <p:cNvSpPr>
            <a:spLocks noGrp="1"/>
          </p:cNvSpPr>
          <p:nvPr>
            <p:ph type="sldNum" idx="2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2BB3-B8E3-4EDF-BA61-21AF5527D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3"/>
    <p:sldLayoutId id="2147484833" r:id="rId4"/>
    <p:sldLayoutId id="2147484834" r:id="rId5"/>
    <p:sldLayoutId id="2147484835" r:id="rId6"/>
    <p:sldLayoutId id="2147484836" r:id="rId7"/>
    <p:sldLayoutId id="2147484837" r:id="rId8"/>
    <p:sldLayoutId id="2147484838" r:id="rId9"/>
    <p:sldLayoutId id="2147484839" r:id="rId10"/>
    <p:sldLayoutId id="2147484840" r:id="rId11"/>
    <p:sldLayoutId id="2147484841" r:id="rId12"/>
    <p:sldLayoutId id="2147484842" r:id="rId13"/>
    <p:sldLayoutId id="2147484843" r:id="rId14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PlaceHolder 3"/>
          <p:cNvSpPr>
            <a:spLocks noGrp="1"/>
          </p:cNvSpPr>
          <p:nvPr>
            <p:ph type="dt" idx="22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12" name="PlaceHolder 4"/>
          <p:cNvSpPr>
            <a:spLocks noGrp="1"/>
          </p:cNvSpPr>
          <p:nvPr>
            <p:ph type="ftr" idx="2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13" name="PlaceHolder 5"/>
          <p:cNvSpPr>
            <a:spLocks noGrp="1"/>
          </p:cNvSpPr>
          <p:nvPr>
            <p:ph type="sldNum" idx="2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731D-9F55-45FD-BEAB-DCDA50390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3"/>
    <p:sldLayoutId id="2147484846" r:id="rId4"/>
    <p:sldLayoutId id="2147484847" r:id="rId5"/>
    <p:sldLayoutId id="2147484848" r:id="rId6"/>
    <p:sldLayoutId id="2147484849" r:id="rId7"/>
    <p:sldLayoutId id="2147484850" r:id="rId8"/>
    <p:sldLayoutId id="2147484851" r:id="rId9"/>
    <p:sldLayoutId id="2147484852" r:id="rId10"/>
    <p:sldLayoutId id="2147484853" r:id="rId11"/>
    <p:sldLayoutId id="2147484854" r:id="rId12"/>
    <p:sldLayoutId id="2147484855" r:id="rId13"/>
    <p:sldLayoutId id="2147484856" r:id="rId14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PlaceHolder 3"/>
          <p:cNvSpPr>
            <a:spLocks noGrp="1"/>
          </p:cNvSpPr>
          <p:nvPr>
            <p:ph type="dt" idx="23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53" name="PlaceHolder 4"/>
          <p:cNvSpPr>
            <a:spLocks noGrp="1"/>
          </p:cNvSpPr>
          <p:nvPr>
            <p:ph type="ftr" idx="2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54" name="PlaceHolder 5"/>
          <p:cNvSpPr>
            <a:spLocks noGrp="1"/>
          </p:cNvSpPr>
          <p:nvPr>
            <p:ph type="sldNum" idx="23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0F4E-FED5-4C4F-BEA5-13842A576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3"/>
    <p:sldLayoutId id="2147484859" r:id="rId4"/>
    <p:sldLayoutId id="2147484860" r:id="rId5"/>
    <p:sldLayoutId id="2147484861" r:id="rId6"/>
    <p:sldLayoutId id="2147484862" r:id="rId7"/>
    <p:sldLayoutId id="2147484863" r:id="rId8"/>
    <p:sldLayoutId id="2147484864" r:id="rId9"/>
    <p:sldLayoutId id="2147484865" r:id="rId10"/>
    <p:sldLayoutId id="2147484866" r:id="rId11"/>
    <p:sldLayoutId id="2147484867" r:id="rId12"/>
    <p:sldLayoutId id="2147484868" r:id="rId13"/>
    <p:sldLayoutId id="2147484869" r:id="rId14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PlaceHolder 3"/>
          <p:cNvSpPr>
            <a:spLocks noGrp="1"/>
          </p:cNvSpPr>
          <p:nvPr>
            <p:ph type="dt" idx="23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4" name="PlaceHolder 4"/>
          <p:cNvSpPr>
            <a:spLocks noGrp="1"/>
          </p:cNvSpPr>
          <p:nvPr>
            <p:ph type="ftr" idx="2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5" name="PlaceHolder 5"/>
          <p:cNvSpPr>
            <a:spLocks noGrp="1"/>
          </p:cNvSpPr>
          <p:nvPr>
            <p:ph type="sldNum" idx="23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C8AD-9DDF-485F-8606-4E1105943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3"/>
    <p:sldLayoutId id="2147484872" r:id="rId4"/>
    <p:sldLayoutId id="2147484873" r:id="rId5"/>
    <p:sldLayoutId id="2147484874" r:id="rId6"/>
    <p:sldLayoutId id="2147484875" r:id="rId7"/>
    <p:sldLayoutId id="2147484876" r:id="rId8"/>
    <p:sldLayoutId id="2147484877" r:id="rId9"/>
    <p:sldLayoutId id="2147484878" r:id="rId10"/>
    <p:sldLayoutId id="2147484879" r:id="rId11"/>
    <p:sldLayoutId id="2147484880" r:id="rId12"/>
    <p:sldLayoutId id="2147484881" r:id="rId13"/>
    <p:sldLayoutId id="2147484882" r:id="rId14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PlaceHolder 3"/>
          <p:cNvSpPr>
            <a:spLocks noGrp="1"/>
          </p:cNvSpPr>
          <p:nvPr>
            <p:ph type="dt" idx="23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35" name="PlaceHolder 4"/>
          <p:cNvSpPr>
            <a:spLocks noGrp="1"/>
          </p:cNvSpPr>
          <p:nvPr>
            <p:ph type="ftr" idx="2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36" name="PlaceHolder 5"/>
          <p:cNvSpPr>
            <a:spLocks noGrp="1"/>
          </p:cNvSpPr>
          <p:nvPr>
            <p:ph type="sldNum" idx="23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4539-533B-41F9-992D-2F15A5EBA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3"/>
    <p:sldLayoutId id="2147484885" r:id="rId4"/>
    <p:sldLayoutId id="2147484886" r:id="rId5"/>
    <p:sldLayoutId id="2147484887" r:id="rId6"/>
    <p:sldLayoutId id="2147484888" r:id="rId7"/>
    <p:sldLayoutId id="2147484889" r:id="rId8"/>
    <p:sldLayoutId id="2147484890" r:id="rId9"/>
    <p:sldLayoutId id="2147484891" r:id="rId10"/>
    <p:sldLayoutId id="2147484892" r:id="rId11"/>
    <p:sldLayoutId id="2147484893" r:id="rId12"/>
    <p:sldLayoutId id="2147484894" r:id="rId13"/>
    <p:sldLayoutId id="2147484895" r:id="rId14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PlaceHolder 3"/>
          <p:cNvSpPr>
            <a:spLocks noGrp="1"/>
          </p:cNvSpPr>
          <p:nvPr>
            <p:ph type="dt" idx="23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6" name="PlaceHolder 4"/>
          <p:cNvSpPr>
            <a:spLocks noGrp="1"/>
          </p:cNvSpPr>
          <p:nvPr>
            <p:ph type="ftr" idx="2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7" name="PlaceHolder 5"/>
          <p:cNvSpPr>
            <a:spLocks noGrp="1"/>
          </p:cNvSpPr>
          <p:nvPr>
            <p:ph type="sldNum" idx="24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50E3-3569-4BFE-BC15-43CAD1C69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3"/>
    <p:sldLayoutId id="2147484898" r:id="rId4"/>
    <p:sldLayoutId id="2147484899" r:id="rId5"/>
    <p:sldLayoutId id="2147484900" r:id="rId6"/>
    <p:sldLayoutId id="2147484901" r:id="rId7"/>
    <p:sldLayoutId id="2147484902" r:id="rId8"/>
    <p:sldLayoutId id="2147484903" r:id="rId9"/>
    <p:sldLayoutId id="2147484904" r:id="rId10"/>
    <p:sldLayoutId id="2147484905" r:id="rId11"/>
    <p:sldLayoutId id="2147484906" r:id="rId12"/>
    <p:sldLayoutId id="2147484907" r:id="rId13"/>
    <p:sldLayoutId id="2147484908" r:id="rId14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PlaceHolder 3"/>
          <p:cNvSpPr>
            <a:spLocks noGrp="1"/>
          </p:cNvSpPr>
          <p:nvPr>
            <p:ph type="dt" idx="24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7" name="PlaceHolder 4"/>
          <p:cNvSpPr>
            <a:spLocks noGrp="1"/>
          </p:cNvSpPr>
          <p:nvPr>
            <p:ph type="ftr" idx="2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8" name="PlaceHolder 5"/>
          <p:cNvSpPr>
            <a:spLocks noGrp="1"/>
          </p:cNvSpPr>
          <p:nvPr>
            <p:ph type="sldNum" idx="24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2969-D50E-4DC9-94DE-AEA9B2412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3"/>
    <p:sldLayoutId id="2147484911" r:id="rId4"/>
    <p:sldLayoutId id="2147484912" r:id="rId5"/>
    <p:sldLayoutId id="2147484913" r:id="rId6"/>
    <p:sldLayoutId id="2147484914" r:id="rId7"/>
    <p:sldLayoutId id="2147484915" r:id="rId8"/>
    <p:sldLayoutId id="2147484916" r:id="rId9"/>
    <p:sldLayoutId id="2147484917" r:id="rId10"/>
    <p:sldLayoutId id="2147484918" r:id="rId11"/>
    <p:sldLayoutId id="2147484919" r:id="rId12"/>
    <p:sldLayoutId id="2147484920" r:id="rId13"/>
    <p:sldLayoutId id="2147484921" r:id="rId14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PlaceHolder 3"/>
          <p:cNvSpPr>
            <a:spLocks noGrp="1"/>
          </p:cNvSpPr>
          <p:nvPr>
            <p:ph type="dt" idx="24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8" name="PlaceHolder 4"/>
          <p:cNvSpPr>
            <a:spLocks noGrp="1"/>
          </p:cNvSpPr>
          <p:nvPr>
            <p:ph type="ftr" idx="2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9" name="PlaceHolder 5"/>
          <p:cNvSpPr>
            <a:spLocks noGrp="1"/>
          </p:cNvSpPr>
          <p:nvPr>
            <p:ph type="sldNum" idx="24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51C4-4D23-441D-B267-618C086DE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3"/>
    <p:sldLayoutId id="2147484924" r:id="rId4"/>
    <p:sldLayoutId id="2147484925" r:id="rId5"/>
    <p:sldLayoutId id="2147484926" r:id="rId6"/>
    <p:sldLayoutId id="2147484927" r:id="rId7"/>
    <p:sldLayoutId id="2147484928" r:id="rId8"/>
    <p:sldLayoutId id="2147484929" r:id="rId9"/>
    <p:sldLayoutId id="2147484930" r:id="rId10"/>
    <p:sldLayoutId id="2147484931" r:id="rId11"/>
    <p:sldLayoutId id="2147484932" r:id="rId12"/>
    <p:sldLayoutId id="2147484933" r:id="rId13"/>
    <p:sldLayoutId id="214748493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6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56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8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58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act.org/research/policymakers/pdf/reading_summary.pdf" TargetMode="External"/><Relationship Id="rId3" Type="http://schemas.openxmlformats.org/officeDocument/2006/relationships/slideLayout" Target="../slideLayouts/slideLayout85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06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2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ticulatemarketing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amiesmart.com/innate-think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wlnet.rice.edu/~cainproj/presenting.ppt" TargetMode="External"/><Relationship Id="rId2" Type="http://schemas.openxmlformats.org/officeDocument/2006/relationships/hyperlink" Target="http://www.owlnet.rice.edu/~cainproj/presenting.ppt" TargetMode="External"/><Relationship Id="rId3" Type="http://schemas.openxmlformats.org/officeDocument/2006/relationships/hyperlink" Target="http://www.owlnet.rice.edu/~cainproj/presenting.ppt" TargetMode="External"/><Relationship Id="rId4" Type="http://schemas.openxmlformats.org/officeDocument/2006/relationships/hyperlink" Target="http://www.owlnet.rice.edu/~cainproj/presenting.ppt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9" name="PlaceHolder 1"/>
          <p:cNvSpPr>
            <a:spLocks noGrp="1"/>
          </p:cNvSpPr>
          <p:nvPr>
            <p:ph type="title"/>
          </p:nvPr>
        </p:nvSpPr>
        <p:spPr>
          <a:xfrm>
            <a:off x="914400" y="487800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5f5f5f"/>
                </a:solidFill>
                <a:latin typeface="Arial"/>
              </a:rPr>
              <a:t>Powerpoint Presentation Tips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0" name=""/>
          <p:cNvSpPr txBox="1"/>
          <p:nvPr/>
        </p:nvSpPr>
        <p:spPr>
          <a:xfrm>
            <a:off x="2823840" y="5935320"/>
            <a:ext cx="57322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d91c7"/>
                </a:solidFill>
                <a:latin typeface="Arial"/>
              </a:rPr>
              <a:t>Mrs. Kilbridge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TextBox 1"/>
          <p:cNvSpPr/>
          <p:nvPr/>
        </p:nvSpPr>
        <p:spPr>
          <a:xfrm>
            <a:off x="216000" y="15228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ur “north star”: Aretha &amp; Golden Rule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569" name="Picture 2" descr=""/>
          <p:cNvPicPr/>
          <p:nvPr/>
        </p:nvPicPr>
        <p:blipFill>
          <a:blip r:embed="rId1"/>
          <a:stretch/>
        </p:blipFill>
        <p:spPr>
          <a:xfrm>
            <a:off x="228600" y="1211400"/>
            <a:ext cx="4343400" cy="3894120"/>
          </a:xfrm>
          <a:prstGeom prst="rect">
            <a:avLst/>
          </a:prstGeom>
          <a:ln w="0">
            <a:noFill/>
          </a:ln>
        </p:spPr>
      </p:pic>
      <p:pic>
        <p:nvPicPr>
          <p:cNvPr id="4570" name="Picture 3" descr=""/>
          <p:cNvPicPr/>
          <p:nvPr/>
        </p:nvPicPr>
        <p:blipFill>
          <a:blip r:embed="rId2"/>
          <a:stretch/>
        </p:blipFill>
        <p:spPr>
          <a:xfrm>
            <a:off x="4660920" y="1066680"/>
            <a:ext cx="4483080" cy="3891240"/>
          </a:xfrm>
          <a:prstGeom prst="rect">
            <a:avLst/>
          </a:prstGeom>
          <a:ln w="0">
            <a:noFill/>
          </a:ln>
        </p:spPr>
      </p:pic>
      <p:sp>
        <p:nvSpPr>
          <p:cNvPr id="4571" name="TextBox 4"/>
          <p:cNvSpPr/>
          <p:nvPr/>
        </p:nvSpPr>
        <p:spPr>
          <a:xfrm>
            <a:off x="113400" y="595296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* keep these in mind and Learning Walks can’t fail!!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2" name="TextBox 5"/>
          <p:cNvSpPr/>
          <p:nvPr/>
        </p:nvSpPr>
        <p:spPr>
          <a:xfrm>
            <a:off x="398880" y="5257800"/>
            <a:ext cx="40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ffec"/>
                </a:solidFill>
                <a:latin typeface="Arial"/>
                <a:ea typeface="Arial"/>
              </a:rPr>
              <a:t>R – E – S – P –E – C - 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Text Box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 Unicode MS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4" name="Text Box 2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Overview of Standards f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 Unicode MS"/>
              </a:rPr>
              <a:t>HistoryO/Social Studies, Science, and Technical Subjec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5" name="Text Box 3"/>
          <p:cNvSpPr/>
          <p:nvPr/>
        </p:nvSpPr>
        <p:spPr>
          <a:xfrm>
            <a:off x="457200" y="1285920"/>
            <a:ext cx="845820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7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  <a:ea typeface="Arial Unicode MS"/>
              </a:rPr>
              <a:t>Reading Standards for History/Social Studies, Science, and Technical Subjec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1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nowledge of domain-specif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ocabu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2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nalyze, evaluate, and differentiate primary and second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3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ynthe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quantitative and technical information, including facts presented in maps, timelines, flowcharts, or diagram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  <a:ea typeface="Arial Unicode MS"/>
              </a:rPr>
              <a:t>Writing Standards for History/Social Studies, Science, and Technical Subjec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4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Wri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gu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on discipline-specific content and informative/explanatory tex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5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Use of data, evidence, and reason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upport argu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and claims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13"/>
              </a:spcBef>
              <a:spcAft>
                <a:spcPts val="213"/>
              </a:spcAft>
              <a:buSzPct val="100000"/>
              <a:buBlip>
                <a:blip r:embed="rId6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Use of domain-specif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ocabulary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Arial Unicode MS"/>
              </a:rPr>
              <a:t> 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New Definit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f Reading for Michigan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198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i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cess of constructing mea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rough the dynamic interaction amo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) the reader’s existing knowledg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 the information suggested by the text being read;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) the context of the reading situ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7D35-F390-47FF-9653-FC60C8E04D3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9" name="Shape 23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0" name="Shape 236"/>
          <p:cNvSpPr/>
          <p:nvPr/>
        </p:nvSpPr>
        <p:spPr>
          <a:xfrm>
            <a:off x="7543800" y="-1440"/>
            <a:ext cx="1517760" cy="777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1" name="Shape 237"/>
          <p:cNvSpPr/>
          <p:nvPr/>
        </p:nvSpPr>
        <p:spPr>
          <a:xfrm>
            <a:off x="7547040" y="914400"/>
            <a:ext cx="1444680" cy="457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2" name="Shape 238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e66b2"/>
                </a:solidFill>
                <a:latin typeface="Arial"/>
              </a:rPr>
              <a:t>Contact 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>
              <a:spcBef>
                <a:spcPts val="601"/>
              </a:spcBef>
              <a:buClr>
                <a:srgbClr val="a63212"/>
              </a:buClr>
              <a:buSzPct val="9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Joseph Martineau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Executive Dir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Bureau of Assessment &amp; Account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Michigan Department of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martineauj@michigan.g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Shape 241"/>
          <p:cNvSpPr/>
          <p:nvPr/>
        </p:nvSpPr>
        <p:spPr>
          <a:xfrm>
            <a:off x="8064360" y="958680"/>
            <a:ext cx="40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6" name="Title 1" descr=""/>
          <p:cNvPicPr/>
          <p:nvPr/>
        </p:nvPicPr>
        <p:blipFill>
          <a:blip r:embed="rId1"/>
          <a:stretch/>
        </p:blipFill>
        <p:spPr>
          <a:xfrm>
            <a:off x="457200" y="438120"/>
            <a:ext cx="8242200" cy="519120"/>
          </a:xfrm>
          <a:prstGeom prst="rect">
            <a:avLst/>
          </a:prstGeom>
          <a:ln w="0">
            <a:noFill/>
          </a:ln>
        </p:spPr>
      </p:pic>
      <p:sp>
        <p:nvSpPr>
          <p:cNvPr id="4587" name=""/>
          <p:cNvSpPr txBox="1"/>
          <p:nvPr/>
        </p:nvSpPr>
        <p:spPr>
          <a:xfrm>
            <a:off x="457200" y="1371600"/>
            <a:ext cx="782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 integrated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vidence-based approa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eacher invol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tate-led with transparent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ocus: improving teaching and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ctionable information – multiple mea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stablished professional 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601"/>
              </a:spcAft>
              <a:buClr>
                <a:srgbClr val="00964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8" name="Title 1" descr=""/>
          <p:cNvPicPr/>
          <p:nvPr/>
        </p:nvPicPr>
        <p:blipFill>
          <a:blip r:embed="rId1"/>
          <a:stretch/>
        </p:blipFill>
        <p:spPr>
          <a:xfrm>
            <a:off x="420840" y="304920"/>
            <a:ext cx="8235720" cy="517320"/>
          </a:xfrm>
          <a:prstGeom prst="rect">
            <a:avLst/>
          </a:prstGeom>
          <a:ln w="0">
            <a:noFill/>
          </a:ln>
        </p:spPr>
      </p:pic>
      <p:pic>
        <p:nvPicPr>
          <p:cNvPr id="4589" name="Group 6" descr=""/>
          <p:cNvPicPr/>
          <p:nvPr/>
        </p:nvPicPr>
        <p:blipFill>
          <a:blip r:embed="rId2"/>
          <a:stretch/>
        </p:blipFill>
        <p:spPr>
          <a:xfrm>
            <a:off x="3005280" y="1432080"/>
            <a:ext cx="5668920" cy="873000"/>
          </a:xfrm>
          <a:prstGeom prst="rect">
            <a:avLst/>
          </a:prstGeom>
          <a:ln w="0">
            <a:noFill/>
          </a:ln>
        </p:spPr>
      </p:pic>
      <p:grpSp>
        <p:nvGrpSpPr>
          <p:cNvPr id="4590" name="Group 7"/>
          <p:cNvGrpSpPr/>
          <p:nvPr/>
        </p:nvGrpSpPr>
        <p:grpSpPr>
          <a:xfrm>
            <a:off x="285840" y="1389240"/>
            <a:ext cx="2976480" cy="912600"/>
            <a:chOff x="285840" y="1389240"/>
            <a:chExt cx="2976480" cy="912600"/>
          </a:xfrm>
        </p:grpSpPr>
        <p:sp>
          <p:nvSpPr>
            <p:cNvPr id="4591" name="Rounded Rectangle 38"/>
            <p:cNvSpPr/>
            <p:nvPr/>
          </p:nvSpPr>
          <p:spPr>
            <a:xfrm>
              <a:off x="285840" y="1389240"/>
              <a:ext cx="2976480" cy="91260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2" name="Rounded Rectangle 6"/>
            <p:cNvSpPr/>
            <p:nvPr/>
          </p:nvSpPr>
          <p:spPr>
            <a:xfrm>
              <a:off x="322200" y="1434960"/>
              <a:ext cx="29037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s and Procedures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4593" name="Group 8" descr=""/>
          <p:cNvPicPr/>
          <p:nvPr/>
        </p:nvPicPr>
        <p:blipFill>
          <a:blip r:embed="rId3"/>
          <a:stretch/>
        </p:blipFill>
        <p:spPr>
          <a:xfrm>
            <a:off x="3005280" y="2627280"/>
            <a:ext cx="5632200" cy="841320"/>
          </a:xfrm>
          <a:prstGeom prst="rect">
            <a:avLst/>
          </a:prstGeom>
          <a:ln w="0">
            <a:noFill/>
          </a:ln>
        </p:spPr>
      </p:pic>
      <p:grpSp>
        <p:nvGrpSpPr>
          <p:cNvPr id="4594" name="Group 9"/>
          <p:cNvGrpSpPr/>
          <p:nvPr/>
        </p:nvGrpSpPr>
        <p:grpSpPr>
          <a:xfrm>
            <a:off x="285840" y="2593800"/>
            <a:ext cx="2976480" cy="914400"/>
            <a:chOff x="285840" y="2593800"/>
            <a:chExt cx="2976480" cy="914400"/>
          </a:xfrm>
        </p:grpSpPr>
        <p:sp>
          <p:nvSpPr>
            <p:cNvPr id="4595" name="Rounded Rectangle 34"/>
            <p:cNvSpPr/>
            <p:nvPr/>
          </p:nvSpPr>
          <p:spPr>
            <a:xfrm>
              <a:off x="285840" y="2593800"/>
              <a:ext cx="2976480" cy="914400"/>
            </a:xfrm>
            <a:prstGeom prst="roundRect">
              <a:avLst>
                <a:gd name="adj" fmla="val 16667"/>
              </a:avLst>
            </a:prstGeom>
            <a:solidFill>
              <a:srgbClr val="009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6" name="Rounded Rectangle 10"/>
            <p:cNvSpPr/>
            <p:nvPr/>
          </p:nvSpPr>
          <p:spPr>
            <a:xfrm>
              <a:off x="322200" y="2639520"/>
              <a:ext cx="2903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blem Solving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4597" name="Group 10" descr=""/>
          <p:cNvPicPr/>
          <p:nvPr/>
        </p:nvPicPr>
        <p:blipFill>
          <a:blip r:embed="rId4"/>
          <a:stretch/>
        </p:blipFill>
        <p:spPr>
          <a:xfrm>
            <a:off x="3005280" y="3840120"/>
            <a:ext cx="5632200" cy="871560"/>
          </a:xfrm>
          <a:prstGeom prst="rect">
            <a:avLst/>
          </a:prstGeom>
          <a:ln w="0">
            <a:noFill/>
          </a:ln>
        </p:spPr>
      </p:pic>
      <p:grpSp>
        <p:nvGrpSpPr>
          <p:cNvPr id="4598" name="Group 11"/>
          <p:cNvGrpSpPr/>
          <p:nvPr/>
        </p:nvGrpSpPr>
        <p:grpSpPr>
          <a:xfrm>
            <a:off x="285840" y="3784680"/>
            <a:ext cx="2976480" cy="914400"/>
            <a:chOff x="285840" y="3784680"/>
            <a:chExt cx="2976480" cy="914400"/>
          </a:xfrm>
        </p:grpSpPr>
        <p:sp>
          <p:nvSpPr>
            <p:cNvPr id="4599" name="Rounded Rectangle 30"/>
            <p:cNvSpPr/>
            <p:nvPr/>
          </p:nvSpPr>
          <p:spPr>
            <a:xfrm>
              <a:off x="285840" y="3784680"/>
              <a:ext cx="2976480" cy="91440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0" name="Rounded Rectangle 14"/>
            <p:cNvSpPr/>
            <p:nvPr/>
          </p:nvSpPr>
          <p:spPr>
            <a:xfrm>
              <a:off x="322200" y="3828960"/>
              <a:ext cx="290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municating Reasoning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4601" name="Group 12" descr=""/>
          <p:cNvPicPr/>
          <p:nvPr/>
        </p:nvPicPr>
        <p:blipFill>
          <a:blip r:embed="rId5"/>
          <a:stretch/>
        </p:blipFill>
        <p:spPr>
          <a:xfrm>
            <a:off x="3005280" y="5059440"/>
            <a:ext cx="5711760" cy="877680"/>
          </a:xfrm>
          <a:prstGeom prst="rect">
            <a:avLst/>
          </a:prstGeom>
          <a:ln w="0">
            <a:noFill/>
          </a:ln>
        </p:spPr>
      </p:pic>
      <p:grpSp>
        <p:nvGrpSpPr>
          <p:cNvPr id="4602" name="Group 13"/>
          <p:cNvGrpSpPr/>
          <p:nvPr/>
        </p:nvGrpSpPr>
        <p:grpSpPr>
          <a:xfrm>
            <a:off x="285840" y="5010120"/>
            <a:ext cx="2976480" cy="914400"/>
            <a:chOff x="285840" y="5010120"/>
            <a:chExt cx="2976480" cy="914400"/>
          </a:xfrm>
        </p:grpSpPr>
        <p:sp>
          <p:nvSpPr>
            <p:cNvPr id="4603" name="Rounded Rectangle 26"/>
            <p:cNvSpPr/>
            <p:nvPr/>
          </p:nvSpPr>
          <p:spPr>
            <a:xfrm>
              <a:off x="285840" y="5010120"/>
              <a:ext cx="2976480" cy="914400"/>
            </a:xfrm>
            <a:prstGeom prst="roundRect">
              <a:avLst>
                <a:gd name="adj" fmla="val 16667"/>
              </a:avLst>
            </a:prstGeom>
            <a:solidFill>
              <a:srgbClr val="009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4" name="Rounded Rectangle 18"/>
            <p:cNvSpPr/>
            <p:nvPr/>
          </p:nvSpPr>
          <p:spPr>
            <a:xfrm>
              <a:off x="322200" y="5055840"/>
              <a:ext cx="2903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a Analysis and Modeling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605" name="TextBox 42"/>
          <p:cNvSpPr/>
          <p:nvPr/>
        </p:nvSpPr>
        <p:spPr>
          <a:xfrm>
            <a:off x="6352200" y="866880"/>
            <a:ext cx="28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/o Round 1 – released 8/29/11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lex 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2701"/>
              </a:spcBef>
              <a:spcAft>
                <a:spcPts val="601"/>
              </a:spcAft>
              <a:buClr>
                <a:srgbClr val="0091b2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91b2"/>
                </a:solidFill>
                <a:latin typeface="Arial"/>
              </a:rPr>
              <a:t>Performance on complex texts is the clearest differentiator in reading between students who are likely to be ready for college and those who are not.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1280" indent="-341280">
              <a:spcBef>
                <a:spcPts val="2701"/>
              </a:spcBef>
              <a:spcAft>
                <a:spcPts val="601"/>
              </a:spcAft>
              <a:buClr>
                <a:srgbClr val="0091b2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And this is true for both genders, all racial/ethnic groups, and all annual family income levels.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12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0091b2"/>
                </a:solidFill>
                <a:latin typeface="Arial"/>
              </a:rPr>
              <a:t>ACT Reading Between the Lines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12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8" name="Picture 1" descr=""/>
          <p:cNvPicPr/>
          <p:nvPr/>
        </p:nvPicPr>
        <p:blipFill>
          <a:blip r:embed="rId1"/>
          <a:stretch/>
        </p:blipFill>
        <p:spPr>
          <a:xfrm>
            <a:off x="39600" y="0"/>
            <a:ext cx="9104400" cy="6211800"/>
          </a:xfrm>
          <a:prstGeom prst="rect">
            <a:avLst/>
          </a:prstGeom>
          <a:ln w="0">
            <a:noFill/>
          </a:ln>
        </p:spPr>
      </p:pic>
      <p:sp>
        <p:nvSpPr>
          <p:cNvPr id="4609" name="Text Box 2"/>
          <p:cNvSpPr/>
          <p:nvPr/>
        </p:nvSpPr>
        <p:spPr>
          <a:xfrm>
            <a:off x="533520" y="5638680"/>
            <a:ext cx="761976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Reading Between the Lines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2"/>
              </a:rPr>
              <a:t>http://act.org/research/policymakers/pdf/reading_summary.pdf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entury Schoolbook"/>
              </a:rPr>
              <a:t>What is a text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Builders can use different kinds of structures to build different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A skyscraper, for example, is a different kind of structure from a 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2" name="Picture 6" descr="bd10467_"/>
          <p:cNvPicPr/>
          <p:nvPr/>
        </p:nvPicPr>
        <p:blipFill>
          <a:blip r:embed="rId1"/>
          <a:stretch/>
        </p:blipFill>
        <p:spPr>
          <a:xfrm>
            <a:off x="4648320" y="2884320"/>
            <a:ext cx="380988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entury Schoolbook"/>
              </a:rPr>
              <a:t>What is a text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Writers use different structures to build their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Each text structure communicates ideas in a different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5" name="Picture 6" descr="bd06453_"/>
          <p:cNvPicPr/>
          <p:nvPr/>
        </p:nvPicPr>
        <p:blipFill>
          <a:blip r:embed="rId1"/>
          <a:stretch/>
        </p:blipFill>
        <p:spPr>
          <a:xfrm>
            <a:off x="685800" y="2139840"/>
            <a:ext cx="38098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314a"/>
                </a:solidFill>
                <a:latin typeface="Arial"/>
              </a:rPr>
              <a:t>Use the 10-20-30 rul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ttempt to follow Guy Kawasaki’s 10-20-30 rule: presentations should have no more than ten slides, last no longer than 20 minutes and no font should be smaller than 30 points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7f7f"/>
                </a:solidFill>
                <a:latin typeface="Arial"/>
              </a:rPr>
              <a:t>With thanks to Matthew Stibbe,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Articulate Marketing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Powerpoint Slides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void large blocks of text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Illustrate your points, don’t completely duplicate them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Proofread for errors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Presentations need careful proofreading: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Check for English errors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void an overuse of words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Make sure slides are easy to read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314a"/>
                </a:solidFill>
                <a:latin typeface="Arial"/>
              </a:rPr>
              <a:t>Rehears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Practice makes a good presentation. Very few people can deliver a great presentation off the top of their head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Rehearse the basic points you intend to make, in a clear order and with all the key facts memorized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314a"/>
                </a:solidFill>
                <a:latin typeface="Arial"/>
              </a:rPr>
              <a:t>Make eye contact with your audienc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It is important to make eye contact, speak clearly and create an open communication channel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Do not read the slides word for word. 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The focus should be on the presenter, and the powerpoint slides should enhance the message, not be the message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7f7f"/>
                </a:solidFill>
                <a:latin typeface="Arial"/>
              </a:rPr>
              <a:t>With thanks to Jamie Smart,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Innate Thinking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Easy to Use Powerpoint Templat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Go to this website for a step-by-step guide to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Creating a powerpoint presentation: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www.owlnet.rice.edu/~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cain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3"/>
              </a:rPr>
              <a:t>proj/presenting.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4"/>
              </a:rPr>
              <a:t>ppt</a:t>
            </a:r>
            <a:r>
              <a:rPr b="1" i="1" lang="en-US" sz="28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You be the judg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The following slides are examples taken from educators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re they effective?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How could they change these to make them more effective?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TextBox 1"/>
          <p:cNvSpPr/>
          <p:nvPr/>
        </p:nvSpPr>
        <p:spPr>
          <a:xfrm>
            <a:off x="-45720" y="76320"/>
            <a:ext cx="909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uilding a Culture of Giving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ND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ceiving </a:t>
            </a:r>
            <a:r>
              <a:rPr b="1" lang="en-US" sz="4400" spc="-1" strike="noStrike">
                <a:solidFill>
                  <a:srgbClr val="f8f8ef"/>
                </a:solidFill>
                <a:latin typeface="Arial"/>
                <a:ea typeface="Arial"/>
              </a:rPr>
              <a:t>Actionable Feedback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66" name="TextBox 2"/>
          <p:cNvSpPr/>
          <p:nvPr/>
        </p:nvSpPr>
        <p:spPr>
          <a:xfrm>
            <a:off x="-454680" y="2330280"/>
            <a:ext cx="98582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Humility/Curiosity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– no single person (coach, principal, consultant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etc.) knows it all, even experts need help/support/feedback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1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Collaborative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Partnership</a:t>
            </a:r>
            <a:r>
              <a:rPr b="1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is the path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– admin, coaches and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consultants need to forge these relationships tied to agreed upon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FOCUS - “Collaborative Coherence”- distributed leadership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Creating a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safe environment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for honest, open, trusting, inquiry &amp;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risk taking… Lead by </a:t>
            </a:r>
            <a:r>
              <a:rPr b="1" lang="en-US" sz="2200" spc="-1" strike="noStrike" u="sng">
                <a:solidFill>
                  <a:srgbClr val="12ff2a"/>
                </a:solidFill>
                <a:uFillTx/>
                <a:latin typeface="Arial"/>
                <a:ea typeface="Arial"/>
              </a:rPr>
              <a:t>DOING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, not simply talking…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Establish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Feedback (</a:t>
            </a:r>
            <a:r>
              <a:rPr b="0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Giving &amp; Receiving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) for ALL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as shared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professional goal across the faculty – refining and extending our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skills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67" name="TextBox 3"/>
          <p:cNvSpPr/>
          <p:nvPr/>
        </p:nvSpPr>
        <p:spPr>
          <a:xfrm>
            <a:off x="5040" y="1752480"/>
            <a:ext cx="78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ef"/>
                </a:solidFill>
                <a:uFillTx/>
                <a:latin typeface="Arial"/>
                <a:ea typeface="Arial"/>
              </a:rPr>
              <a:t>Key Norms or Dispositions Leaders Must Nurture/Create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Presentation Magazine</dc:creator>
  <dc:description/>
  <dc:language>en-US</dc:language>
  <cp:lastModifiedBy>Amy Kilbridge</cp:lastModifiedBy>
  <cp:lastPrinted>2015-07-28T19:41:11Z</cp:lastPrinted>
  <dcterms:modified xsi:type="dcterms:W3CDTF">2015-07-28T19:41:30Z</dcterms:modified>
  <cp:revision>56</cp:revision>
  <dc:subject/>
  <dc:title>Colour Pencils PowerPoint Template</dc:title>
</cp:coreProperties>
</file>