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9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88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4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0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89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67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.png" ContentType="image/png"/>
  <Override PartName="/ppt/media/image4.jpeg" ContentType="image/jpeg"/>
  <Override PartName="/ppt/media/image25.png" ContentType="image/png"/>
  <Override PartName="/ppt/media/image5.png" ContentType="image/png"/>
  <Override PartName="/ppt/media/image8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31.wmf" ContentType="image/x-wmf"/>
  <Override PartName="/ppt/media/image29.wmf" ContentType="image/x-wmf"/>
  <Override PartName="/ppt/media/image18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941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</p:sldMasterIdLst>
  <p:notesMasterIdLst>
    <p:notesMasterId r:id="rId107"/>
  </p:notesMasterIdLst>
  <p:sldIdLst>
    <p:sldId id="256" r:id="rId108"/>
    <p:sldId id="257" r:id="rId109"/>
    <p:sldId id="258" r:id="rId110"/>
    <p:sldId id="259" r:id="rId111"/>
    <p:sldId id="260" r:id="rId112"/>
    <p:sldId id="261" r:id="rId113"/>
    <p:sldId id="262" r:id="rId114"/>
    <p:sldId id="263" r:id="rId115"/>
    <p:sldId id="264" r:id="rId116"/>
    <p:sldId id="265" r:id="rId117"/>
    <p:sldId id="266" r:id="rId118"/>
    <p:sldId id="267" r:id="rId119"/>
    <p:sldId id="268" r:id="rId120"/>
    <p:sldId id="269" r:id="rId121"/>
    <p:sldId id="270" r:id="rId122"/>
    <p:sldId id="271" r:id="rId123"/>
    <p:sldId id="272" r:id="rId124"/>
    <p:sldId id="273" r:id="rId125"/>
    <p:sldId id="274" r:id="rId1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notesMaster" Target="notesMasters/notesMaster1.xml"/><Relationship Id="rId108" Type="http://schemas.openxmlformats.org/officeDocument/2006/relationships/slide" Target="slides/slide1.xml"/><Relationship Id="rId109" Type="http://schemas.openxmlformats.org/officeDocument/2006/relationships/slide" Target="slides/slide2.xml"/><Relationship Id="rId110" Type="http://schemas.openxmlformats.org/officeDocument/2006/relationships/slide" Target="slides/slide3.xml"/><Relationship Id="rId111" Type="http://schemas.openxmlformats.org/officeDocument/2006/relationships/slide" Target="slides/slide4.xml"/><Relationship Id="rId112" Type="http://schemas.openxmlformats.org/officeDocument/2006/relationships/slide" Target="slides/slide5.xml"/><Relationship Id="rId113" Type="http://schemas.openxmlformats.org/officeDocument/2006/relationships/slide" Target="slides/slide6.xml"/><Relationship Id="rId114" Type="http://schemas.openxmlformats.org/officeDocument/2006/relationships/slide" Target="slides/slide7.xml"/><Relationship Id="rId115" Type="http://schemas.openxmlformats.org/officeDocument/2006/relationships/slide" Target="slides/slide8.xml"/><Relationship Id="rId116" Type="http://schemas.openxmlformats.org/officeDocument/2006/relationships/slide" Target="slides/slide9.xml"/><Relationship Id="rId117" Type="http://schemas.openxmlformats.org/officeDocument/2006/relationships/slide" Target="slides/slide10.xml"/><Relationship Id="rId118" Type="http://schemas.openxmlformats.org/officeDocument/2006/relationships/slide" Target="slides/slide11.xml"/><Relationship Id="rId119" Type="http://schemas.openxmlformats.org/officeDocument/2006/relationships/slide" Target="slides/slide12.xml"/><Relationship Id="rId120" Type="http://schemas.openxmlformats.org/officeDocument/2006/relationships/slide" Target="slides/slide13.xml"/><Relationship Id="rId121" Type="http://schemas.openxmlformats.org/officeDocument/2006/relationships/slide" Target="slides/slide14.xml"/><Relationship Id="rId122" Type="http://schemas.openxmlformats.org/officeDocument/2006/relationships/slide" Target="slides/slide15.xml"/><Relationship Id="rId123" Type="http://schemas.openxmlformats.org/officeDocument/2006/relationships/slide" Target="slides/slide16.xml"/><Relationship Id="rId124" Type="http://schemas.openxmlformats.org/officeDocument/2006/relationships/slide" Target="slides/slide17.xml"/><Relationship Id="rId125" Type="http://schemas.openxmlformats.org/officeDocument/2006/relationships/slide" Target="slides/slide18.xml"/><Relationship Id="rId126" Type="http://schemas.openxmlformats.org/officeDocument/2006/relationships/slide" Target="slides/slide19.xml"/><Relationship Id="rId1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 type="dt" idx="26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46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PlaceHolder 5"/>
          <p:cNvSpPr>
            <a:spLocks noGrp="1"/>
          </p:cNvSpPr>
          <p:nvPr>
            <p:ph type="ftr" idx="26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PlaceHolder 6"/>
          <p:cNvSpPr>
            <a:spLocks noGrp="1"/>
          </p:cNvSpPr>
          <p:nvPr>
            <p:ph type="sldNum" idx="26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A971-8960-4CE8-8C1B-AFD0CC658C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F420E6FF-B242-4B81-89B2-589F70A7C9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0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1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4622" name="Text Box 3"/>
          <p:cNvSpPr/>
          <p:nvPr/>
        </p:nvSpPr>
        <p:spPr>
          <a:xfrm>
            <a:off x="3884760" y="8978760"/>
            <a:ext cx="2973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369440"/>
                <a:tab algn="l" pos="10820520"/>
              </a:tabLst>
            </a:pPr>
            <a:fld id="{29191410-7A44-4918-BFC6-F46CE7B563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935EA729-FF4B-4EEC-8295-89774C4FE9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4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5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3D3CD93E-A561-4690-A32D-2A254A64F6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7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8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86D9-125E-4F0F-8FC4-F6EF0C1D6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34DE-B47A-4EE7-98F7-53D2F22EE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necessarily word for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1FDD-4FF5-4506-ADC9-6D9F230A3D88}" type="slidenum">
              <a:rPr b="0" lang="en-GB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BE7-EA92-4919-AA7B-E5A0D2DB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4601-F0A5-4099-8673-F4590F73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082DD7-1B08-4D7A-8517-336DA48C4A97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5145C169-8B17-4AC2-8EA3-D246EB74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2037D014-674F-484C-BD5F-F25A8E47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1BEAA147-B5A1-4957-B0FF-09BA26D8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FA9A2506-17F3-4361-9721-08373B8B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DF7C32BF-8A61-4131-B1B9-A02F8944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05C2D08-D833-42F0-8B96-09D98B1D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EF04A46A-CB7E-4A0A-8D5F-2554E76D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186E87FB-6E88-42C2-A154-80E81BC5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E397BE0-4635-462A-A0B3-E2F0AEB7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4690E59-EDA4-4187-A75B-B7B653A9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CEF5AC-2F46-4C44-B036-42F525FCC6C5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9E42765-B4FE-4D7A-B900-C71FFF1E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2804254-AD94-4926-AB40-79FA1459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35DD543F-D903-4E5C-8305-B713DB7C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2BE650D-C327-4850-AFB7-9FE3195A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679DA794-4132-444A-8257-9F039540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D9BFA52F-ABF2-4E10-B8B3-740D8143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B5475C0-7C7D-4529-BD89-09F02AD6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E2510B0-91B2-4B57-8EAD-BF48BB89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E79BC76C-BA42-4AB7-9E00-3CCF81D0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5DC7B4AE-F6FA-455F-A895-83865989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698B4F-A206-4540-A538-0551576680B3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279705E2-72FA-4586-8B27-8A83F510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FD31DCD8-EB5D-4D80-BEA3-88F363A4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9CC546BE-1636-49C6-90D8-6E1C6BB9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D2FDCFE8-D57E-4D74-9761-98F926BE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2B39BD5-6822-4E19-A005-F22A5F27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38E577D5-2B5C-457F-B129-8DC380F4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DC0BC19E-B713-4E9E-B3DA-89057ADE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070E347-C95A-460D-8A8E-D81DC39B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EECAD9A-0F21-43D6-9A1A-5E3E4360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BD6B9D6-0A0E-435E-A1AA-F62F317A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26EDC9-24C3-4FCA-BDD0-B48E4919A423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3AEBB4DD-9C9B-4A77-8A61-32D37E01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DED4F18F-1B60-4DA8-AAE8-A878CF8A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B5CFB0A-8360-40F9-8ACA-868F35B3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FF8103D8-94CA-4E01-9C33-57CD5A7A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E265B8E-3072-4062-8C31-7454FFC8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B2E9969-5940-4DC6-A54A-1EBC1A05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67D74232-AA0D-4B9F-B7DF-17666295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C6A69DB-E0D2-4E1E-A226-D2E89B32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FFA12BF5-D48D-4A7F-AE41-C39B16EF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72EF8B05-5424-418D-9819-D1AD0A30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C94A36-99B7-4458-94C2-5FF5F7F636DA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38DF9BFF-0F29-46DB-8606-2AFB79E7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6621E3E-EB39-4E6B-ADE9-EA34D2B8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EBC25D94-52F8-4159-BFDD-C5129644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256BCEA-8A47-4685-95D0-79059FC3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76A8191D-7024-4BEF-A3D8-F0D3F9B0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C2C93773-E68D-4DDE-88F1-A0888773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E77DA400-C48F-4A15-AED6-F0A6B99B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69E4DF89-21E5-41F9-BDBD-C49787F6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55FCA5D2-CF27-4523-A351-5691C330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AD49BB5A-4371-481E-A5FC-43D4C9DD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86F348-0550-4292-98CE-03CF10807035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249A1B55-6339-4172-84A4-14FAD7CF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27E3A205-0E5A-4F2D-AF2E-0CC183BF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A79357DD-A547-425E-B613-B84D1733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A2B5B42B-B26D-484D-93B4-37BDC5D7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88D4C8FA-4083-492E-B040-469E2AF1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BB5DC047-26A3-440E-9F5B-BF932429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23807969-7A76-47DA-9469-FEA65636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F1827824-3CF9-455C-8FB7-530E63C2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9E0CD65-E710-46D0-BFC3-0BD11D80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BBE5D68-9DCE-42A2-970C-9519204F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CD18EC-6324-4DB2-BCD2-FFD11D7B1B8F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028E6FAB-BF1B-4742-A8AC-00147382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A0AF232-7C70-48E2-A069-F63CC19F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9BC0EBA-ABC6-46F3-B484-84C2D1BB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5E4DB10-62E7-4EC9-BCEE-D5487AA8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107D1F91-8302-4598-9DE6-1F42CBC8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6CBA4899-C078-49B4-83D6-0E3031AA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BF4BC9E-461E-4BCF-AD8C-F4545F85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535C54B7-6029-4C7E-B9DE-9A84F13B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5A148BC-1DD0-4F68-B96E-CFB94C48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F1E9672-C512-454E-AEC0-81A608E1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7CA3DC-F879-42A6-A9CE-8BE6F303DBC4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D8AC8F4D-0852-46EE-A31B-93C01985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720D349F-A177-4316-9D03-F4E93EED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842208C9-7406-4F66-8535-2CB1164C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4A503FFA-F0AE-41DF-A279-EB96A165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02D5643F-EA33-4FA0-A544-E1B1E669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379CE6D-F430-4713-AD89-4FA29B8B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3E9EB40-685F-452C-9DF7-2C6132BC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D005A30-C104-414F-8638-B7C074C9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76B57215-FFD3-440E-AF00-0F9D6E56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2C85D92C-583D-4183-9E30-FBF75FAF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04B5A8-7C85-47D1-B1A9-DAA76E0519A5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CEC9765-5314-4314-BD1E-362EA3A6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B1C2B0B-27CD-4DF0-9611-3263000E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6D32DFC-D521-4735-BF7B-DEA1FFBF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9782BE02-DB0F-4555-B24D-F6448754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F96C6482-639B-4559-85B6-44714749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CDCAD64D-6BC2-4DF8-BAD1-592C6B79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2DF8C90-E546-4D42-A032-FE8A02EB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E478737-0F3B-42EC-A958-9581D16D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4B0821B6-266E-496C-A52E-BD10A017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CE3DF92-4BB0-438A-9F55-0295D44C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E1030-2DAC-4516-93C0-94BABBD4B9EF}" type="slidenum">
              <a:t>&lt;#&gt;</a:t>
            </a:fld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AEF61D1-5F34-447E-A980-34E480A5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23E1F0F-EA55-4E93-AE41-CAB3A25D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85D5DF5B-6EEC-4235-BF3A-BCE5127A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EE1EEC55-7E8A-4B96-B488-DCC96236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783C978-AFA8-4414-8F3C-78FAA5ED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FDF503C-5B7D-44C1-8A14-B582AD4E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532D5EF-91A4-4006-B8FA-202B0FB4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3728824-781A-4A4C-B7D4-EE6C73C1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A2BE4186-D5AB-438F-8561-D712989B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FA1E1AD-1F1B-4E19-B155-46CEC6C8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238-B340-4369-91A8-44E9F9C2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3222D-F8EA-4958-BA6A-5FE52BD0AA44}" type="slidenum">
              <a:t>&lt;#&gt;</a:t>
            </a:fld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EC9DF1E2-590B-4DE8-9186-E9F09782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7819740-0D15-4BEC-946C-2F9B5ADA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98EA1ABB-8B5A-4F00-87AE-C27BD289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CD29E05F-7D8B-4B3A-B6B9-1C8FBA31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498A2E8-45D7-4335-9884-3C689A82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E3080DB-903F-45DB-B439-6C66939B1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389409A3-0246-4D6A-8584-C0F21511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30DD67D5-97B1-44B8-9133-D3DE27F1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AD5E07A5-B386-4AE7-B005-AB5109B6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9F3AE42-E63B-408A-80A9-A7CDD0C2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E4FE0-669B-4E57-B219-36405D6D3533}" type="slidenum">
              <a:t>&lt;#&gt;</a:t>
            </a:fld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A3456A2-D715-49FD-81F3-C6A4ABAE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A6765CE7-B45E-4361-AEFF-AD185AB3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DF3E257-A54C-4936-9EC3-E1BF735D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C39EB08-83FD-406A-A6C9-39D40B74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C4688290-82EA-458E-BFEB-EF8C179E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A29D7CD4-0BAF-4B89-8056-988557A5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99F230D9-42C2-4E01-A347-A944FDCD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F6612D8E-5031-4106-AA89-0C0200BE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12241B38-7928-4484-B38C-B4504464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A6FB3437-B48C-4016-ACDC-ADD9D74B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5B08E-95F5-48BD-B69D-7F7A3084D542}" type="slidenum">
              <a:t>&lt;#&gt;</a:t>
            </a:fld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33FA4A5C-0F9E-4621-BF9E-6DF3469A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F20EC21-E0F3-4F12-BA39-B0ADC9E2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B35B5E0-BC8F-4FCB-9B0D-56D1AF7E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0ADDD114-0CA1-4FFE-9F9F-E73B5C46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41FA5305-C86B-49A6-AF78-F8F1178D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058F968D-D375-4B36-9D42-6CEF669D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27391EB4-D277-4402-9B65-FFC8B149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57A1A6A-382C-4E9D-B54C-9C1F2E80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4E253644-52C1-4037-922C-6ACDDA9F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917B997-2DE9-4BED-B748-2F890EDD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8E63D-2F6D-4539-A7AF-766D9CAEBD71}" type="slidenum">
              <a:t>&lt;#&gt;</a:t>
            </a:fld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6E3474F-DD54-43E3-8C77-35D570AD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061FB88C-B93C-457F-AACB-852ED691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42DB675-C282-439E-A2D7-16FC13A1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514F9352-1CA7-4D0C-9FF8-538459F8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20D8E9B9-673B-4B17-8BD7-11F138AC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5729CC92-5C52-47D7-A651-E05D7755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24E25DE-DDD0-4D99-84CC-28F38A6C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E9C28E2-0831-4E8C-94E4-BF70ECC5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C154790-B896-48A0-8C42-8A8CD863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05F5C1DF-4F58-4F8A-82AC-75F8ED9D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28300-330C-4F98-9A64-5EB76ADC0187}" type="slidenum">
              <a:t>&lt;#&gt;</a:t>
            </a:fld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B09617F-D8AC-4E7F-A038-3840ADFD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FE16D17-0F0B-445A-BF7A-8A824F1D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C6DBF5B-E358-4FF3-AE72-49E39683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45F556CB-6EDD-4B4A-98A9-A1D40072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DFE8EA54-6236-40A8-8602-D4F4CFF0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73515E3-E2DE-4440-8E94-963174D6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392D1E60-3C60-494F-855C-EE7CD5F1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AF63DE4A-2737-4AA7-93EA-8C2524B3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70D46855-9388-49F6-BE70-8EF0BF42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D2568551-01AF-486C-9184-5765550D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E0DBF-DE17-4796-8767-D58CDAAB9720}" type="slidenum">
              <a:t>&lt;#&gt;</a:t>
            </a:fld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AB1F997-0855-44D7-85AD-0B0E7014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29FE606-2BEB-42ED-9623-767DA3CE5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3ECEF89D-319B-475C-BDC6-8B69D612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47415284-9B9F-4776-8AB8-ACFE6FD1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3F98991-3359-4C08-8572-FB1460DC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0E92BEDC-907A-460F-B6F1-7FB3294B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D5E9F6E-1195-4FC6-A33F-DEAAC604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371FE721-FE80-4FB9-AE16-8489C399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3BEA104F-8FA2-4866-9FFC-971CD237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63C3DF7-4FAC-4D5F-A6E9-88807EA7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B83CE-2AAB-4713-BAEA-6C1A38AA3067}" type="slidenum">
              <a:t>&lt;#&gt;</a:t>
            </a:fld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474D3147-0B2F-4AD7-90A4-9B71E3B7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70703AE-D68C-402F-A9A7-599E66DD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0EAD427-9031-44B8-B43D-C46A937D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7BBBD55-BB81-4DB7-9449-2E7CD604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1091EFB-9D8B-46F4-AE9A-5440407F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0C4BDCF6-6605-4A53-A543-2070126F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23A3E45-CBEC-4ABB-8E29-42978C13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E07ACA91-CF4B-4968-8052-F4DD7F21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D69D6F5-A356-48AD-83A0-7FA848E4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A3F74CB7-C2DD-48F7-A211-CC273E0F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DB7FB-5DF3-4050-ABB3-CB69CEB1A851}" type="slidenum">
              <a:t>&lt;#&gt;</a:t>
            </a:fld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C693D7A-6CD4-4295-9FE4-5237D427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4A08D2C7-F20A-4730-AD74-FA6823EF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2F330826-0B4C-4618-881A-CAFA8D1E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7291B209-18B0-4918-9F04-DF37D231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309CD60F-7247-46E9-B7C8-02F8D698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A809124A-B884-4762-BF65-C2E7467A6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B4BAB7A-9986-4E6A-81B8-10C6D85E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576E5AB-B590-42A7-9A9D-2F2B3031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9183C81-A91C-460B-914B-EB3E873F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437D88D4-53DC-4AE8-9A3A-DC1552AC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60838-2034-4547-969D-5D7C5E79C667}" type="slidenum">
              <a:t>&lt;#&gt;</a:t>
            </a:fld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4D0A2457-3082-4F4A-B81B-40F31B68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686B0CDB-B1AA-4B5D-BD7B-FBE5EE12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2111E27E-432A-4BB3-9095-F1225E44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9DB31BC-6761-46C3-889A-C5495E24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7C867A05-71C7-4F88-B020-A890550A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09EFE632-CE77-4FDD-97FC-40673723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C17A7E8A-557A-4FB3-BB0E-AF9DDF06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03F1C244-A117-447F-98A5-6EDBEBD3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B1DBB316-EE98-48F3-AF98-5650A777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EABD905-D860-45D1-BD8B-4F5C764C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99A66-EE1A-4F83-A813-72404CCA015D}" type="slidenum">
              <a:t>&lt;#&gt;</a:t>
            </a:fld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41B8DE9F-9E9C-4108-857E-444D831D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BE0D1AAA-92A4-42E1-B42C-6F44413E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5C6F9165-0ADD-4C0C-8F35-09840D28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D6E62BB-C0DD-4AF8-8358-C2443EEE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479D06FB-2058-4459-9974-8AB2DE8F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B5D9E57F-BF77-46B5-8AEE-98AB72E5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783B419-8364-48C8-B282-CFCFE289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8748F628-B6B1-4202-9508-5F9AA0BD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C0FCC1D-93C6-4637-A576-05AA24D2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9E2C8972-1938-4DA4-92F3-DB70EC6D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16AC-D6A5-469E-B033-42741F09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A395F-B7BB-444E-937B-22E5BAEE9417}" type="slidenum">
              <a:t>&lt;#&gt;</a:t>
            </a:fld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68003B7-5751-4FCE-AEC5-4A7D6E6A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852AAEF8-E210-42DF-8E74-502CCF2E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A43D5F5A-7FE1-4737-8E07-0E2A9436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D0309AD5-1DF5-491B-BFB2-EA31B522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42D31341-6DF4-44C0-973C-1853BCB7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3B51D64-D67D-4CA7-AC9C-5306505B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4A5FAFF4-ECC5-4F9A-BFCA-B4C20938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9FBE586-A3B2-4143-A385-877AEFA7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3C6F940F-ED61-4EBB-8DF7-2420F559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3E487CA-2F52-4483-A7AE-E66DFEA0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27654-21CA-4EAD-945E-F6055C7B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E29F9ED9-E5C4-400A-B479-AD6FCB3D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F3AD17F0-9F4D-4B04-8C65-51273BED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E37DA67D-B7DA-4C58-BCBA-4A777300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2DA8504E-E0DD-4902-AA85-E8780C7E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E7953662-4D27-47B6-A43E-92B8A933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83B0E47-FA63-4941-AB6F-3BEC333D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F0DC579-D426-44AA-8123-3E32176F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D09EB53-FB4E-441C-B241-0F6562D9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E0FCFB8C-3AA3-47EA-A72A-0DDF10B4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2EF0C93-785A-4852-901D-19E3B428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875938-D69A-4553-B97D-C38308DF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881D7B8-D2B0-4C41-8EB6-11B8FD11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2DFC712D-3D25-496A-812C-7D5F7498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128D8144-C5F4-4356-8A46-1D499119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6418991-8B87-41EB-A93D-3C8E2E2D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E15DA9B-14FC-460F-82AD-F2907A7F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98E69E5-8F84-45E3-9884-0874C3A9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B87AB3AB-A9BB-4E68-AC9C-4054A875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6F702F6-B0E8-44B9-B853-5C91526E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4477F1D0-93E0-4E8B-BD32-CFE78FD3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745AC1A-1F05-44F8-9073-3EC29481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E6133-C821-49D6-815E-C5DBF9A9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60A0661C-6754-42B8-A65B-55157E44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70063B2-D500-47DB-AE6A-581613ED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4E1A6EA-D85E-4CE2-82D0-2B5A97B2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CF3DCB6-2906-4419-8351-D01D2E69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DD1ED8B-C09B-4C2F-8712-935942B2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EDC6E39C-B708-4660-AD73-8AEE2C11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A6E7A8E9-4D8E-4975-831B-B6B75125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0B2668F8-5480-42D9-BAC8-65539EFD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3DB1A45-7278-481C-BF9A-34C669E5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A215F90E-21B6-40B2-88F2-FFEDB754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264F6-5A88-4554-B849-EEA78208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38FCEA4A-4753-4F29-B786-2BCF4170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7C3655F-205C-4EDA-A65A-E11BB87E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124D341-172C-4534-A95A-ED2949AD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AF88D842-BB2B-4B5E-BA66-D4A3B880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5FAD4C10-DD5B-408A-90A6-9C2FC98E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ED3D022-E916-4CCA-9629-8311602E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4A0F906-3FCB-41D2-8008-2851C3CE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BABF5AE1-633A-43A7-898A-2B7C9AB5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627278D6-3510-47DA-85F8-B58C40AF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6C76F861-EF4C-4A59-8BFC-6454A6EC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D6BB0-1982-4A28-B099-14A501F2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A21CB22B-1121-43ED-81D4-54EFAFBA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C5F96300-FF2B-409D-A79E-03DE76F4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DA3B340D-714A-484A-96D0-C5E3676C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067ED3AF-5B84-478C-8D70-84E1504B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151792F5-4696-497A-BD72-0DC9E436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E4FC46D7-DBF5-4648-AB7F-54D25387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6E63C0FF-5E06-4B29-8512-7FEED2B5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DF422AED-BF3A-4FF7-848F-B41C0CC6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A3094DF3-38D7-4DDB-82DA-B72A291A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9D6F6D34-B530-47DC-B2BB-D2F1B4A8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232A15-FDA8-44FF-9ED0-7AE71A36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B1BF855E-71EF-43C2-A131-438BE15B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10209E-E63A-49EB-8F62-81378398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5A7C1F-FEFD-40EA-8A46-E9473E22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5A3FF-02D8-4B7A-96B5-84FE1034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840B-8172-4449-8950-86249480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A568A-44B2-49E7-B66E-386425F9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163EA-1912-40A0-9B06-DD57E291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BDBB49-EB00-4B11-B6E9-8FFC77C2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212D7B-ED1E-456A-85D7-B465CE39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5AA4D-E08B-4182-867B-4DC1D8F8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FE544B-577B-4F1B-A3FE-33DD6B44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9BDAA-8E38-4022-A2A2-FC69E518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5B69B-E2E9-4CEE-9818-7D522EEE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8887D-5BB4-4C3F-BCB1-4F715DD9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8ACC9D-A33E-4D0C-8735-42CB00B8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6C91-48D7-403F-B827-1E78367E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F0D9E1-BE87-4C2C-B153-CB5F549D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AF6F1-27BC-490E-9784-DA11E7B9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CFB5B5-D08A-4325-B501-54759374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FA0DB-E9F7-4F6B-B9FF-82D8BED2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028962-9661-4CA9-BFAB-21887CD7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61B79C-47B3-42FF-8BE9-B39BD25A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F5D568-11D7-4CA6-9BB7-76C8AD77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67D7BC-19A2-4D3F-AEA7-490B5598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0137E1-76DA-4182-AC38-99AEF07C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7E750D-8D07-4F45-8D54-26F96CD8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82E6-4E8C-4B25-8401-1D01AAFB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AE738D-8EE7-4BFD-A40F-5B323C2E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095FDA-B358-4757-B54A-65A62951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EDABFA-8E3A-4244-B5BF-C26EC097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0A9418B-2FDE-4396-B35F-AF20D013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8ABF3A-72CE-4AFD-81A5-8585500C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DE343F-5052-4CB1-A0B3-EBEF9935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2A294D-4797-4BC8-9655-FD6CF3555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C47CE-883B-4943-88F2-C63B62532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F1F5A5-DC9A-482D-B0D4-ADEE7DF4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2A8AD-EC18-416D-9D26-2794CE4D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7010-0D9E-4DD4-840B-28C2FC27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51C92D-483B-4728-A651-FEE219ED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6634C-CA14-44B4-998B-D0FAA09F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4D2E0-AA15-411C-9223-4DDE3C76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2E18D-DDE9-4D05-A4FE-C3AC42D7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4DBC4-0B05-4639-9AEE-F61767F1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21D648-6FBF-4570-AA35-6FED694D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99C70-68A3-4965-8129-C87CD03E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B30E69-E117-4B37-BAFF-53B757172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CAD51E-C992-4950-9F23-6CF2F238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C3C84D-131E-42FA-BF7B-231C0792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92CA-2C8D-47CB-9846-571FD789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C5E138-4952-4409-A308-633CBFEF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504BE0-41D7-4991-B769-E9EDD290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DE7CB9-F75C-4683-8B48-194CF5B4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68B77B-63DC-4A9F-88E8-4C489AC7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93B99F3-0B87-4B47-AA9E-DF66A25B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8C452D-5746-4F63-AD35-1DBF1D16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6FFC5D-DFB7-4CFF-B493-31527457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12F4BF-B2C8-4634-ABBE-C2C22121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6B33A4-65CC-4C4A-9648-8A39E359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EA8141-AB92-4F5C-AEB4-C73701B3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65FF-7D92-459D-B3D5-24948404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7B63E5-72F8-4838-A12E-95956BF6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DD0B8B-D98A-4651-92F4-040AD4D7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1E6806C-C0CC-49C5-BEE4-634B539A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87AB5A-B4DA-494E-AA97-E9CB4A86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22D3C9-CB6A-4ECA-983C-B0A71EFF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0FC6D21-7DE2-4BB7-AA98-FDFFEE88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8A85FED-2152-44F7-8FFC-FF1F21BF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B4D122-5EFD-4F56-B404-5E4BF01D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B1D55C-5854-4334-B89E-A30E2811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E67CD8E-9EDC-46FC-8C6F-ADC683F9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9B4C-C0FB-4019-94D1-267562B8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3F83D18-C771-4122-9819-16DF1FE9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01A93D-7AE5-48C8-A606-539A11336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DD01681-00D3-4F49-B3FC-B0D4FAEC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484940-8148-4A1C-98EA-81849DB4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F494349-CC0F-405E-9D1E-BC568748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E8181FE-A8F3-4FB5-B318-9781050B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071EAA6-9EBC-4B91-8EEF-994A4088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611441-0A18-4E32-BF27-EA126DCC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B18DB6-E020-4920-8EB7-70C795E7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5456F1-6171-4C8B-B4BE-B87EEF65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35F-CD0D-4A5A-993C-96943C19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C5B7-EEC7-435D-98DD-9131AC84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80C339-97F7-4FDC-97C2-24637464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A65B3E8-EBA5-4472-8C5D-C3642535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9EA5EB-C35A-464B-8DD1-DA5E2E6A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1C7CAB-533B-40D2-8FDA-66454A9F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4E02A26-9925-43D5-BEFA-F1FCC6AC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AE85E50-2FDE-495A-94A8-5EC84FA8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C4EDBF8-9FCE-4273-BCA1-5B6F7B8A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BA4B7D-8EC7-42FD-A8E5-E7C3D581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12E484-853F-4851-BD33-326C75D7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FD3EFF-4AEE-4953-B942-68519EB4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0F5A-86F1-4F1E-B8B3-1E419DCD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AFAB1F-B62C-48A5-9C9C-44FB3A47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6149716-1424-46CB-A9C8-C7608F7D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C1C3398-5398-49DC-ABB2-C6BFC206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971ACED-3797-4BEF-A042-DF0E69C9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189CF02-8760-44F4-B33C-1ADC79CC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094E07-999B-425B-9521-67EAA261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DC35221-4A11-4D0F-BB85-8A08A1E0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1EE5CE1-08B5-43B6-BAFD-A1EAB253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83D823B-6EAC-4E74-9BB5-2FE9CC46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46E9C54-9480-4DAD-942B-C680919C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42FA-4B2C-4555-A9A4-F3373A71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155D251-730B-47D2-8F68-9F3AC8F5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96E70E2-1970-495A-80B1-B8B9B78F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816089B-7F6A-4A93-9816-066C0B71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A81A54E-DBCF-4984-A249-26312A8F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B1D873D-7FD8-49F7-8D75-CD97D060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9238AD6-517C-406F-9CC3-C6C83C0F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93E42E8-2A6A-4E1F-8C6D-25C916C2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E1CAB7A-6E6A-4CA4-8775-F278E155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BCE0303-9625-4815-A625-E65EED1C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BF1FCD1-9AE6-45C1-9065-9B28A650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A440-8070-48F4-8F1E-BEDB1E1A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190F883-86C4-478B-A9E4-BB6395D8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5409F91-C20D-4ACC-BDC9-DB960AD1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372475A-A156-45A8-970D-97FD661B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63888BA-EDB3-4BA6-91C1-0AB974FB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BE30E7B-E4A3-4F57-8296-3AFCE5F8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D0D6531-0E09-4654-88F8-12A88AB9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0ED7CD6-544B-405C-89E1-BD47B432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DD8D56C-EEA1-4B52-B9C1-80A2783D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A916B2D-D180-4645-A62C-37A2862A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37F0441-99EE-410C-9DE2-F2EC95A8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D73F-0623-437A-8115-4F8E8167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2590521-0ED5-4C8E-8F05-32BFE5D6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7185D11-4E9D-46AC-80E3-EC9A9F8D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7A932CD-BD27-4CA9-BB32-D3F67DC8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9E5FD53-D205-47D3-A0CF-558F7325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C3BDC39-D341-4EE1-A336-ABAFA99B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ED5B845-D4EB-4AD1-9BD7-AFFB06A4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81B18A7-CDC1-4749-9100-2570D6B8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17FB700-BD6F-48DF-BF3A-CBA54A22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36F5B98-DA88-4502-AC73-F118C73D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0915362-5E0D-4CB9-91F2-39CA6497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7A613-9262-4F2A-8FE8-7D112A20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2F3217D-21E6-4971-8E37-58D3FF64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3F44FF0-EBEE-4B34-B74C-69F3DA59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5738CD0-0348-4575-81BB-634995315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7B38FB7-B36D-4390-8926-D085A801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0389859-A47D-478C-B486-B5E6EDC7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35B6F28-6483-43A6-88DD-A2834AC1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F284769-6F64-45DD-B07B-1C0136AA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F671694-27E6-4087-AF4F-D5A39FC7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CA73E3D-B769-4BC9-8AFA-9B1E74F5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1634509-4F4B-4B15-BA72-39318A77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51066-D9CA-46D8-ACC1-F3C4E09C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92FC260-F2B0-45AA-8C7C-29798409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A5E1244-386E-4831-A70B-B950C83B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351D674-02DE-4A6A-A82C-DEAD1D76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1F9FC15-043B-40BC-97F3-3BCDFCFC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954FA7D-BD52-48A8-AAB0-91D86ECC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FD8BC26-443A-4991-A584-B6B6C776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A15A68F-BF6F-4E25-91EE-34E55FAB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05254AD-DA5A-4B3C-95E1-A959CC9D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F2FB08F-4FB4-4A26-8A2E-EC0F9F99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68729E8-12FD-4B35-AD7E-F5C5C176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722D4-B6E4-43A9-9905-04352B15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CB62856-C857-483E-AE64-D24ED3E0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CA4126A-DCDF-4267-9960-E07DC09E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243C5D9-3D24-4DFD-9595-0746DF9B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A60CE20-AC01-4764-A70D-EF8252EF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C0CF10E-FD0E-4B09-A396-57F50A0C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147C449-9C0F-4DB1-A736-A4DCCA85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EC8994C-2C02-4703-879F-5B620A66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82A47BA-C48E-41F5-A262-BA43B967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C73013D-7A31-44B0-8CFC-A53F64C9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BD9AB1C-C6A7-40EE-9089-7FC3E324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25D18-965A-4C78-9DD3-384874E9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9704C24-86B3-4A28-9AC9-F8C160CD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6518F2E-1831-4DC8-B2ED-CFFB1FDD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F73DD48-EF16-4846-A742-B49938B7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0D2FE05-896D-46BF-A447-0D92938F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93F7D2A-EFD1-44D4-8070-162B6B05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1611795-E565-444F-9DE5-3451C7F1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8DE459C-BAA8-4B39-8C01-D3B711BC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DF79DCB-28B0-46E2-BA9D-001F0A1B2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1EB9A3-62BB-4315-BE78-74819FEF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3222384-6766-408D-81F3-48BC1395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14BD-8F65-4AAE-8407-2C65E7AD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77D97CA-7FEF-4D3C-B6A7-3DCC48EC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49678DD-3F54-44DB-9F43-0F678D9A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C6DB0D5-1705-420B-8814-F08D20A7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D0F6370-F987-4274-8AF7-D971441C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3EBA2AA-D182-4D0D-A270-B724994F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174BDDC-1FF1-4AD2-A28F-8264D5BF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80DDBFB-B368-4E81-9BB4-90F6A3CC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41B7D55-1799-4CBD-AAA9-2D87A115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1E07118-F967-4A67-90DA-357377FA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2A3786B-665D-43B8-8C42-E10CB621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10B-B236-4D88-8C71-F8F4A934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93493-EAF7-42AB-BCCB-B7A26A0F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805F180-5E9F-4BC3-9736-DEC4B09A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B26C063-29C5-4234-8DDB-68E1FF80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82F4B0B-EFF3-4472-8AA1-F4982879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139D798-BD4D-4DB8-8BB9-A7D031ED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FC4301F-01FA-46B4-8C74-1F37152C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ED53356-EB6A-49C9-BDED-70E38D92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9BDAA19-5032-4B65-8278-DCA1C6F4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7FA7881-2207-4716-ABDB-026F65F1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27742CE-611A-49E8-BC3D-865D672A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A795D54-A63D-4752-897D-869C15BF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D990C-7B4B-4873-B5D3-4C29C698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00F420-79A7-4D68-8099-4EE2D256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A9EE522-4B53-4707-8A6E-ADED4F8B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3FC7C5D-9011-4799-9943-14212DE2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8C1FD7A-88E4-44CD-8E5F-D14C759B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C0B972E-3722-4CCF-BC08-CEB9279D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2972AC3-0D64-4E32-807E-E9783D34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2484BA9-A3E9-4F07-9B94-69F6FDB5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E39B285-15F7-404A-950A-9B8B72DF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15820E7-5AC3-4DA6-AF36-E9527967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A6C4D4F-07B4-4108-93D9-65566146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B2E78-9A0B-4BD0-B863-612FC54C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08D9E43-A9C7-4359-8A27-F81A2D46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AF652C2-59C3-458E-BE07-3F17E7C2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3489797-21B4-49A3-A4EC-384D17BC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E9D54F0-A7BB-4D54-8293-3DEEB123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88E120C-1F08-4A66-8A53-9338BD45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2670AE4-F080-423C-AECF-9E010C0A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670FB8F-EE28-4716-A3FB-6904CA20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14AC871-F62D-41C3-BBBB-29EAA413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3F74537-3AC0-411F-B23A-292245F7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1F84BBF-56DD-4C28-B3BE-5720DFD4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25441-F831-4D3B-963E-FA996671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9985E4D-EEBC-419C-9F87-7D9E39AB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B9A286B-862C-4B14-83E2-89CB0460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DD41C90-3AF2-4EAE-B153-8866F34D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89E9005-34F8-49FD-BFF0-FE8C7C3C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544BB7F-533E-42C5-86B4-9BD5D557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D68748B-BD4A-4BEF-9504-83F71595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722CE74-E941-41EB-8819-B55B9846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86CEEB1-5712-4D7B-B741-1AEDCEA4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6875BEA-B952-4ED4-8B89-9360490F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9120504-C127-487F-90A5-37F63A59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14C25-DF2E-4196-AD27-AE7F8E8D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62BBF82-639C-4081-B416-82983F2B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64D681C-B659-45AF-9B5A-8415A8F3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B59ADEE-5265-4D18-9AF4-28BBB59B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4F2403B-27B9-4E6E-B1F3-99353B2B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EB856EA-16A0-4125-94D5-D920491F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37ABE32-7969-43AA-8931-7D087F31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92C1BBE-FD02-405D-B168-67444E7D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07DA480-172C-43A5-9402-00EED546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26D448C-CB45-47B3-9E9A-883B65AE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CA4E64D-AE96-446C-9412-BC137E8A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9EEA4-9606-4155-8069-FDEBC60F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B94499E-279C-4B33-951A-B0048009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FB20E40-F6E9-4C3B-8082-0A286ED7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9090AC4-B7ED-47EF-9812-49A149B6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FF59B4C-3C0D-407F-AE23-939E9079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C0369B1-39A9-4D4D-8262-FE3C4197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439BBA6-93B3-4DA2-AA74-36BD6FA3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C1523E2-3246-4754-B215-FD3C6E5C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3425BE7-AC1B-4E02-B033-DEC25C4C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C66182E-8F7D-4467-8BF4-49FCFDC2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CC8B036-2C8B-4B7C-BE2C-6EA4639B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305F2-21B5-43D7-B2B6-F11E2DC6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6FA92DC-0CE0-4858-BE46-0DA9D712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1A5DC92-719F-43D0-A3E4-93174BE5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1EBA027-10DF-45BB-98A5-BE684008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336C045-A302-4EB4-ACEA-B439227A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54391CC-9C09-4E21-A8A1-CBFC2611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3F46040E-E9F5-4F62-BD7B-DA076DE0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0A338F2-8128-4A67-921B-D340FCBC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00500F7-D041-4007-9D64-E31C8696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3FC29B3-6048-443C-932C-2D213BDF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E1C08E7-534A-4337-BFBB-8B6DFD53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00F8A-EBE3-4FCF-8648-BB6C6D2C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1C625D9-F287-4E75-9CA1-BBBCF586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088F620-4222-402E-BFCC-2F50CB51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3FD8FAB-C820-45DB-BF3D-4F1EABA5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3EA5BA4-0CD4-41E4-9894-2138CEF5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272B95B-E218-41E2-AE67-110CB981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7D8B9B6-A89F-490B-9AAF-0C2A475F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28C382B-F684-488E-BB2E-726C845D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FD0AFB4-42E1-4B84-81BA-D996B902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8C9D80A-C6AE-4A8E-8D4C-1538E114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E8D7579-634B-4EAD-AC9B-800491D7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43257-2D8D-4251-8B99-6D99B443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E4A212B-1CFA-49CD-B18E-0CF5248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6DF9439-8A69-4662-A1BC-590705E2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37F1477-D01A-44B7-8784-B4E78FA3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49DB6D2-1962-4E8F-A409-A21CACD1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517075A-B12F-4CB6-84FB-DAC3066C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1C4D34F-4A75-44B6-B8F2-6EA0BA29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38651EB-9CEB-4F95-85AE-081BFCE6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EA9B328-D889-4849-B4EE-A9051BA8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BA9D929-D049-4A28-9D18-71D28D77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61CE60F-3DA4-4C73-9041-56DC9C46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C496F-E900-419E-ACC2-1C6DA56E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6EC34E0-C034-4C0D-B8AC-9979CF02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364F7CF-0EE4-4495-9118-98E2D72B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C4A24D2-D0B2-4D5A-8C59-3164DA79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996794C-2EC1-4A40-AFC7-318DE25E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E8D4722-5BE7-465B-A1E0-5FDBCA26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5C904AA-613B-4E25-9745-CA0252E2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BF22F62-EA7F-4E0D-A2C0-C1C355BF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C630180-E2E7-488A-B852-2F2ED35F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443850C-FB2C-4A63-A5E3-6DF10A61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973C264-9573-4AE1-95D8-FB7D5136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CD4-FFE2-41F7-88ED-1E5D2A9F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E59DC-AB8E-4E66-B72E-059E4B15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E80E734-DC6B-4459-92FD-FD01CC4B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D942F2C-C31D-474D-9623-3B7C6CDE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02A1DE4-2772-41DD-9631-049923C4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67428E9-F677-467A-8C28-5B7C2907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AC0DB34-1125-4696-9CF6-374DEBFD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0D73866-442C-4BC6-BE8B-4032CF97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9D22885-259F-4E64-BF07-43B87DD4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674C1A9-369C-41C7-BBF4-65250976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257B0CE-2647-4466-9AD5-E1936858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C5CC07B-C11F-40A3-BC6E-7349F097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958F3-FBAD-4C67-BD40-7E9488B3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A165A36-8BBC-4475-8531-7D213531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B79135C-918E-4445-A625-618A35A7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38F59ED-F5B5-45B8-9EC6-3CEDDE7E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6FA3E0F-D050-4E94-89A9-C6A2D042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F80869B-82B7-4B62-B581-BB7956EB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663D5EF-118F-4FAD-BC4D-5B1C8545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77C729A-F837-46CF-A7B7-CFD31A8D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18959C3-37C6-46B7-87A5-88896CBA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C96377D-9B58-4413-9804-89B57CCE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15A78C0-6646-41D0-835C-40D9E8C1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2DD4E-2B98-4ED1-A320-E327634B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DFEB3C2-4851-4767-9621-34D28C96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2B18318-A6C6-421B-BABE-E6BB9534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8854BDA-6696-4D42-A792-FA2AF552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01D6709-688A-48B1-9E5E-13840D68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9B0CE2B-59DB-4F11-8B28-53EE0B2F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1E89E50-FB67-41E6-A790-950D7769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7480F93-11D5-40C2-96E2-E92D5CDC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D51F859-76E8-4136-B652-EF696CDD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F4E2D33-133E-4265-91AA-CA03F49F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F9D5CD4-0782-4969-9E4B-D3AB0C1F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82302-D535-4DF7-8E81-64F8DC94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B0C37E5-C9A8-418B-9B7F-955733F4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96CC531-95CE-45E0-A131-8A7F9FF2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8228E52-5D30-46DE-9823-7014E643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25DA63B-0C9F-419A-BEFC-B3D5A9BD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78F9EDA-4FDC-4A03-BDC2-1C8EB2C0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9EA7AAC-3BBB-4076-A193-C5D172FA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31D5218-0821-421C-AB76-CDFE92D4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C01DF2D-59D4-467A-8B90-113B3F4A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F022BC3-AB72-4E13-A35D-7170286F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4ADB346-F5BC-4609-83A8-680D4A48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920BC-2638-4379-9328-030E5775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6AE844F-3646-4B63-A518-C126403D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C997998-A0FC-4FE0-A75A-F52F4571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622BC7C-81FE-4584-82F2-0F283C80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C57F78F-6AB8-4569-A751-5905E041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15B534A-5484-4A29-BC59-E3A8DEB1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55D4FFC-9D01-4C7F-9567-12D75EAD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D4FC7E6-6B4F-4301-8F8A-FE4A1B99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945D906-6076-4E99-BC57-8D012F94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E5819BD-CD18-432A-9DD1-7888E1C2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E16C609-55EF-43BC-AC40-64AC5326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93660-B85C-44E0-A9A5-77DEE741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027E48B-49D1-491F-8DA0-D94E37A3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ABA87C2-CCFD-40A3-AC3A-BE7D19B1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0CEB302-1094-47E5-B1B4-F261ED09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6B77A7B-5037-44E7-B32C-B49DA638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A6ECD77-7A1C-418E-AE75-CBD9A475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CB43063-A127-469C-B2B6-00A17BFAA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B18EE01-4CAA-4583-83C2-9E2B0A73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B1F3D46-ED07-4F88-8608-AA3FBCF8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6479A38-6B35-47AA-B4B5-EEDE1753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B12FA7E-3917-408C-90E9-7D7AF16B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7D294-A9C8-40DE-81FF-41AB7B02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0336B57-7B7B-4506-B61A-E234B9E2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330F0C1-0579-470A-B599-35CB7222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4A7F6FE-9ACC-44ED-AB85-735F27AB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9F660AE-4F9C-4EDC-92EC-4F0FE082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24D4464-8ED0-4250-9174-DB8DDBD8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208F8AC-D965-4100-B772-87088D59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C24117D-96E8-4AE0-A1B6-6813B8A2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B08008D-2883-498E-8D99-8C6EE588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071EA22-6FB4-4B6F-9D7D-11BFAC37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6DF12FB-E8F8-4AEB-A9CB-866D104F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B1E91-380B-4F53-BCAB-13726465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BF09188-5D70-4513-B654-6ABCCCCC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890BE70-2587-44E4-8C40-0378B7F4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EAB9EA6-86FC-4D4B-A05A-519A9840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2192A3B-E9A3-4666-AFE5-398A1E22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CD8FCF7-6D90-481A-8B99-E106261B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31A7D07-0830-4E67-82C0-655955CE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FBFF6A2-4EE6-4A31-A60C-1257B1E7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B6118FF-2016-45AA-BE91-CF72F931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1FD08DD-5CF6-4581-BD76-E82C57F3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B914E32-6050-474D-B29C-3C1896CD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F6FDD-C03D-4F4C-A6D2-8A6B4D09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6F2ACB6-64A0-44A8-A627-BEF51F02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176B430-FBA1-4A31-9499-9166CB7A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851408D-2E0C-4755-8400-E47AC8FC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6A2F282-B5A4-47A7-88D7-1BFCDE3B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6DA23D6-7196-4842-B598-50654FE8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C51D9EF-5A3A-4B72-8C65-D5E59CD2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F5808A8-EF12-42AF-9658-6D56EA70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D4B43F6-511E-442A-BC70-36DFFEDC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70C4D24-9C47-4DC0-BD89-9C6C6AB4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BEF28BB-B6CD-46A6-9E6A-F7783AEA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5E9C3-B9AF-4DDF-A0E0-63BB6B76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2F680CC-5F59-46D6-94FF-EEB8FD85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242ECC1-B006-49EE-A755-8A1848FE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3367382-933B-4562-956F-977A2838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C4D81E8-2B6A-4661-A091-ECB3025F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CFA1826-EA6F-48F8-B6DA-28477743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FB8E612-FA32-497B-A88C-C7317ED9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08D4F6E-119D-40E8-992B-4BF47556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B277717-A4D6-4439-BBD9-694919C7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B03B01F-9299-4331-A9B8-F560D153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3ADC467-B34C-4691-8BEE-0926A5F6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F66-8283-4DC4-8C61-562E3288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DFB8A-95D9-44DC-A93F-88C62E65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1D9C8A6-8EFB-4062-94B7-6B3FB635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4703348-69C6-4777-A6E5-2CCC3769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9E3F9C9-9C05-4C51-A83A-C8B297A1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7578B7B-956D-4E17-BF4D-3DDC16D2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4F73E2F-6843-49E7-BC4A-7ED53331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D740243-8D19-4AB1-9250-FB5A84D0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4300776-9282-459A-BAF6-C9ECF15F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5B3271F-DECD-463C-BE2C-FA27DD38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4282A0C-6DC5-4CF5-A294-E6058C9D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0E28D67-B954-4A61-8028-4FA3261B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EE0ED-B138-4BBA-8302-1CB08FFF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C3C4564-857D-4A77-9F7A-FE2C962C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3657F28-D728-4051-8E6C-21E40D78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AF7FF57-690E-4849-A29A-EE709341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D70C8AE-E296-4FC7-A0D3-B9D92D33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DDE7483-F1D2-4335-8664-E94E4792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B67FF77-6CEC-4BC9-8514-533EECB6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C2324024-2AA6-483A-9B67-5F100E53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DA0B4C6-3B66-4951-9AA0-3B1F72FA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6CD62A1-BF68-4F21-9585-E20C4B35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561992B-B097-4CB7-B72D-341E0109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B1122-9F97-42C5-8665-AC328353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F803C5C-423D-4AE9-B2BB-15BF905A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B3FD747-87FE-4AB6-AE0F-564304E0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2E3C681-3709-46E2-AC74-E5331367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1DA8BC4-F654-4051-A160-56D75A2C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DBD6C94-6863-4A44-B54A-C628FF35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3C84AA59-3C5A-47EC-8C06-EFB0DCBB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6ACEFDF-A7BA-4D8D-810E-2882D2C4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6B436A1-0543-499E-8340-8093CCEE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1BB6AC6-F420-4CF0-A7EA-22223341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5A479D6-EB4D-4ACD-99E0-F8CF5259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031D9-C4C5-4F6F-A882-9D1EB81C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D26BBF2-97E4-413C-9386-8A768541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88D1D07-8610-4262-8A64-59D5F7E6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7337D36-29EE-41C5-B8C5-8C08D7BB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B5500DE-F64F-44F7-8DDF-B9BC053F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C62E0A1-173C-4F55-A94A-43AE7CA1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45F1088-0717-4714-9121-3A9DA081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C4E53FB-65C7-4E24-8E51-9F0DA243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424AE52-665B-4F65-B776-41EE4A5A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AA7CF0D-4D60-4CF7-8C67-EF8E1E61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60BA49E-66D8-480F-ACFA-AC143148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4529F-1D43-408D-A465-BB9299FC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3FA9F0C-FC70-4DD9-A859-4E0FE60E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A7D3138-9EAD-4B54-BA95-9662E4BB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01938F5-2DF5-4A07-83E4-E6E51AED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A11708C-4808-4899-A4F2-CE2B5FBF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33AE82C-8D52-435F-BD9E-1D93CE4F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103A64D-E90C-4EB5-BD4B-2BE35E16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A5BC828-2994-4C0A-87E2-D2C66544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D77A188-52B9-448E-B023-F2B5ADA7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8E54F6E-0B15-43EC-B344-4CA3A797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64447F9-1C89-4209-A4FA-235DDA6F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DE20F-93E2-49EA-9B34-EA4A92BC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8D94669-B1ED-4BA3-9736-36994DF2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7B2E053-7CC8-4BE5-A6BD-99C1615A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B173B8F-2A16-45B3-866B-A31D845D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79CD23E-4CA0-4AC9-93B3-770F8A1A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DD12532-3884-471D-99A6-68BBF74F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53522A6-5DDD-4B97-9253-E32F5A3C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E5A2C29-7A53-4460-B7C0-04653CAF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1DC3669-C78E-45D9-9599-54DB5242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D2053D5-FFF0-4D20-BD90-7294B952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0929585-061B-481F-A874-D0D09C87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AA031-24CC-4CF5-835F-AD6F99A1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24C0441-C7DD-49A7-B893-57EEFEB2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6D8F644-8624-4F3F-904A-70865F8F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D3E3CB6-0AC1-444B-A907-8184B19B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856FB52-BF18-4E44-8E3E-E0886107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FC8ED7E-EEF1-4207-9529-F38BE8CC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5B777-4A99-4F5E-966E-6DF091FE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FFB71-A36C-40F7-9B28-C561B3E0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F5740-2313-4E79-A11B-60FE7EDF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EB9-A713-43D4-8F9D-DB7A78FD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89E32-D1FF-4820-BAC1-F13AAE2E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D1919-4725-4B74-94E4-35AE1D41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B8804-2ADF-442A-9D6C-50BCBF21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945E0-E208-4F5C-A233-CA6C395F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B54F1A8-0285-4A0E-AA0E-AB1ECF5ED413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4E624F1-C003-4117-B5E0-55B0A4C3FF76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01F81CF-82F2-4565-9C9D-C7406A08B50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BE408-E6DA-4907-BA67-669BED08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E2A44AB-C098-4787-AB67-AABE7482411D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EB9070D-49E7-49E1-BEDD-44CA8D380011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D50283D-EAC1-42C9-B0C8-9800CE75188A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64728C3-B31E-4C1A-87AA-5ACFDFD0D9FC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D4BEE7B-8287-4B95-B138-F4FF5AD7FB33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FA3CDFE-5701-42D1-84BD-526A02407B9D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D5424D4-8168-4254-BF26-D2F6144F39A9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1329E57-9E7F-48AD-8F97-4B3BB96B30C5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B8C0BA8-8100-4382-B98E-8B58254672CE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4EC20EB-A7E1-4CD8-BA7A-40CCEA1EE2F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8FE6B-149E-41BB-AD31-D502C5B9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EA9E04F-E18C-4AAB-A187-1E40E6161D1D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0B91FAE-E756-43FD-A25B-9DE11D8EAF0F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8E64089-6454-4CDB-90E0-834343FADF99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1466E7D-1050-470B-8FCA-D7E19259BBC8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D4FBA2E6-B01B-426B-A1A4-B4CF242CE258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8D8D4D3-3E1E-48A3-AD21-4AE9CA03C450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E546D76-BF46-4E94-A436-836B3A809DF8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BF04D44-FCD1-4CC2-803E-BD3AAB5066ED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3B00094-238A-4820-BEDD-FBFC015F52F3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4CA78E4-DBC1-4B8E-9C25-14F4FC8195A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66E82-AA01-43D5-84AA-C0B50273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3A99819-2E0E-41DC-89C0-B3FBA3C928B0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7A84D61-4776-49C9-9D72-F8EE7E2135E7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6D3E86E-0636-4CDB-9962-A115F4A6076F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09DD912-19A6-43BD-83F0-D1C9558B331E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FFAB9EC-D894-4B1D-94F4-0D607FD1B424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84E8F97-65BD-4781-9BA3-908A9442F4DA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3E08C1B-5410-4F65-8609-86556FA12207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BCECB24-B689-445D-93BE-3CB194FB6052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B2106E3-B5C8-4A8B-97B0-D679C196A024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D93320C-4EF3-47F7-A8C7-FB60AE8D5B5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2892E-66E2-4C57-A869-C8A1E693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3D55B3C-2668-4C9C-8D1C-703A1ACDE659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E1B33B0-A949-4DD3-A332-E40072EEDC62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C5313F7-79BB-42A1-AE01-F9C040FBEA3E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34F86E6-6D2D-45A8-B57F-EEB5ACA3A0D5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AA7245E-3371-44D6-90BF-B990414C0329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50769FF-49EA-4647-BFAC-2F31E7B2C329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6AC59BF-AA8F-45E6-8EC0-6FFB42C368E3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D01CCB6-CA8D-43CB-9E0D-75ECB117BD07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D3A2917-4599-4A40-B95B-7861D9C33217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D4A78D3-CC43-4375-BB0E-6EF4962EEC8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11428-E1B6-42B8-9BA4-BB171D9B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C29CA6F-E2D6-4FA8-93F9-C3B7C7771077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6357F32-982C-4B2F-AC21-4A6E2F64E4AE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53BEE69-D9F6-40ED-B230-9B58D20A5768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D61F8B2-B149-4FEB-A0DF-CFE634EC744D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EC7995A-230B-49BE-A77C-013F728BB07C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B55F841-E5B9-42EB-8B3E-2E498BA403EE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70028F4-32E5-4DF2-B3CC-0E5F0DDEE85A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6586D4C-C842-4C53-8EF2-DE50483B5935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3E73B6F-763B-449B-B988-A04FE803D083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17FB9BB-6501-450A-95B9-85A118BFE49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E3E0C-74F3-42C7-A470-4D5BD8EF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C9D2551-65A7-4BA6-BF72-7DB80EAB7950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D165624-6C2A-43FD-BE3E-52C29AABB713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2FA4850-1C5B-4F1D-A7D0-B2D485CC053A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AD6F069-5813-42E6-B06D-73209A6DAE5F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C221234-863D-4EF5-B568-47020EE50DCC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42C15A1-DF97-46E0-B127-6A8CE3623AE3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3DADCB4-EA0E-40DA-8B8D-D4BF6610BF2A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1E24A22-015D-4D5B-AA96-E225CB20FD6E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1359619-E3FD-49A2-AC95-D530CA3BC664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8F48D9A-4CD0-4484-9DBD-751F3BE5F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9D2-E2F6-4351-8B6F-3F28E71B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6568D-5186-4844-BBA1-438C66C8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D694F2B-F558-4478-9C8D-55D571CBF471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630CE5D-07A5-45FB-8C0E-C49FA403C5F8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D91D87-FBE1-41AD-B554-657B8F2F7CC2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7ABF0F-19C0-4D47-B0ED-731F184C7CFA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4B2B3C-C85A-4309-824C-815CABF024F4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24FB3FB-858F-411A-AFE9-C84DBAF5A46F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E0CED79-996A-42BC-908C-DE1822C725DB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8C9D1BE-589C-4B6E-B3BD-789CFE566269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952D6FC-0773-4F9F-8B1B-0E1A80E478F9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49CBA80-F242-4890-80C4-FBA13147383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082CF-03FB-4D73-891D-2A23502A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976E935-E464-4553-93A2-B16CF6FC738A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F34C9E3-DB00-40EC-8707-6171530253D1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DDAB6A2-CA0C-4978-B77C-AEB59F807116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C9DA064-BDEF-40C8-BD1A-8BA3F2B945EA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63A776B5-379E-4D05-92F5-C8482E8777C8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19727B59-AC69-4800-9781-C6CA19B81DB4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12019A3-2CBB-4777-BA68-16D47B4DD7A5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A445BD8-0391-406D-96CB-A5F1916A712D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C633936-4DCB-405E-81E4-08221E1E0E8D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F8403A7-0A06-4890-AA4B-A8002B99A2F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56FEF-DC2D-4178-BA7E-49156329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60C590D9-EE50-4C1E-8AD3-5394A877E3B8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269B6E5-4665-46EE-9B50-B02748983989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C688313-9750-4D09-85F8-22A5D7BF27EC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69FF33C-C16E-4B05-AE6C-2AD7C7AEF282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ACD5A0C-213A-4915-BB8D-3D76098859DA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30F8A28-1F99-4451-AFD9-DB6B08B17A9F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F478A65-4912-470C-8A1F-C92ACA67502B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75D6339-7814-4C9C-A000-C84C321972E4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9053365-5B35-4E7B-B124-D685B99086A3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EC3007C-1608-41C0-BDF5-5BD8AC984CD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496C39D-1974-44C9-8C27-9C95A16C12C7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3868E04-3FFD-48DD-90FE-4A47F1B0CDAB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4F1D74A-32CA-4571-AEDA-50945E32118E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C543E19-A4A2-4DA1-AD10-F54D73524DD6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C08B5D4-158D-4AA1-A702-030C782A72E3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A5845CC-4D05-4A0C-AF9E-9287AF57A937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8D06F00-694B-428E-BE80-973290AA62DA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71B75CF-2075-4622-BB9A-1AEFF167D3FC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6959B9C-D8CA-44D1-BC3D-66807AA0995E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D82D9AD-A919-45A8-B8EF-3A18A3133FE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F06A1C9-D521-4B12-AB61-125200498E84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64F5790-6E0B-4729-ABC2-B5A949822DA5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0FD26EC-9BC3-4914-87A9-652A9C6FCE48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3B3E238-1B4A-4538-BB6E-3936111C4539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2EAF6D0-DDD2-42D5-9DC9-9446F4B0F96E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4CC8B59-28E7-457E-9B9C-21B4E25FDC10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E726075-56B1-4A8F-B6D8-B2D281674D05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657E33E-C8B3-408A-8517-9B42500088DB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F42A087-9385-4691-9ABA-ABE515EABF0D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31A21C7-318C-4C20-A1FC-C1E2E1DE231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FD00609-B521-4BE8-B4D6-13A558504837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2B59522-89AE-49AE-B6EE-FD575A463B43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B63E263-158A-48BE-9E33-D2F5A19494A1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B219F7D-E0DD-4528-A977-33673CE71A03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DB80A32-04FB-4A02-9F0D-F21ED30E143C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54D80E5-5C9D-4F20-866B-B6F8E34249AF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4949621-AD1B-45A4-A5A4-BA11D55DE0D3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47A3B0C-0CB4-46E3-9193-8F61E678F15B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C7A8090-F7AC-4AAA-ADB8-D1FC921923C9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830D23A-CC8A-48C8-A0A7-C4936D578A5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8583ACA-7A0D-4D9F-B5AD-B1E79B415CF8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6AC3B9B-3472-419A-B1D4-4E8DD8F58EFD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74D7FF9-71F2-45BC-AE86-D1345AD4BF0A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D44C10F-9737-4A5D-A60C-D7C8A21245EC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50D68C4-B5CA-4EA9-9453-0C79C4773525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3995D5E-2DBE-4F10-8CE9-BC2422D1700A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2E9C8D9-72FD-4E60-9065-A070C76CC617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CD6F2D9-1B6A-4020-8DE0-CA7512A381D1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3F930B8-8D66-460C-A2D5-C7C179628C6E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F69844E-B1C7-4D62-883E-4E28CFFB26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1C2E761-6D2B-4F4E-BF9A-B39BA96AACB0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70825AD-4720-445D-ABEF-0348934E693E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F36C295-3D46-4AEE-9645-239FF816963B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DF3E828-E23F-40E9-948E-FA2FAC40EDAE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B8BAEAA-B1B8-49C7-8009-D031BC84B3E6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1A6B6CF-BF41-402E-8B15-994077913375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574D9EA-2B16-4005-A671-42686A3C6021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10671B1-3355-47D5-86D3-D384D422F999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FEFFD2-D210-479B-877D-34EDBE3CC009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42216EE-C589-4FCE-A52D-17B1D6E6739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3147F88-C17A-463F-BCFB-EF9DA3D38CA3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50DA6DBB-8861-4C93-BFC6-04BA9627732C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6CD13EFC-AE10-47A7-A102-119429212AF9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87192DA-0D98-4FE5-8685-5762916941D2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0E07CB58-0604-45B2-A84A-CB2869338334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ED69BFCE-CDD5-4BC5-A491-1C8AF3786ECA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3978958F-12A2-4071-B468-A9E97D2AE7C8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FF165D53-9D66-4D06-9BD1-2EB10F8E6130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39A08EF3-D9BA-4ED1-B6DE-0F7A5A9AEFA2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A3A4D5A6-632F-4A05-ADBE-88309BDB563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D2C6A438-3FC2-477A-916E-A3436AE66CD5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639A8456-4755-4995-A0FA-5C9A30CCAA52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66947D59-B4B6-4B01-8DBB-86527748D178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AC8FF8D-5106-46E6-A8A7-7077E43A7660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C5DBBDC-F63C-49B1-A9E9-7A0F959C2804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A9C7D5C-9D87-4739-8DE7-EF9A3BE8AE0D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63C4235-A6E1-4C84-BE89-AB9BEE523AC2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99FF01C-0FD4-4E99-8398-FE80C58E8883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F096FF5-223A-47C9-B89D-9FB3875940A5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151E040-F539-47E3-83EF-489255D7D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347-B7A6-454E-9C36-F49976DA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3B5F892-FFDA-4CE3-B5C5-1C03A7B3B832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AF473A8-C2B6-4239-8ADE-B2B48559DA0E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AA301E1-AA49-4906-965D-DF448CFB499B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2848EAD-F38C-4F1F-958D-886E2194ADED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D9A79347-5F71-4908-9D10-FCF9086BC41B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F9982FA-ADE4-447D-BD88-572FD540FDD7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3E75B3D-51C3-4100-8DF1-3AF90BD13624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0F85E40-6CFF-45B6-9EDE-1D4C1DF8CBBE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F43136A-E43B-425B-A415-435C9D675765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E97659B-5DCE-4533-9483-236BF72080C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45B2864-6653-41F1-B986-39E2A72B1E5F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D95EBCF-3788-4300-9B46-E0AE2D67773C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9045D3D-8C3C-425E-9823-B6178A442CE9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08790CD-D7B4-4B52-9265-B309D28D3CD0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BB72ECF-783C-4091-B283-5A72E4ECA619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7268C93-7816-4EE1-AE20-6209A256291A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54E2CFF-EA85-422B-A7E7-DD8966197563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AC8E2341-CDBA-42F4-82EE-FB2996EB998E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0740F784-A956-4C42-BA3F-BB1CAD2254B2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5513BBBF-3C7A-4812-95DD-5E9C5C0E669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0AFB6849-2996-4474-9744-45D57009D113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BB54009B-50AD-4CB1-AC70-6608F74C61C1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E48A244-5E3D-4648-AB5C-A97D75C47125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8257F6C9-35D0-4690-86A3-3EE76C3588FB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0338CEF0-DB4A-4BC2-B5FC-F773E9C71C80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B9387B35-CB8A-4404-8545-3B44E2D9872B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63697B20-EDC2-432C-A9CA-D5029641C106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1F122BC4-E70F-4660-B4E9-B2F10A3A5465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68F55C3A-38A2-40E0-874F-438C0B1922C8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70D6D1E-84C8-4877-B4A1-6AA1A6A4FB3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5C39FB4-3B67-452A-A853-091476FCA0EE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D7B01C1-20A4-4058-BA2C-41D7CFA58CBB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A8A83CF-7F24-414D-9960-6DCE90E1EDA3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2B7A40C-BEFB-4585-994B-34D50924197A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96639E0-6754-4884-9E99-180D6640F25A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54F7EE9-C5A3-4856-8525-7E69C825BA5E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4DF286C-F7E6-4412-BF40-02B44253AC0E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D1097B1-4A09-4185-A5BB-A3E3CDAD0F7F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4E604AB-333F-494B-BCF3-F075696ADC0A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E142BA5-C377-40CA-B4CA-B85809A3E1E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21AB8C4-57FC-4CB5-AD74-DBA8DD2E0FA1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180F521-C48A-4E87-8EC0-642560A8757A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E161099-3002-4240-A6E0-CBD996520223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49F1FBE-7C2F-4742-8820-93B63E1471B7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E671C48-8CA6-4F9E-92AA-A99E23993D75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3A5C202-7D99-413F-BAB2-88868910A26B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A4F81CF-7FD5-40C7-A915-904D560EC4ED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8E1A20E-A8A6-4E9D-9E1E-55F7C4E39924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E209FAE-F70C-4852-A6CC-6CE27D377969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F0D10BE-F034-4611-8379-2EEF77C9956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3657A6E-6220-4919-808D-A02846D9DF87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BD9699D-1119-4F09-9876-A07F140E4806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A441B2C-F7A7-40F1-8EA6-04CA295B0C79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F6BE7459-979C-4A46-9C43-F61C6D79F8F8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A8E51115-9A88-4394-91CD-BFE046AD4F36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DBBEF7AD-0971-42D1-9CFE-B04AD5CC2BE2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2502927F-FF33-4DF4-9448-12FEF97B3197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D1EEBC1B-4C87-47D4-B327-913D72FA1767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E3F8D6DB-169B-4B7B-8FC2-8CC308964E32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CCDF5D04-2B68-4D21-A5EE-E187E5D817C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B8A31000-2694-44F9-902F-5B31FF2AA357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0B021FE1-5684-4523-8E40-109E1BD0D479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A6F2442E-09C7-40CE-911E-B86D745D4A46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A43D0650-76C8-4B17-B9B1-67EBB908AA3E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7CD572B0-5F8F-40A4-8ADF-3A67055A3991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8F9F5AB-58D7-44F1-A79E-754DF8E78EAA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3E7E4F8-F833-463A-8E2B-535758001CFC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E7C03FC-2A75-4B13-A1CA-A796F4408EDA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D68E36A-E1A9-4A71-92BC-48DA13CE9CDD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E8DDA97-5543-4CDC-B4C1-11E9BE1D27C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A2933AB4-748C-4594-A2B4-954F866DA75D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F2A0E79-78BF-43ED-8E82-38214A37CC3F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46921D8-0CD3-47B0-8B59-4B68484000B4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8129571-1EB1-4F9E-A176-F639292B9E0D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C6FE7C6-451F-4EC6-8357-1C54559F9825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07C4CAD-A5D9-4C43-BBC6-CB750ABDF187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5122C75-739F-4DD8-AACF-2DA10DA0F29F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954C00C-F24E-40A0-90AB-489A386399B5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DAA7FDD-63D4-4A3E-8891-CF7B0A9738DE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FC5D32A-96E3-4F55-AC9F-3A90EF0C69C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398B0C5-1302-433D-B031-BA75A1A3B326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4A0F1A8-0812-4726-A261-E4F308D224D1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105167E-618C-4ABE-A7F7-C9EC59C6A6F2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382C0D0-2FEA-4424-9BE4-EC96E2F4DE46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EDF2B79-BA62-4AED-BE98-25C884E6B1C9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C10B734-AFEF-4A94-B5D3-EBF720B26692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AA4A7BD-C0CF-403B-8E3C-EC62F42D0F92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4FC1366-7BE2-4556-8957-747F7F61F9F0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0767DA9-820E-4C70-B84D-880F344E097B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4BD1C08-EF93-4C9D-8972-86FD426BA32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E979143F-3BEC-4B2B-9127-8CFF6C1BDBC3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9FFC473F-D24D-4520-8740-3B5AE19B309C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1942A22F-15DF-4C64-89F9-F139642FB40D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A0B2C11D-5618-472C-B77A-B978CFF1CD08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F44E7978-EB46-4F18-AC4F-E88F289E39C4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063DBCC6-7C95-4D23-A5C6-CDF7E37E06CD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6ED76F6D-AD89-4368-92FB-BA2A768CE861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8479BABC-732A-4292-8C68-5F027A46667D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1C6C8470-89CB-4A9E-AFF2-FC827C66D83E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464FEFEC-D7D7-4C4C-8983-1D0F213DC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BD24-3350-4273-BB16-32601CBE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8ADAD454-3B23-477F-8E64-E658AB9C3B7E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26E82B0-786E-4CA1-90D3-6266904FDFBA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09708DF-3897-4C13-8800-5F1C2EAA946B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AD9B5BF-C7B2-4054-AEFE-7CF419FED046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9BBB93F-63CC-4E7C-904B-A85812389889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3229CFC-508E-4D82-A608-36D365B6232C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725B237-693C-413E-98A6-CE9912712A77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E310895-C35E-4F06-8B26-D9D973C8FC32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3C0E173-BD31-44FA-96C0-40905A6ACB60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15E98EA-9237-4D18-AC64-2D329929A00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378FAF8-37A2-4E6B-BE1F-D5E49FACCC04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B891240-E979-4A60-AAB1-1732E529B4F9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C825DDA-F79D-43FA-A65D-0B802AF4F8CE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CD540FA-A4A9-42C3-AC79-88C54E838D94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29AFC46-6327-40C7-AC19-FEE4C0C133F3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3D0471B-600C-4272-83FB-9FA80C199D9F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406AF4-A48B-4711-A95A-934D31E0EF0F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A389C02-D8E9-4987-B5A6-A3981CD7179D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0548E95-2E93-4C9A-9E51-4E5D5F57E621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14774FA-700E-49EE-B6F6-380A4C61663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37B5CCE-5A48-42E6-8A7F-20302B0F09A1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25DF8EA-B8D3-4042-A81F-E708CC37E4C3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88C82AB-0AE0-4500-ACAE-F11BD66F5D75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8B09F7F-1332-4829-B335-B7EE157B6191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91529DE-EBCA-4684-B640-4502F733E063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C81FA51-A938-4801-9E5E-1D830C00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7952528-DBF3-4049-81AE-71873026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05EACCD-938C-43EB-9F98-37648684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A8B9787-0A7B-4EB3-ACB1-8701EDC6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5549E9A-6D49-4485-9F35-A0454700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E87D9E3-5B86-4E81-9DE7-8B13635B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F59A582-851A-401B-87BC-63BC9543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585FE32-F454-4C56-A988-8ACB897D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BEAFDF5-32DE-4AD9-AC6E-EDC69930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36896A0-2DFD-4236-B729-1E42062B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E58FBD4-CE6F-484E-8637-63AC17AC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1B0E4AA-6366-4513-9489-A4F6560D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289B2BA-D20B-4DE9-8A6F-176B26F9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26D098F-8342-486B-85FA-39AB6644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68FAA25-5969-4E1B-B48E-A0516B67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48441F4-9FD8-48F3-9702-B0DEA6C2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94F2A46-1E20-49EA-818C-C4D20894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480ADC0-C2EB-4B7D-9313-7B97FF4F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BA95832-6DDB-46E7-A036-A1747072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1AB5690-90D5-44ED-9566-D48FBCCC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EB6431F-06F6-4CC8-B0D4-C7A4DB50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2FDD4B6-39E8-4BDB-A5BB-C2DA0283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B2D8EAF-F659-4B61-B1E9-0F1556F6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5C3C3ED3-C22D-4F3A-B40C-870DF22D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2EAA5E4-6C09-4D5A-94EF-FD73EF61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FFE97BE-F51B-43A0-9C57-DCB8D6F9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1D70C4B-5C4A-4F8C-8EC5-BD8E4862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743AF7F4-AB22-4606-9860-BDC95ECF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8B1DF14-26A2-411A-A73A-343A0A0E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8E7B9A4-E8A2-4DCE-908C-E6CCAF0B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EBC7EEC-636D-4524-B181-428E28CC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1410DAE-C616-4E86-B978-EDF81A21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32298F6-1162-4F7A-9F4C-3403E8BD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98ACCE9-9B94-408F-B39D-DAAAA626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7D50BD4-DC53-4580-97D4-BD35575A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2341E4C-9C8C-4E75-8103-857535AC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DA59560E-FD8D-4AA2-8152-E799A99F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0E18824-EE99-4C61-BAC0-E2D7A871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86F795A-7369-43CF-954B-2E0EE978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AF9C8695-5D6A-480B-ACC8-38CE9C4A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C2AB750-11E5-4163-801B-2AFD13FA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624C7922-96BA-4A11-A281-853C5C38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91EA0EF7-4F9E-4288-B6C0-091C66BC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CC7D4D9-ABB6-4B8E-9269-ACE07AA5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ACA028A-386B-4542-8CE0-3213C798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8A5AED-529E-4425-B20D-799BD7222EF8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7B1B7494-1F0F-4AA0-A54C-43568B54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7A0B3CDB-4E56-4898-B368-12E9EF6F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2726B39E-374D-4144-8CC9-62FA3C1D9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3380BFF-0977-4B21-8AD4-790D66EC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4DC4F7C-A26E-4187-AEF5-F03F5FD7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14D1D00-F04F-4E26-B0E2-B0CB9242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F722E7BC-AC25-4D28-8C6B-36BD7F78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F1E1A20-3B45-46B5-A102-D556998B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7C7D0EA-4BCA-4BEB-B745-CE035C05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E81E434-07A5-4A4A-AC09-136E4624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7A155A-6BED-49A5-AA51-762B4603ED52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0D3A0D7-BAD0-4567-B697-50396A73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1D72DCCB-0D5D-44E4-826C-19AE33A0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027AE61-9AAE-48C8-B0F8-C408A007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B9883E2-B88E-452C-A692-F81AB70D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7ABAAEB-FD57-41B2-9B46-2620BCAB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8EE8B1A3-8DC3-4208-B4AD-3E88E297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C9AA5D2-862A-4BDC-8CD2-FB2D2321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0CF042D-B9B4-41DC-906E-0C873CD0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5FBB353-548B-4F1C-8CC1-4CEA6A8E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C05020C-5C56-4B87-A8A4-4A688F82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66DCB3-D1C5-4891-BC36-98B0591CA78C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F488DD37-471E-4594-98D0-1E9B52A8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7192959-4840-4FBB-AD19-A64BC620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BB7F33B-A557-4FB2-92DE-B011D220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CF1310B-B245-4B67-9537-6DC7FC9A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73D02A8-EC14-4AA7-8EE3-B3C02B59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F5A704C-3D88-43BA-A591-BBDF61D6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BE2ECFB-3AFA-40FB-8B8A-7DC2951D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D11CDCD1-1D2B-4F55-80C2-180359A8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F024F98-DA40-4470-B93A-EAA8B282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D4F5669F-0424-4C9F-8596-73ECD47F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89.xml"/><Relationship Id="rId6" Type="http://schemas.openxmlformats.org/officeDocument/2006/relationships/slideLayout" Target="../slideLayouts/slideLayout590.xml"/><Relationship Id="rId7" Type="http://schemas.openxmlformats.org/officeDocument/2006/relationships/slideLayout" Target="../slideLayouts/slideLayout591.xml"/><Relationship Id="rId8" Type="http://schemas.openxmlformats.org/officeDocument/2006/relationships/slideLayout" Target="../slideLayouts/slideLayout592.xml"/><Relationship Id="rId9" Type="http://schemas.openxmlformats.org/officeDocument/2006/relationships/slideLayout" Target="../slideLayouts/slideLayout593.xml"/><Relationship Id="rId10" Type="http://schemas.openxmlformats.org/officeDocument/2006/relationships/slideLayout" Target="../slideLayouts/slideLayout594.xml"/><Relationship Id="rId11" Type="http://schemas.openxmlformats.org/officeDocument/2006/relationships/slideLayout" Target="../slideLayouts/slideLayout595.xml"/><Relationship Id="rId12" Type="http://schemas.openxmlformats.org/officeDocument/2006/relationships/slideLayout" Target="../slideLayouts/slideLayout596.xml"/><Relationship Id="rId13" Type="http://schemas.openxmlformats.org/officeDocument/2006/relationships/slideLayout" Target="../slideLayouts/slideLayout597.xml"/><Relationship Id="rId14" Type="http://schemas.openxmlformats.org/officeDocument/2006/relationships/slideLayout" Target="../slideLayouts/slideLayout598.xml"/><Relationship Id="rId15" Type="http://schemas.openxmlformats.org/officeDocument/2006/relationships/slideLayout" Target="../slideLayouts/slideLayout599.xml"/><Relationship Id="rId16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41.xml"/><Relationship Id="rId4" Type="http://schemas.openxmlformats.org/officeDocument/2006/relationships/slideLayout" Target="../slideLayouts/slideLayout1142.xml"/><Relationship Id="rId5" Type="http://schemas.openxmlformats.org/officeDocument/2006/relationships/slideLayout" Target="../slideLayouts/slideLayout1143.xml"/><Relationship Id="rId6" Type="http://schemas.openxmlformats.org/officeDocument/2006/relationships/slideLayout" Target="../slideLayouts/slideLayout1144.xml"/><Relationship Id="rId7" Type="http://schemas.openxmlformats.org/officeDocument/2006/relationships/slideLayout" Target="../slideLayouts/slideLayout1145.xml"/><Relationship Id="rId8" Type="http://schemas.openxmlformats.org/officeDocument/2006/relationships/slideLayout" Target="../slideLayouts/slideLayout1146.xml"/><Relationship Id="rId9" Type="http://schemas.openxmlformats.org/officeDocument/2006/relationships/slideLayout" Target="../slideLayouts/slideLayout1147.xml"/><Relationship Id="rId10" Type="http://schemas.openxmlformats.org/officeDocument/2006/relationships/slideLayout" Target="../slideLayouts/slideLayout1148.xml"/><Relationship Id="rId11" Type="http://schemas.openxmlformats.org/officeDocument/2006/relationships/slideLayout" Target="../slideLayouts/slideLayout1149.xml"/><Relationship Id="rId12" Type="http://schemas.openxmlformats.org/officeDocument/2006/relationships/slideLayout" Target="../slideLayouts/slideLayout1150.xml"/><Relationship Id="rId13" Type="http://schemas.openxmlformats.org/officeDocument/2006/relationships/slideLayout" Target="../slideLayouts/slideLayout1151.xml"/><Relationship Id="rId14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483D-F767-42FF-A802-0784419A40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8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8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21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67B1B-ED02-4DEA-8A18-F04E6F33EA98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2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PlaceHolder 3"/>
          <p:cNvSpPr>
            <a:spLocks noGrp="1"/>
          </p:cNvSpPr>
          <p:nvPr>
            <p:ph type="dt" idx="2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9" name="PlaceHolder 4"/>
          <p:cNvSpPr>
            <a:spLocks noGrp="1"/>
          </p:cNvSpPr>
          <p:nvPr>
            <p:ph type="ftr" idx="2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0" name="PlaceHolder 5"/>
          <p:cNvSpPr>
            <a:spLocks noGrp="1"/>
          </p:cNvSpPr>
          <p:nvPr>
            <p:ph type="sldNum" idx="2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33FC-F8A8-46E1-B71E-DA149B1C5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 type="dt" idx="2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 type="ftr" idx="2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1" name="PlaceHolder 5"/>
          <p:cNvSpPr>
            <a:spLocks noGrp="1"/>
          </p:cNvSpPr>
          <p:nvPr>
            <p:ph type="sldNum" idx="2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7244-4F84-46C0-8EE8-0A04221C8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PlaceHolder 3"/>
          <p:cNvSpPr>
            <a:spLocks noGrp="1"/>
          </p:cNvSpPr>
          <p:nvPr>
            <p:ph type="dt" idx="2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81" name="PlaceHolder 4"/>
          <p:cNvSpPr>
            <a:spLocks noGrp="1"/>
          </p:cNvSpPr>
          <p:nvPr>
            <p:ph type="ftr" idx="2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82" name="PlaceHolder 5"/>
          <p:cNvSpPr>
            <a:spLocks noGrp="1"/>
          </p:cNvSpPr>
          <p:nvPr>
            <p:ph type="sldNum" idx="2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C60A-1E5B-427B-A217-21C503F08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 type="dt" idx="2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2" name="PlaceHolder 4"/>
          <p:cNvSpPr>
            <a:spLocks noGrp="1"/>
          </p:cNvSpPr>
          <p:nvPr>
            <p:ph type="ftr" idx="2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3" name="PlaceHolder 5"/>
          <p:cNvSpPr>
            <a:spLocks noGrp="1"/>
          </p:cNvSpPr>
          <p:nvPr>
            <p:ph type="sldNum" idx="2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8DC4-D198-4326-98DF-1E8B2D504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PlaceHolder 3"/>
          <p:cNvSpPr>
            <a:spLocks noGrp="1"/>
          </p:cNvSpPr>
          <p:nvPr>
            <p:ph type="dt" idx="2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3" name="PlaceHolder 4"/>
          <p:cNvSpPr>
            <a:spLocks noGrp="1"/>
          </p:cNvSpPr>
          <p:nvPr>
            <p:ph type="ftr" idx="2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4" name="PlaceHolder 5"/>
          <p:cNvSpPr>
            <a:spLocks noGrp="1"/>
          </p:cNvSpPr>
          <p:nvPr>
            <p:ph type="sldNum" idx="2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06B5-D1CD-400B-9873-D2C6E9856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26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2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26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BFD9-F647-45FF-8C0F-B9A5AD919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3EF2-3F6B-44F6-AD78-F30641624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25A3-BB53-45E4-B5DE-63C37CB65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0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33AF-7022-45C5-8CA3-AE3E966B46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3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1493-4725-48F9-9AAC-00190DD1B5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E614-231F-4FA2-8081-2553ED45BC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9A63-E5AD-464D-A231-E99B94F53B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AB4A-4CEA-4F0E-AB2E-DA358FC720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45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BEF5-872F-47D9-95B4-9822C65613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48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FCFB-2FFC-4B6C-9B66-CD25D7C47A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9207-484C-44E3-A8B0-BD280244E7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8904-90C8-4AEE-8370-153B6761A4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AF75-9098-421E-BDB1-6EB6553341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EE9F-C7B5-463D-B2A6-2B3CB4FC48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944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5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6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6A45-8C29-464D-BC21-C654A14D58C2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9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990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1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2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3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6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6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6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C23B-5E06-4F04-9999-C8694816A3E4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DB94-1C37-48A8-B9CE-A990DE41009B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6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7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33B0-3432-4866-9AA4-5A8BD0855BF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7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7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B8C6-2BF5-48A8-85DA-BDF6DA12D95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7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ftr" idx="7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 type="sldNum" idx="7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887D-C3DF-4BC8-BF2F-7F079853C80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dt" idx="7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 type="ftr" idx="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 type="sldNum" idx="7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1FBF-C2AC-4C25-9CD2-1241D25DB00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85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8286-9DE2-4EFE-BBC2-52DA71D47495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8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8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A1AA-EDB8-45D8-8A4D-F5CDA7DF1C3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dt" idx="8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 type="ftr" idx="8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 type="sldNum" idx="8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6E65-4B0B-49B9-9D6E-E22A9EB6A2DF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8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8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89D7-C0E7-4C7B-8460-951EE7A2BA0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8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9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9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F33F-59FF-4737-A3A3-A35FAFA7DB0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dt" idx="9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ftr" idx="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sldNum" idx="9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BEDC-EC1A-4CC0-99C8-1C9E6478E49F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dt" idx="9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ftr" idx="9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 type="sldNum" idx="9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66FB-30B4-49F4-8850-6C8A54E9796A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 type="sldNum" idx="1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7438-C283-4370-8B70-BD457BD60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1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19F3-7BDA-4E68-8CCB-58C8CE5FE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 type="sldNum" idx="1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81C1-A4AD-4D52-892C-F35378F261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F41A-CA12-4221-AB98-9A8CE562FA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3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4DE7-0C4C-4C29-A0C2-9783E0DCD0B4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CA4F-2D96-4185-980B-DC48CB7725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 type="dt" idx="1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 type="ftr" idx="1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 type="sldNum" idx="1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7B67-454F-49E6-8AA5-E42773BD3F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 type="dt" idx="1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 type="ftr" idx="1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 type="sldNum" idx="1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6EE1-8EB2-4B0B-8563-D619CE09CA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 type="dt" idx="1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 type="ftr" idx="1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 type="sldNum" idx="1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CD6E-4204-441A-877C-515DEF5AC1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 type="dt" idx="1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 type="ftr" idx="1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 type="sldNum" idx="1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AB0A-7DBE-47A2-BA64-F5D270CD7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F0E8-CF91-4AFB-BF3B-5C0838A935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BFF9-91D9-4634-9DAD-E520DBA00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89AB-4455-419B-BCD1-58C8CA4FB4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Shape 13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Shape 17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Shape 20"/>
          <p:cNvSpPr/>
          <p:nvPr/>
        </p:nvSpPr>
        <p:spPr>
          <a:xfrm>
            <a:off x="8064360" y="958680"/>
            <a:ext cx="40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315200" cy="1452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2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3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4" name="Straight Connector 6"/>
          <p:cNvSpPr/>
          <p:nvPr/>
        </p:nvSpPr>
        <p:spPr>
          <a:xfrm flipV="1">
            <a:off x="457200" y="3122640"/>
            <a:ext cx="8229600" cy="9360"/>
          </a:xfrm>
          <a:prstGeom prst="line">
            <a:avLst/>
          </a:prstGeom>
          <a:ln w="50760">
            <a:solidFill>
              <a:srgbClr val="0096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5" name="Arc 7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6" name="Arc 8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7" name="Arc 9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48" name="Picture 10" descr="SMARTER_logo_big.png"/>
          <p:cNvPicPr/>
          <p:nvPr/>
        </p:nvPicPr>
        <p:blipFill>
          <a:blip r:embed="rId3"/>
          <a:stretch/>
        </p:blipFill>
        <p:spPr>
          <a:xfrm>
            <a:off x="581040" y="358920"/>
            <a:ext cx="7981920" cy="2423880"/>
          </a:xfrm>
          <a:prstGeom prst="rect">
            <a:avLst/>
          </a:prstGeom>
          <a:ln w="0">
            <a:noFill/>
          </a:ln>
        </p:spPr>
      </p:pic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0393-5BA4-45BC-B996-C9986D79071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Arc 3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8" name="Arc 4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9" name="Arc 5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90" name="Rectangle 6"/>
          <p:cNvGrpSpPr/>
          <p:nvPr/>
        </p:nvGrpSpPr>
        <p:grpSpPr>
          <a:xfrm>
            <a:off x="0" y="0"/>
            <a:ext cx="9144000" cy="1170000"/>
            <a:chOff x="0" y="0"/>
            <a:chExt cx="9144000" cy="1170000"/>
          </a:xfrm>
        </p:grpSpPr>
        <p:pic>
          <p:nvPicPr>
            <p:cNvPr id="209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2" name=""/>
            <p:cNvSpPr/>
            <p:nvPr/>
          </p:nvSpPr>
          <p:spPr>
            <a:xfrm>
              <a:off x="0" y="0"/>
              <a:ext cx="914400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93" name="Footer Placeholder 4"/>
          <p:cNvSpPr/>
          <p:nvPr/>
        </p:nvSpPr>
        <p:spPr>
          <a:xfrm>
            <a:off x="5059440" y="635328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4" name="Slide Number Placeholder 5"/>
          <p:cNvSpPr/>
          <p:nvPr/>
        </p:nvSpPr>
        <p:spPr>
          <a:xfrm>
            <a:off x="4227480" y="6519960"/>
            <a:ext cx="689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742D-23D4-40A3-A951-9B3829128903}" type="slidenum">
              <a:rPr b="0" lang="en-US" sz="1100" spc="-1" strike="noStrike">
                <a:solidFill>
                  <a:srgbClr val="1f497d"/>
                </a:solidFill>
                <a:latin typeface="Arial"/>
                <a:ea typeface="MS PGothic"/>
              </a:rPr>
              <a:t>&lt;number&gt;</a:t>
            </a:fld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5" name="Arc 9"/>
          <p:cNvSpPr/>
          <p:nvPr/>
        </p:nvSpPr>
        <p:spPr>
          <a:xfrm rot="10800000">
            <a:off x="8076960" y="-1276200"/>
            <a:ext cx="3028680" cy="2552400"/>
          </a:xfrm>
          <a:custGeom>
            <a:avLst/>
            <a:gdLst/>
            <a:ahLst/>
            <a:rect l="l" t="t" r="r" b="b"/>
            <a:pathLst>
              <a:path stroke="0" w="3028950" h="2552700">
                <a:moveTo>
                  <a:pt x="2131066" y="110571"/>
                </a:moveTo>
                <a:cubicBezTo>
                  <a:pt x="2683949" y="318268"/>
                  <a:pt x="3036979" y="783471"/>
                  <a:pt x="3028812" y="1293570"/>
                </a:cubicBezTo>
                <a:lnTo>
                  <a:pt x="1514475" y="1276350"/>
                </a:lnTo>
                <a:lnTo>
                  <a:pt x="2131066" y="110571"/>
                </a:lnTo>
                <a:close/>
              </a:path>
              <a:path fill="none" w="3028950" h="2552700">
                <a:moveTo>
                  <a:pt x="2131066" y="110571"/>
                </a:moveTo>
                <a:cubicBezTo>
                  <a:pt x="2683949" y="318268"/>
                  <a:pt x="3036979" y="783471"/>
                  <a:pt x="3028812" y="1293570"/>
                </a:cubicBezTo>
              </a:path>
            </a:pathLst>
          </a:custGeom>
          <a:noFill/>
          <a:ln w="2844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6" name="Arc 10"/>
          <p:cNvSpPr/>
          <p:nvPr/>
        </p:nvSpPr>
        <p:spPr>
          <a:xfrm rot="10800000">
            <a:off x="7519680" y="-1852200"/>
            <a:ext cx="4489560" cy="3321000"/>
          </a:xfrm>
          <a:custGeom>
            <a:avLst/>
            <a:gdLst/>
            <a:ahLst/>
            <a:rect l="l" t="t" r="r" b="b"/>
            <a:pathLst>
              <a:path stroke="0" w="4489450" h="3321051">
                <a:moveTo>
                  <a:pt x="3519206" y="293599"/>
                </a:moveTo>
                <a:cubicBezTo>
                  <a:pt x="4059111" y="569067"/>
                  <a:pt x="4409147" y="1005431"/>
                  <a:pt x="4477298" y="1487982"/>
                </a:cubicBezTo>
                <a:lnTo>
                  <a:pt x="2244725" y="1660526"/>
                </a:lnTo>
                <a:lnTo>
                  <a:pt x="3519206" y="293599"/>
                </a:lnTo>
                <a:close/>
              </a:path>
              <a:path fill="none" w="4489450" h="3321051">
                <a:moveTo>
                  <a:pt x="3519206" y="293599"/>
                </a:moveTo>
                <a:cubicBezTo>
                  <a:pt x="4059111" y="569067"/>
                  <a:pt x="4409147" y="1005431"/>
                  <a:pt x="4477298" y="1487982"/>
                </a:cubicBezTo>
              </a:path>
            </a:pathLst>
          </a:custGeom>
          <a:noFill/>
          <a:ln w="6048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7" name="Arc 11"/>
          <p:cNvSpPr/>
          <p:nvPr/>
        </p:nvSpPr>
        <p:spPr>
          <a:xfrm rot="10800000">
            <a:off x="7324200" y="-1914480"/>
            <a:ext cx="4489560" cy="3470400"/>
          </a:xfrm>
          <a:custGeom>
            <a:avLst/>
            <a:gdLst/>
            <a:ahLst/>
            <a:rect l="l" t="t" r="r" b="b"/>
            <a:pathLst>
              <a:path stroke="0" w="4489450" h="3470275">
                <a:moveTo>
                  <a:pt x="3606558" y="355799"/>
                </a:moveTo>
                <a:cubicBezTo>
                  <a:pt x="4107389" y="651250"/>
                  <a:pt x="4424541" y="1095792"/>
                  <a:pt x="4480559" y="1580859"/>
                </a:cubicBezTo>
                <a:lnTo>
                  <a:pt x="2244725" y="1735138"/>
                </a:lnTo>
                <a:lnTo>
                  <a:pt x="3606558" y="355799"/>
                </a:lnTo>
                <a:close/>
              </a:path>
              <a:path fill="none" w="4489450" h="3470275">
                <a:moveTo>
                  <a:pt x="3606558" y="355799"/>
                </a:moveTo>
                <a:cubicBezTo>
                  <a:pt x="4107389" y="651250"/>
                  <a:pt x="4424541" y="1095792"/>
                  <a:pt x="4480559" y="1580859"/>
                </a:cubicBezTo>
              </a:path>
            </a:pathLst>
          </a:custGeom>
          <a:noFill/>
          <a:ln w="2844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98" name="Picture 12" descr="SMARTER_logo_250.png"/>
          <p:cNvPicPr/>
          <p:nvPr/>
        </p:nvPicPr>
        <p:blipFill>
          <a:blip r:embed="rId4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5"/>
    <p:sldLayoutId id="2147484287" r:id="rId6"/>
    <p:sldLayoutId id="2147484288" r:id="rId7"/>
    <p:sldLayoutId id="2147484289" r:id="rId8"/>
    <p:sldLayoutId id="2147484290" r:id="rId9"/>
    <p:sldLayoutId id="2147484291" r:id="rId10"/>
    <p:sldLayoutId id="2147484292" r:id="rId11"/>
    <p:sldLayoutId id="2147484293" r:id="rId12"/>
    <p:sldLayoutId id="2147484294" r:id="rId13"/>
    <p:sldLayoutId id="2147484295" r:id="rId14"/>
    <p:sldLayoutId id="2147484296" r:id="rId15"/>
    <p:sldLayoutId id="2147484297" r:id="rId16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8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9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0" name="Arc 6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1" name="Arc 7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2" name="Arc 8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143" name="Picture 11" descr="SMARTER_logo_250.png"/>
          <p:cNvPicPr/>
          <p:nvPr/>
        </p:nvPicPr>
        <p:blipFill>
          <a:blip r:embed="rId3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2" name="Picture 3" descr="SBAC_logo_HEADER_11.18.2010.tif"/>
          <p:cNvPicPr/>
          <p:nvPr/>
        </p:nvPicPr>
        <p:blipFill>
          <a:blip r:embed="rId2"/>
          <a:stretch/>
        </p:blipFill>
        <p:spPr>
          <a:xfrm>
            <a:off x="7385040" y="6199200"/>
            <a:ext cx="1560600" cy="476280"/>
          </a:xfrm>
          <a:prstGeom prst="rect">
            <a:avLst/>
          </a:prstGeom>
          <a:ln w="0">
            <a:noFill/>
          </a:ln>
        </p:spPr>
      </p:pic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2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3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4" name="Arc 6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5" name="Arc 7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6" name="Arc 8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27" name="Picture 11" descr="SMARTER_logo_250.png"/>
          <p:cNvPicPr/>
          <p:nvPr/>
        </p:nvPicPr>
        <p:blipFill>
          <a:blip r:embed="rId3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6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26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26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27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7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27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 type="sldNum" idx="13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D69E-FB8C-4779-9258-5851835B567B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 type="ftr" idx="13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31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31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31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31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31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32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 type="sldNum" idx="13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E38C-4CDD-4132-99C6-54BC175BA165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 type="ftr" idx="13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36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36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36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36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36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3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 type="sldNum" idx="13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B6A3-559C-4E9D-A032-5E7968863F81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 type="ftr" idx="13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40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40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1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41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1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 type="sldNum" idx="14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C178-B6E9-4204-9CB4-F81A9E5ED70A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 type="ftr" idx="14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45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45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5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45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6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 type="sldNum" idx="14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24E4-2335-4B78-8ED1-3E8452C454F8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 type="ftr" idx="14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2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03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04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05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6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07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0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 type="sldNum" idx="14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06C4-381A-4EF2-AA09-ECB05238BCB6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 type="ftr" idx="14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6426-E4CA-42AE-891F-F0F38FF5A3D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49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50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51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52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3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4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 type="sldNum" idx="14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2F8A-6D28-42DC-87F8-1DD9DAEE7268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 type="ftr" idx="14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96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97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98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99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0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01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0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 type="sldNum" idx="14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49A3-E874-4E35-85B9-2AF8A9527B34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PlaceHolder 4"/>
          <p:cNvSpPr>
            <a:spLocks noGrp="1"/>
          </p:cNvSpPr>
          <p:nvPr>
            <p:ph type="ftr" idx="14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43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644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45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646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7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8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 type="sldNum" idx="15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3AF2-02A8-431A-99C1-483CECFBC0C0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 type="ftr" idx="15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90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691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92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693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95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 type="sldNum" idx="15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D89C-CF0F-44A3-9062-E6F7B63CBB55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 type="ftr" idx="15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73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3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73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74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7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 type="sldNum" idx="15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F9B6-01BF-4E45-A635-6F870269BE7A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 type="ftr" idx="15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78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8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78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78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7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 type="sldNum" idx="15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CCF6-44DB-49E9-B7FC-5375A71682DB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 type="ftr" idx="15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83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83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83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83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83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 type="sldNum" idx="15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6015-866C-4AE5-8AE7-686D539C39B7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4"/>
          <p:cNvSpPr>
            <a:spLocks noGrp="1"/>
          </p:cNvSpPr>
          <p:nvPr>
            <p:ph type="ftr" idx="15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87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87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88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88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8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 type="sldNum" idx="16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BE7B-7AD6-43BB-8E88-2071777ECEA5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 type="ftr" idx="16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2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92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92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92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9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 type="sldNum" idx="16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0D81-AFF8-4C9B-9BCF-35BF7E56AB93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 type="ftr" idx="16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72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973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974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975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6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7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97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 type="sldNum" idx="16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90D9-49BD-49DD-9F1B-8DEECB9092D2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 type="ftr" idx="16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hape 13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315200" cy="1452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019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020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021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022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3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4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0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 type="sldNum" idx="16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519C-A8F8-48D6-AE24-C78B4947A9D5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 type="ftr" idx="16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066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067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068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069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0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1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07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 type="sldNum" idx="16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5F7F-E4FF-49C6-905A-0F5764E509F1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 type="ftr" idx="16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113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114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115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116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7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8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11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 type="sldNum" idx="17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620E-48D5-4D37-9617-05C5753B98D1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PlaceHolder 4"/>
          <p:cNvSpPr>
            <a:spLocks noGrp="1"/>
          </p:cNvSpPr>
          <p:nvPr>
            <p:ph type="ftr" idx="17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160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161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162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163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4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5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1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 type="sldNum" idx="17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D15A-E165-425B-938F-D10E5995282D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 type="ftr" idx="17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20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0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0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21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2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 type="sldNum" idx="17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8AA7-D346-4DBD-B256-BC1D345AE44B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 type="ftr" idx="17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25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5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5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25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2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 type="sldNum" idx="17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B6F6-AAE4-41FF-898C-528EE73FCCC3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 type="ftr" idx="17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0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0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0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30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 type="sldNum" idx="17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E0B2-1577-4FE9-84B8-524825B34A61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PlaceHolder 4"/>
          <p:cNvSpPr>
            <a:spLocks noGrp="1"/>
          </p:cNvSpPr>
          <p:nvPr>
            <p:ph type="ftr" idx="17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4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4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5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35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Num" idx="18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7729-9CD3-4634-BED5-7051954B2336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ftr" idx="18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 type="dt" idx="1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 type="ftr" idx="1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 type="sldNum" idx="1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8304-85D9-4E05-A485-8047DCB44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 type="dt" idx="1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 type="ftr" idx="1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9" name="PlaceHolder 5"/>
          <p:cNvSpPr>
            <a:spLocks noGrp="1"/>
          </p:cNvSpPr>
          <p:nvPr>
            <p:ph type="sldNum" idx="1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CACF-F79F-4CDF-A1D7-1832DE8E9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 type="dt" idx="1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 type="ftr" idx="1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 type="sldNum" idx="1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40FB-495F-4BAD-B920-15950862D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 type="dt" idx="1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 type="ftr" idx="1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1" name="PlaceHolder 5"/>
          <p:cNvSpPr>
            <a:spLocks noGrp="1"/>
          </p:cNvSpPr>
          <p:nvPr>
            <p:ph type="sldNum" idx="1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D976-02D3-404E-8DCE-D1795455F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 type="dt" idx="1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 type="ftr" idx="1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2" name="PlaceHolder 5"/>
          <p:cNvSpPr>
            <a:spLocks noGrp="1"/>
          </p:cNvSpPr>
          <p:nvPr>
            <p:ph type="sldNum" idx="1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1116-CC3C-4C07-B802-1D71DE9EA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 type="dt" idx="1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 type="ftr" idx="1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3" name="PlaceHolder 5"/>
          <p:cNvSpPr>
            <a:spLocks noGrp="1"/>
          </p:cNvSpPr>
          <p:nvPr>
            <p:ph type="sldNum" idx="1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BC99-CFA1-40F8-A9C8-83E91B537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 type="dt" idx="2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 type="ftr" idx="2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 type="sldNum" idx="2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8E60-9A8A-46D0-853B-74B3C3304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dt" idx="2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 type="ftr" idx="2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5" name="PlaceHolder 5"/>
          <p:cNvSpPr>
            <a:spLocks noGrp="1"/>
          </p:cNvSpPr>
          <p:nvPr>
            <p:ph type="sldNum" idx="2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8440-843E-47DB-ADE4-A8984FD0D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PlaceHolder 3"/>
          <p:cNvSpPr>
            <a:spLocks noGrp="1"/>
          </p:cNvSpPr>
          <p:nvPr>
            <p:ph type="dt" idx="2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5" name="PlaceHolder 4"/>
          <p:cNvSpPr>
            <a:spLocks noGrp="1"/>
          </p:cNvSpPr>
          <p:nvPr>
            <p:ph type="ftr" idx="2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6" name="PlaceHolder 5"/>
          <p:cNvSpPr>
            <a:spLocks noGrp="1"/>
          </p:cNvSpPr>
          <p:nvPr>
            <p:ph type="sldNum" idx="2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F9EB-9401-48A4-87DE-D211FE958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PlaceHolder 3"/>
          <p:cNvSpPr>
            <a:spLocks noGrp="1"/>
          </p:cNvSpPr>
          <p:nvPr>
            <p:ph type="dt" idx="2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6" name="PlaceHolder 4"/>
          <p:cNvSpPr>
            <a:spLocks noGrp="1"/>
          </p:cNvSpPr>
          <p:nvPr>
            <p:ph type="ftr" idx="2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7" name="PlaceHolder 5"/>
          <p:cNvSpPr>
            <a:spLocks noGrp="1"/>
          </p:cNvSpPr>
          <p:nvPr>
            <p:ph type="sldNum" idx="2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42F7-5838-4862-8DD7-67EC8B8F7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 type="dt" idx="2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7" name="PlaceHolder 4"/>
          <p:cNvSpPr>
            <a:spLocks noGrp="1"/>
          </p:cNvSpPr>
          <p:nvPr>
            <p:ph type="ftr" idx="2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8" name="PlaceHolder 5"/>
          <p:cNvSpPr>
            <a:spLocks noGrp="1"/>
          </p:cNvSpPr>
          <p:nvPr>
            <p:ph type="sldNum" idx="2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7A19-6253-4963-82F5-B40F0539E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 type="dt" idx="2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 type="ftr" idx="2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9" name="PlaceHolder 5"/>
          <p:cNvSpPr>
            <a:spLocks noGrp="1"/>
          </p:cNvSpPr>
          <p:nvPr>
            <p:ph type="sldNum" idx="2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3E68-D98C-4FEA-83FA-A733577A5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4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9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83C89-AFA8-4037-805D-059AA3A4E93B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0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PlaceHolder 3"/>
          <p:cNvSpPr>
            <a:spLocks noGrp="1"/>
          </p:cNvSpPr>
          <p:nvPr>
            <p:ph type="dt" idx="2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9" name="PlaceHolder 4"/>
          <p:cNvSpPr>
            <a:spLocks noGrp="1"/>
          </p:cNvSpPr>
          <p:nvPr>
            <p:ph type="ftr" idx="2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0" name="PlaceHolder 5"/>
          <p:cNvSpPr>
            <a:spLocks noGrp="1"/>
          </p:cNvSpPr>
          <p:nvPr>
            <p:ph type="sldNum" idx="2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AE18-C2E4-48A3-AAA9-10213DEF5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dt" idx="2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 type="ftr" idx="2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 type="sldNum" idx="2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454A-3CAF-4347-ABDB-BE046065C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PlaceHolder 3"/>
          <p:cNvSpPr>
            <a:spLocks noGrp="1"/>
          </p:cNvSpPr>
          <p:nvPr>
            <p:ph type="dt" idx="2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1" name="PlaceHolder 4"/>
          <p:cNvSpPr>
            <a:spLocks noGrp="1"/>
          </p:cNvSpPr>
          <p:nvPr>
            <p:ph type="ftr" idx="2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2" name="PlaceHolder 5"/>
          <p:cNvSpPr>
            <a:spLocks noGrp="1"/>
          </p:cNvSpPr>
          <p:nvPr>
            <p:ph type="sldNum" idx="2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1A44-3080-4BDD-A7E0-DACA497C7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 type="dt" idx="2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2" name="PlaceHolder 4"/>
          <p:cNvSpPr>
            <a:spLocks noGrp="1"/>
          </p:cNvSpPr>
          <p:nvPr>
            <p:ph type="ftr" idx="2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3" name="PlaceHolder 5"/>
          <p:cNvSpPr>
            <a:spLocks noGrp="1"/>
          </p:cNvSpPr>
          <p:nvPr>
            <p:ph type="sldNum" idx="2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2A38-3260-4974-8B21-29FB33179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PlaceHolder 3"/>
          <p:cNvSpPr>
            <a:spLocks noGrp="1"/>
          </p:cNvSpPr>
          <p:nvPr>
            <p:ph type="dt" idx="2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53" name="PlaceHolder 4"/>
          <p:cNvSpPr>
            <a:spLocks noGrp="1"/>
          </p:cNvSpPr>
          <p:nvPr>
            <p:ph type="ftr" idx="2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54" name="PlaceHolder 5"/>
          <p:cNvSpPr>
            <a:spLocks noGrp="1"/>
          </p:cNvSpPr>
          <p:nvPr>
            <p:ph type="sldNum" idx="2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2CC6-C483-4A29-B604-61F69A5EE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PlaceHolder 3"/>
          <p:cNvSpPr>
            <a:spLocks noGrp="1"/>
          </p:cNvSpPr>
          <p:nvPr>
            <p:ph type="dt" idx="2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4" name="PlaceHolder 4"/>
          <p:cNvSpPr>
            <a:spLocks noGrp="1"/>
          </p:cNvSpPr>
          <p:nvPr>
            <p:ph type="ftr" idx="2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5" name="PlaceHolder 5"/>
          <p:cNvSpPr>
            <a:spLocks noGrp="1"/>
          </p:cNvSpPr>
          <p:nvPr>
            <p:ph type="sldNum" idx="2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F4CC-E66E-4868-A8B1-53BE6F388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PlaceHolder 3"/>
          <p:cNvSpPr>
            <a:spLocks noGrp="1"/>
          </p:cNvSpPr>
          <p:nvPr>
            <p:ph type="dt" idx="2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5" name="PlaceHolder 4"/>
          <p:cNvSpPr>
            <a:spLocks noGrp="1"/>
          </p:cNvSpPr>
          <p:nvPr>
            <p:ph type="ftr" idx="2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6" name="PlaceHolder 5"/>
          <p:cNvSpPr>
            <a:spLocks noGrp="1"/>
          </p:cNvSpPr>
          <p:nvPr>
            <p:ph type="sldNum" idx="2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A09F-AABD-4986-9742-11BFDC8B3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3"/>
    <p:sldLayoutId id="2147484885" r:id="rId4"/>
    <p:sldLayoutId id="2147484886" r:id="rId5"/>
    <p:sldLayoutId id="2147484887" r:id="rId6"/>
    <p:sldLayoutId id="2147484888" r:id="rId7"/>
    <p:sldLayoutId id="2147484889" r:id="rId8"/>
    <p:sldLayoutId id="2147484890" r:id="rId9"/>
    <p:sldLayoutId id="2147484891" r:id="rId10"/>
    <p:sldLayoutId id="2147484892" r:id="rId11"/>
    <p:sldLayoutId id="2147484893" r:id="rId12"/>
    <p:sldLayoutId id="2147484894" r:id="rId13"/>
    <p:sldLayoutId id="2147484895" r:id="rId14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 type="dt" idx="23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 type="ftr" idx="2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7" name="PlaceHolder 5"/>
          <p:cNvSpPr>
            <a:spLocks noGrp="1"/>
          </p:cNvSpPr>
          <p:nvPr>
            <p:ph type="sldNum" idx="2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5AC9-309D-4D15-BD71-CDECCB483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PlaceHolder 3"/>
          <p:cNvSpPr>
            <a:spLocks noGrp="1"/>
          </p:cNvSpPr>
          <p:nvPr>
            <p:ph type="dt" idx="2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7" name="PlaceHolder 4"/>
          <p:cNvSpPr>
            <a:spLocks noGrp="1"/>
          </p:cNvSpPr>
          <p:nvPr>
            <p:ph type="ftr" idx="2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8" name="PlaceHolder 5"/>
          <p:cNvSpPr>
            <a:spLocks noGrp="1"/>
          </p:cNvSpPr>
          <p:nvPr>
            <p:ph type="sldNum" idx="2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51BC-1DFF-4BBE-8E90-6ED5C3B32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 type="dt" idx="2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 type="ftr" idx="2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9" name="PlaceHolder 5"/>
          <p:cNvSpPr>
            <a:spLocks noGrp="1"/>
          </p:cNvSpPr>
          <p:nvPr>
            <p:ph type="sldNum" idx="2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552D-9D94-489D-86A8-EC6AE65F1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6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8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58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act.org/research/policymakers/pdf/reading_summary.pdf" TargetMode="External"/><Relationship Id="rId3" Type="http://schemas.openxmlformats.org/officeDocument/2006/relationships/slideLayout" Target="../slideLayouts/slideLayout85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06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2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ticulatemarketing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amiesmart.com/innate-think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wlnet.rice.edu/~cainproj/presenting.ppt" TargetMode="External"/><Relationship Id="rId2" Type="http://schemas.openxmlformats.org/officeDocument/2006/relationships/hyperlink" Target="http://www.owlnet.rice.edu/~cainproj/presenting.ppt" TargetMode="External"/><Relationship Id="rId3" Type="http://schemas.openxmlformats.org/officeDocument/2006/relationships/hyperlink" Target="http://www.owlnet.rice.edu/~cainproj/presenting.ppt" TargetMode="External"/><Relationship Id="rId4" Type="http://schemas.openxmlformats.org/officeDocument/2006/relationships/hyperlink" Target="http://www.owlnet.rice.edu/~cainproj/presenting.ppt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914400" y="487800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5f5f5f"/>
                </a:solidFill>
                <a:latin typeface="Arial"/>
              </a:rPr>
              <a:t>Powerpoint Presentation Tips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0" name=""/>
          <p:cNvSpPr txBox="1"/>
          <p:nvPr/>
        </p:nvSpPr>
        <p:spPr>
          <a:xfrm>
            <a:off x="2823840" y="5935320"/>
            <a:ext cx="57322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d91c7"/>
                </a:solidFill>
                <a:latin typeface="Arial"/>
              </a:rPr>
              <a:t>Mrs. Kilbridge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TextBox 1"/>
          <p:cNvSpPr/>
          <p:nvPr/>
        </p:nvSpPr>
        <p:spPr>
          <a:xfrm>
            <a:off x="216000" y="15228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ur “north star”: Aretha &amp; Golden Rule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69" name="Picture 2" descr=""/>
          <p:cNvPicPr/>
          <p:nvPr/>
        </p:nvPicPr>
        <p:blipFill>
          <a:blip r:embed="rId1"/>
          <a:stretch/>
        </p:blipFill>
        <p:spPr>
          <a:xfrm>
            <a:off x="228600" y="1211400"/>
            <a:ext cx="4343400" cy="3894120"/>
          </a:xfrm>
          <a:prstGeom prst="rect">
            <a:avLst/>
          </a:prstGeom>
          <a:ln w="0">
            <a:noFill/>
          </a:ln>
        </p:spPr>
      </p:pic>
      <p:pic>
        <p:nvPicPr>
          <p:cNvPr id="4570" name="Picture 3" descr=""/>
          <p:cNvPicPr/>
          <p:nvPr/>
        </p:nvPicPr>
        <p:blipFill>
          <a:blip r:embed="rId2"/>
          <a:stretch/>
        </p:blipFill>
        <p:spPr>
          <a:xfrm>
            <a:off x="4660920" y="1066680"/>
            <a:ext cx="4483080" cy="3891240"/>
          </a:xfrm>
          <a:prstGeom prst="rect">
            <a:avLst/>
          </a:prstGeom>
          <a:ln w="0">
            <a:noFill/>
          </a:ln>
        </p:spPr>
      </p:pic>
      <p:sp>
        <p:nvSpPr>
          <p:cNvPr id="4571" name="TextBox 4"/>
          <p:cNvSpPr/>
          <p:nvPr/>
        </p:nvSpPr>
        <p:spPr>
          <a:xfrm>
            <a:off x="113400" y="59529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* keep these in mind and Learning Walks can’t fail!!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2" name="TextBox 5"/>
          <p:cNvSpPr/>
          <p:nvPr/>
        </p:nvSpPr>
        <p:spPr>
          <a:xfrm>
            <a:off x="398880" y="525780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ffec"/>
                </a:solidFill>
                <a:latin typeface="Arial"/>
                <a:ea typeface="Arial"/>
              </a:rPr>
              <a:t>R – E – S – P –E – C - 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Text Box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 Unicode MS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4" name="Text Box 2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Overview of Standards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HistoryO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5" name="Text Box 3"/>
          <p:cNvSpPr/>
          <p:nvPr/>
        </p:nvSpPr>
        <p:spPr>
          <a:xfrm>
            <a:off x="457200" y="1285920"/>
            <a:ext cx="84582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7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  <a:ea typeface="Arial Unicode MS"/>
              </a:rPr>
              <a:t>Reading Standards for History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1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nowledge of domain-specif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2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alyze, evaluate, and differentiate primary and second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3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ynthe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quantitative and technical information, including facts presented in maps, timelines, flowcharts, or diagram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  <a:ea typeface="Arial Unicode MS"/>
              </a:rPr>
              <a:t>Writing Standards for History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4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Wri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g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on discipline-specific content and informative/explanatory tex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5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se of data, evidence, and reason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arg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and claim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buSzPct val="100000"/>
              <a:buBlip>
                <a:blip r:embed="rId6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se of domain-specif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y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Arial Unicode MS"/>
              </a:rPr>
              <a:t> 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New Definit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 Reading for Michigan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198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i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cess of constructing mea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rough the dynamic interaction amo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 the reader’s existing knowledg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 the information suggested by the text being read;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 the context of the reading situ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2E97-F997-49E6-9B34-E793F817D72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Shape 23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0" name="Shape 236"/>
          <p:cNvSpPr/>
          <p:nvPr/>
        </p:nvSpPr>
        <p:spPr>
          <a:xfrm>
            <a:off x="7543800" y="-1440"/>
            <a:ext cx="1517760" cy="777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1" name="Shape 237"/>
          <p:cNvSpPr/>
          <p:nvPr/>
        </p:nvSpPr>
        <p:spPr>
          <a:xfrm>
            <a:off x="7547040" y="914400"/>
            <a:ext cx="1444680" cy="457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2" name="Shape 238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e66b2"/>
                </a:solidFill>
                <a:latin typeface="Arial"/>
              </a:rPr>
              <a:t>Contact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>
              <a:spcBef>
                <a:spcPts val="601"/>
              </a:spcBef>
              <a:buClr>
                <a:srgbClr val="a63212"/>
              </a:buClr>
              <a:buSzPct val="9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Joseph Martineau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Executive Dir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Bureau of Assessment &amp; Accoun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Michigan Department of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martineauj@michigan.g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Shape 241"/>
          <p:cNvSpPr/>
          <p:nvPr/>
        </p:nvSpPr>
        <p:spPr>
          <a:xfrm>
            <a:off x="8064360" y="958680"/>
            <a:ext cx="40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6" name="Title 1" descr=""/>
          <p:cNvPicPr/>
          <p:nvPr/>
        </p:nvPicPr>
        <p:blipFill>
          <a:blip r:embed="rId1"/>
          <a:stretch/>
        </p:blipFill>
        <p:spPr>
          <a:xfrm>
            <a:off x="457200" y="438120"/>
            <a:ext cx="8242200" cy="519120"/>
          </a:xfrm>
          <a:prstGeom prst="rect">
            <a:avLst/>
          </a:prstGeom>
          <a:ln w="0">
            <a:noFill/>
          </a:ln>
        </p:spPr>
      </p:pic>
      <p:sp>
        <p:nvSpPr>
          <p:cNvPr id="4587" name=""/>
          <p:cNvSpPr txBox="1"/>
          <p:nvPr/>
        </p:nvSpPr>
        <p:spPr>
          <a:xfrm>
            <a:off x="457200" y="1371600"/>
            <a:ext cx="782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 integrated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vidence-based appro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acher invol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tate-led with transparent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ocus: improving teaching and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ctionable information – multiple mea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stablished professional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601"/>
              </a:spcAft>
              <a:buClr>
                <a:srgbClr val="00964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8" name="Title 1" descr=""/>
          <p:cNvPicPr/>
          <p:nvPr/>
        </p:nvPicPr>
        <p:blipFill>
          <a:blip r:embed="rId1"/>
          <a:stretch/>
        </p:blipFill>
        <p:spPr>
          <a:xfrm>
            <a:off x="420840" y="304920"/>
            <a:ext cx="8235720" cy="517320"/>
          </a:xfrm>
          <a:prstGeom prst="rect">
            <a:avLst/>
          </a:prstGeom>
          <a:ln w="0">
            <a:noFill/>
          </a:ln>
        </p:spPr>
      </p:pic>
      <p:pic>
        <p:nvPicPr>
          <p:cNvPr id="4589" name="Group 6" descr=""/>
          <p:cNvPicPr/>
          <p:nvPr/>
        </p:nvPicPr>
        <p:blipFill>
          <a:blip r:embed="rId2"/>
          <a:stretch/>
        </p:blipFill>
        <p:spPr>
          <a:xfrm>
            <a:off x="3005280" y="1432080"/>
            <a:ext cx="5668920" cy="873000"/>
          </a:xfrm>
          <a:prstGeom prst="rect">
            <a:avLst/>
          </a:prstGeom>
          <a:ln w="0">
            <a:noFill/>
          </a:ln>
        </p:spPr>
      </p:pic>
      <p:grpSp>
        <p:nvGrpSpPr>
          <p:cNvPr id="4590" name="Group 7"/>
          <p:cNvGrpSpPr/>
          <p:nvPr/>
        </p:nvGrpSpPr>
        <p:grpSpPr>
          <a:xfrm>
            <a:off x="285840" y="1389240"/>
            <a:ext cx="2976480" cy="912600"/>
            <a:chOff x="285840" y="1389240"/>
            <a:chExt cx="2976480" cy="912600"/>
          </a:xfrm>
        </p:grpSpPr>
        <p:sp>
          <p:nvSpPr>
            <p:cNvPr id="4591" name="Rounded Rectangle 38"/>
            <p:cNvSpPr/>
            <p:nvPr/>
          </p:nvSpPr>
          <p:spPr>
            <a:xfrm>
              <a:off x="285840" y="1389240"/>
              <a:ext cx="2976480" cy="91260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2" name="Rounded Rectangle 6"/>
            <p:cNvSpPr/>
            <p:nvPr/>
          </p:nvSpPr>
          <p:spPr>
            <a:xfrm>
              <a:off x="322200" y="1434960"/>
              <a:ext cx="2903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 and Procedures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593" name="Group 8" descr=""/>
          <p:cNvPicPr/>
          <p:nvPr/>
        </p:nvPicPr>
        <p:blipFill>
          <a:blip r:embed="rId3"/>
          <a:stretch/>
        </p:blipFill>
        <p:spPr>
          <a:xfrm>
            <a:off x="3005280" y="2627280"/>
            <a:ext cx="5632200" cy="841320"/>
          </a:xfrm>
          <a:prstGeom prst="rect">
            <a:avLst/>
          </a:prstGeom>
          <a:ln w="0">
            <a:noFill/>
          </a:ln>
        </p:spPr>
      </p:pic>
      <p:grpSp>
        <p:nvGrpSpPr>
          <p:cNvPr id="4594" name="Group 9"/>
          <p:cNvGrpSpPr/>
          <p:nvPr/>
        </p:nvGrpSpPr>
        <p:grpSpPr>
          <a:xfrm>
            <a:off x="285840" y="2593800"/>
            <a:ext cx="2976480" cy="914400"/>
            <a:chOff x="285840" y="2593800"/>
            <a:chExt cx="2976480" cy="914400"/>
          </a:xfrm>
        </p:grpSpPr>
        <p:sp>
          <p:nvSpPr>
            <p:cNvPr id="4595" name="Rounded Rectangle 34"/>
            <p:cNvSpPr/>
            <p:nvPr/>
          </p:nvSpPr>
          <p:spPr>
            <a:xfrm>
              <a:off x="285840" y="259380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009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6" name="Rounded Rectangle 10"/>
            <p:cNvSpPr/>
            <p:nvPr/>
          </p:nvSpPr>
          <p:spPr>
            <a:xfrm>
              <a:off x="322200" y="2639520"/>
              <a:ext cx="2903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blem Solv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597" name="Group 10" descr=""/>
          <p:cNvPicPr/>
          <p:nvPr/>
        </p:nvPicPr>
        <p:blipFill>
          <a:blip r:embed="rId4"/>
          <a:stretch/>
        </p:blipFill>
        <p:spPr>
          <a:xfrm>
            <a:off x="3005280" y="3840120"/>
            <a:ext cx="5632200" cy="871560"/>
          </a:xfrm>
          <a:prstGeom prst="rect">
            <a:avLst/>
          </a:prstGeom>
          <a:ln w="0">
            <a:noFill/>
          </a:ln>
        </p:spPr>
      </p:pic>
      <p:grpSp>
        <p:nvGrpSpPr>
          <p:cNvPr id="4598" name="Group 11"/>
          <p:cNvGrpSpPr/>
          <p:nvPr/>
        </p:nvGrpSpPr>
        <p:grpSpPr>
          <a:xfrm>
            <a:off x="285840" y="3784680"/>
            <a:ext cx="2976480" cy="914400"/>
            <a:chOff x="285840" y="3784680"/>
            <a:chExt cx="2976480" cy="914400"/>
          </a:xfrm>
        </p:grpSpPr>
        <p:sp>
          <p:nvSpPr>
            <p:cNvPr id="4599" name="Rounded Rectangle 30"/>
            <p:cNvSpPr/>
            <p:nvPr/>
          </p:nvSpPr>
          <p:spPr>
            <a:xfrm>
              <a:off x="285840" y="378468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0" name="Rounded Rectangle 14"/>
            <p:cNvSpPr/>
            <p:nvPr/>
          </p:nvSpPr>
          <p:spPr>
            <a:xfrm>
              <a:off x="322200" y="3828960"/>
              <a:ext cx="290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municating Reason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601" name="Group 12" descr=""/>
          <p:cNvPicPr/>
          <p:nvPr/>
        </p:nvPicPr>
        <p:blipFill>
          <a:blip r:embed="rId5"/>
          <a:stretch/>
        </p:blipFill>
        <p:spPr>
          <a:xfrm>
            <a:off x="3005280" y="5059440"/>
            <a:ext cx="5711760" cy="877680"/>
          </a:xfrm>
          <a:prstGeom prst="rect">
            <a:avLst/>
          </a:prstGeom>
          <a:ln w="0">
            <a:noFill/>
          </a:ln>
        </p:spPr>
      </p:pic>
      <p:grpSp>
        <p:nvGrpSpPr>
          <p:cNvPr id="4602" name="Group 13"/>
          <p:cNvGrpSpPr/>
          <p:nvPr/>
        </p:nvGrpSpPr>
        <p:grpSpPr>
          <a:xfrm>
            <a:off x="285840" y="5010120"/>
            <a:ext cx="2976480" cy="914400"/>
            <a:chOff x="285840" y="5010120"/>
            <a:chExt cx="2976480" cy="914400"/>
          </a:xfrm>
        </p:grpSpPr>
        <p:sp>
          <p:nvSpPr>
            <p:cNvPr id="4603" name="Rounded Rectangle 26"/>
            <p:cNvSpPr/>
            <p:nvPr/>
          </p:nvSpPr>
          <p:spPr>
            <a:xfrm>
              <a:off x="285840" y="501012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009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4" name="Rounded Rectangle 18"/>
            <p:cNvSpPr/>
            <p:nvPr/>
          </p:nvSpPr>
          <p:spPr>
            <a:xfrm>
              <a:off x="322200" y="5055840"/>
              <a:ext cx="2903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 Analysis and Model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605" name="TextBox 42"/>
          <p:cNvSpPr/>
          <p:nvPr/>
        </p:nvSpPr>
        <p:spPr>
          <a:xfrm>
            <a:off x="6352200" y="86688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/o Round 1 – released 8/29/11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lex 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2701"/>
              </a:spcBef>
              <a:spcAft>
                <a:spcPts val="601"/>
              </a:spcAft>
              <a:buClr>
                <a:srgbClr val="0091b2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91b2"/>
                </a:solidFill>
                <a:latin typeface="Arial"/>
              </a:rPr>
              <a:t>Performance on complex texts is the clearest differentiator in reading between students who are likely to be ready for college and those who are not.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-341280">
              <a:spcBef>
                <a:spcPts val="2701"/>
              </a:spcBef>
              <a:spcAft>
                <a:spcPts val="601"/>
              </a:spcAft>
              <a:buClr>
                <a:srgbClr val="0091b2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And this is true for both genders, all racial/ethnic groups, and all annual family income levels.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91b2"/>
                </a:solidFill>
                <a:latin typeface="Arial"/>
              </a:rPr>
              <a:t>ACT Reading Between the Lines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8" name="Picture 1" descr=""/>
          <p:cNvPicPr/>
          <p:nvPr/>
        </p:nvPicPr>
        <p:blipFill>
          <a:blip r:embed="rId1"/>
          <a:stretch/>
        </p:blipFill>
        <p:spPr>
          <a:xfrm>
            <a:off x="39600" y="0"/>
            <a:ext cx="9104400" cy="6211800"/>
          </a:xfrm>
          <a:prstGeom prst="rect">
            <a:avLst/>
          </a:prstGeom>
          <a:ln w="0">
            <a:noFill/>
          </a:ln>
        </p:spPr>
      </p:pic>
      <p:sp>
        <p:nvSpPr>
          <p:cNvPr id="4609" name="Text Box 2"/>
          <p:cNvSpPr/>
          <p:nvPr/>
        </p:nvSpPr>
        <p:spPr>
          <a:xfrm>
            <a:off x="533520" y="5638680"/>
            <a:ext cx="761976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Reading Between the Lines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http://act.org/research/policymakers/pdf/reading_summary.pdf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entury Schoolbook"/>
              </a:rPr>
              <a:t>What is a text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Builders can use different kinds of structures to build different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A skyscraper, for example, is a different kind of structure from a 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2" name="Picture 6" descr="bd10467_"/>
          <p:cNvPicPr/>
          <p:nvPr/>
        </p:nvPicPr>
        <p:blipFill>
          <a:blip r:embed="rId1"/>
          <a:stretch/>
        </p:blipFill>
        <p:spPr>
          <a:xfrm>
            <a:off x="4648320" y="2884320"/>
            <a:ext cx="380988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entury Schoolbook"/>
              </a:rPr>
              <a:t>What is a text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Writers use different structures to build their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Each text structure communicates ideas in a different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5" name="Picture 6" descr="bd06453_"/>
          <p:cNvPicPr/>
          <p:nvPr/>
        </p:nvPicPr>
        <p:blipFill>
          <a:blip r:embed="rId1"/>
          <a:stretch/>
        </p:blipFill>
        <p:spPr>
          <a:xfrm>
            <a:off x="685800" y="2139840"/>
            <a:ext cx="38098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Use the 10-20-30 rul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ttempt to follow Guy Kawasaki’s 10-20-30 rule: presentations should have no more than ten slides, last no longer than 20 minutes and no font should be smaller than 30 points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7f7f"/>
                </a:solidFill>
                <a:latin typeface="Arial"/>
              </a:rPr>
              <a:t>With thanks to Matthew Stibbe,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Articulate Marketing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Powerpoint Slides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void large blocks of text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Illustrate your points, don’t completely duplicate them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Proofread for errors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Presentations need careful proofreading: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Check for English errors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void an overuse of words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Make sure slides are easy to read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Rehears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Practice makes a good presentation. Very few people can deliver a great presentation off the top of their head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Rehearse the basic points you intend to make, in a clear order and with all the key facts memorized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Make eye contact with your audienc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It is important to make eye contact, speak clearly and create an open communication channel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Do not read the slides word for word. 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The focus should be on the presenter, and the powerpoint slides should enhance the message, not be the message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7f7f"/>
                </a:solidFill>
                <a:latin typeface="Arial"/>
              </a:rPr>
              <a:t>With thanks to Jamie Smart,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Innate Thinking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Easy to Use Powerpoint Templat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Go to this website for a step-by-step guide to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Creating a powerpoint presentation: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www.owlnet.rice.edu/~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cain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3"/>
              </a:rPr>
              <a:t>proj/presenting.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4"/>
              </a:rPr>
              <a:t>ppt</a:t>
            </a:r>
            <a:r>
              <a:rPr b="1" i="1" lang="en-US" sz="28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You be the judg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The following slides are examples taken from educators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re they effective?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How could they change these to make them more effective?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TextBox 1"/>
          <p:cNvSpPr/>
          <p:nvPr/>
        </p:nvSpPr>
        <p:spPr>
          <a:xfrm>
            <a:off x="-45720" y="76320"/>
            <a:ext cx="909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uilding a Culture of Giving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ND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ceiving </a:t>
            </a:r>
            <a:r>
              <a:rPr b="1" lang="en-US" sz="4400" spc="-1" strike="noStrike">
                <a:solidFill>
                  <a:srgbClr val="f8f8ef"/>
                </a:solidFill>
                <a:latin typeface="Arial"/>
                <a:ea typeface="Arial"/>
              </a:rPr>
              <a:t>Actionable Feedback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6" name="TextBox 2"/>
          <p:cNvSpPr/>
          <p:nvPr/>
        </p:nvSpPr>
        <p:spPr>
          <a:xfrm>
            <a:off x="-454680" y="2330280"/>
            <a:ext cx="98582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Humility/Curiosity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– no single person (coach, principal, consultant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etc.) knows it all, even experts need help/support/feedback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1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ollaborative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Partnership</a:t>
            </a:r>
            <a:r>
              <a:rPr b="1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is the path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– admin, coaches and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onsultants need to forge these relationships tied to agreed upon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FOCUS - “Collaborative Coherence”- distributed leadership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reating a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safe environment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for honest, open, trusting, inquiry &amp;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risk taking… Lead by </a:t>
            </a:r>
            <a:r>
              <a:rPr b="1" lang="en-US" sz="2200" spc="-1" strike="noStrike" u="sng">
                <a:solidFill>
                  <a:srgbClr val="12ff2a"/>
                </a:solidFill>
                <a:uFillTx/>
                <a:latin typeface="Arial"/>
                <a:ea typeface="Arial"/>
              </a:rPr>
              <a:t>DOING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, not simply talking…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Establish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Feedback (</a:t>
            </a:r>
            <a:r>
              <a:rPr b="0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Giving &amp; Receiving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) for ALL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as shared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professional goal across the faculty – refining and extending our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skill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7" name="TextBox 3"/>
          <p:cNvSpPr/>
          <p:nvPr/>
        </p:nvSpPr>
        <p:spPr>
          <a:xfrm>
            <a:off x="5040" y="1752480"/>
            <a:ext cx="78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ef"/>
                </a:solidFill>
                <a:uFillTx/>
                <a:latin typeface="Arial"/>
                <a:ea typeface="Arial"/>
              </a:rPr>
              <a:t>Key Norms or Dispositions Leaders Must Nurture/Create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Amy Kilbridge</cp:lastModifiedBy>
  <cp:lastPrinted>2015-07-28T19:41:11Z</cp:lastPrinted>
  <dcterms:modified xsi:type="dcterms:W3CDTF">2015-07-28T19:41:30Z</dcterms:modified>
  <cp:revision>56</cp:revision>
  <dc:subject/>
  <dc:title>Colour Pencils PowerPoint Template</dc:title>
</cp:coreProperties>
</file>