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9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88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4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0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89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67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.png" ContentType="image/png"/>
  <Override PartName="/ppt/media/image4.jpeg" ContentType="image/jpeg"/>
  <Override PartName="/ppt/media/image25.png" ContentType="image/png"/>
  <Override PartName="/ppt/media/image5.png" ContentType="image/png"/>
  <Override PartName="/ppt/media/image8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31.wmf" ContentType="image/x-wmf"/>
  <Override PartName="/ppt/media/image29.wmf" ContentType="image/x-wmf"/>
  <Override PartName="/ppt/media/image18.png" ContentType="image/png"/>
  <Override PartName="/ppt/media/image6.jpeg" ContentType="image/jpeg"/>
  <Override PartName="/ppt/media/image13.png" ContentType="image/png"/>
  <Override PartName="/ppt/media/image12.jpeg" ContentType="image/jpe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941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</p:sldMasterIdLst>
  <p:notesMasterIdLst>
    <p:notesMasterId r:id="rId107"/>
  </p:notesMasterIdLst>
  <p:sldIdLst>
    <p:sldId id="256" r:id="rId108"/>
    <p:sldId id="257" r:id="rId109"/>
    <p:sldId id="258" r:id="rId110"/>
    <p:sldId id="259" r:id="rId111"/>
    <p:sldId id="260" r:id="rId112"/>
    <p:sldId id="261" r:id="rId113"/>
    <p:sldId id="262" r:id="rId114"/>
    <p:sldId id="263" r:id="rId115"/>
    <p:sldId id="264" r:id="rId116"/>
    <p:sldId id="265" r:id="rId117"/>
    <p:sldId id="266" r:id="rId118"/>
    <p:sldId id="267" r:id="rId119"/>
    <p:sldId id="268" r:id="rId120"/>
    <p:sldId id="269" r:id="rId121"/>
    <p:sldId id="270" r:id="rId122"/>
    <p:sldId id="271" r:id="rId123"/>
    <p:sldId id="272" r:id="rId124"/>
    <p:sldId id="273" r:id="rId125"/>
    <p:sldId id="274" r:id="rId1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notesMaster" Target="notesMasters/notesMaster1.xml"/><Relationship Id="rId108" Type="http://schemas.openxmlformats.org/officeDocument/2006/relationships/slide" Target="slides/slide1.xml"/><Relationship Id="rId109" Type="http://schemas.openxmlformats.org/officeDocument/2006/relationships/slide" Target="slides/slide2.xml"/><Relationship Id="rId110" Type="http://schemas.openxmlformats.org/officeDocument/2006/relationships/slide" Target="slides/slide3.xml"/><Relationship Id="rId111" Type="http://schemas.openxmlformats.org/officeDocument/2006/relationships/slide" Target="slides/slide4.xml"/><Relationship Id="rId112" Type="http://schemas.openxmlformats.org/officeDocument/2006/relationships/slide" Target="slides/slide5.xml"/><Relationship Id="rId113" Type="http://schemas.openxmlformats.org/officeDocument/2006/relationships/slide" Target="slides/slide6.xml"/><Relationship Id="rId114" Type="http://schemas.openxmlformats.org/officeDocument/2006/relationships/slide" Target="slides/slide7.xml"/><Relationship Id="rId115" Type="http://schemas.openxmlformats.org/officeDocument/2006/relationships/slide" Target="slides/slide8.xml"/><Relationship Id="rId116" Type="http://schemas.openxmlformats.org/officeDocument/2006/relationships/slide" Target="slides/slide9.xml"/><Relationship Id="rId117" Type="http://schemas.openxmlformats.org/officeDocument/2006/relationships/slide" Target="slides/slide10.xml"/><Relationship Id="rId118" Type="http://schemas.openxmlformats.org/officeDocument/2006/relationships/slide" Target="slides/slide11.xml"/><Relationship Id="rId119" Type="http://schemas.openxmlformats.org/officeDocument/2006/relationships/slide" Target="slides/slide12.xml"/><Relationship Id="rId120" Type="http://schemas.openxmlformats.org/officeDocument/2006/relationships/slide" Target="slides/slide13.xml"/><Relationship Id="rId121" Type="http://schemas.openxmlformats.org/officeDocument/2006/relationships/slide" Target="slides/slide14.xml"/><Relationship Id="rId122" Type="http://schemas.openxmlformats.org/officeDocument/2006/relationships/slide" Target="slides/slide15.xml"/><Relationship Id="rId123" Type="http://schemas.openxmlformats.org/officeDocument/2006/relationships/slide" Target="slides/slide16.xml"/><Relationship Id="rId124" Type="http://schemas.openxmlformats.org/officeDocument/2006/relationships/slide" Target="slides/slide17.xml"/><Relationship Id="rId125" Type="http://schemas.openxmlformats.org/officeDocument/2006/relationships/slide" Target="slides/slide18.xml"/><Relationship Id="rId126" Type="http://schemas.openxmlformats.org/officeDocument/2006/relationships/slide" Target="slides/slide19.xml"/><Relationship Id="rId1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PlaceHolder 2"/>
          <p:cNvSpPr>
            <a:spLocks noGrp="1"/>
          </p:cNvSpPr>
          <p:nvPr>
            <p:ph type="dt" idx="26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46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PlaceHolder 5"/>
          <p:cNvSpPr>
            <a:spLocks noGrp="1"/>
          </p:cNvSpPr>
          <p:nvPr>
            <p:ph type="ftr" idx="26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PlaceHolder 6"/>
          <p:cNvSpPr>
            <a:spLocks noGrp="1"/>
          </p:cNvSpPr>
          <p:nvPr>
            <p:ph type="sldNum" idx="26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95DA-A60F-4520-8089-DE7489D0A4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1440"/>
                <a:tab algn="l" pos="2163600"/>
                <a:tab algn="l" pos="28861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6DF794E2-53A7-48F6-86AE-7826B52CC7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0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724280" cy="3544920"/>
          </a:xfrm>
          <a:prstGeom prst="rect">
            <a:avLst/>
          </a:prstGeom>
          <a:ln w="0">
            <a:noFill/>
          </a:ln>
        </p:spPr>
      </p:sp>
      <p:sp>
        <p:nvSpPr>
          <p:cNvPr id="4621" name="PlaceHolder 2"/>
          <p:cNvSpPr>
            <a:spLocks noGrp="1"/>
          </p:cNvSpPr>
          <p:nvPr>
            <p:ph type="body"/>
          </p:nvPr>
        </p:nvSpPr>
        <p:spPr>
          <a:xfrm>
            <a:off x="685800" y="4491000"/>
            <a:ext cx="5486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4622" name="Text Box 3"/>
          <p:cNvSpPr/>
          <p:nvPr/>
        </p:nvSpPr>
        <p:spPr>
          <a:xfrm>
            <a:off x="3884760" y="8978760"/>
            <a:ext cx="2973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369440"/>
                <a:tab algn="l" pos="10820520"/>
              </a:tabLst>
            </a:pPr>
            <a:fld id="{9A2E129D-7EAA-4110-9AAF-7D9918070C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1440"/>
                <a:tab algn="l" pos="2163600"/>
                <a:tab algn="l" pos="28861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95643D5B-88B1-409F-8870-6CBAEF3B31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4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724280" cy="3544920"/>
          </a:xfrm>
          <a:prstGeom prst="rect">
            <a:avLst/>
          </a:prstGeom>
          <a:ln w="0">
            <a:noFill/>
          </a:ln>
        </p:spPr>
      </p:sp>
      <p:sp>
        <p:nvSpPr>
          <p:cNvPr id="4625" name="PlaceHolder 2"/>
          <p:cNvSpPr>
            <a:spLocks noGrp="1"/>
          </p:cNvSpPr>
          <p:nvPr>
            <p:ph type="body"/>
          </p:nvPr>
        </p:nvSpPr>
        <p:spPr>
          <a:xfrm>
            <a:off x="685800" y="4491000"/>
            <a:ext cx="5486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1440"/>
                <a:tab algn="l" pos="2163600"/>
                <a:tab algn="l" pos="28861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10BDD426-E983-4F96-BE41-900F8B32FB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7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724280" cy="3544920"/>
          </a:xfrm>
          <a:prstGeom prst="rect">
            <a:avLst/>
          </a:prstGeom>
          <a:ln w="0">
            <a:noFill/>
          </a:ln>
        </p:spPr>
      </p:sp>
      <p:sp>
        <p:nvSpPr>
          <p:cNvPr id="4628" name="PlaceHolder 2"/>
          <p:cNvSpPr>
            <a:spLocks noGrp="1"/>
          </p:cNvSpPr>
          <p:nvPr>
            <p:ph type="body"/>
          </p:nvPr>
        </p:nvSpPr>
        <p:spPr>
          <a:xfrm>
            <a:off x="685800" y="4491000"/>
            <a:ext cx="5486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35A3-9B41-49BC-AAB4-B21C99CD4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909B-0781-4BB9-99EC-7BCD381DF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necessarily word for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AE0E-CC6A-49DE-A4C6-0B2DB22F4A34}" type="slidenum">
              <a:rPr b="0" lang="en-GB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AF67-A24C-447C-B585-9532068A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D72-2EDA-4649-8AEF-F77E0143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395056-3252-4D86-BD2C-D8AFACA29AC3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88E98F11-66D6-4E87-8A7D-E243ACC9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2E35A2E8-FA05-4E63-AC98-64D24823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F1C23E33-BF12-4748-ACCE-84453CF1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4C3CEB3C-19E2-4815-ACDD-28A3700A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B7DD3884-25CB-4F54-AE19-4F126F77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3666FF29-D23B-491B-909A-F5380BA7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35CFF0CC-C9BB-46CF-97A8-FB6789DE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44455712-10E2-42D7-B44C-0F2BDA87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C8EF6802-A9CB-4699-AA4B-D19BB0E7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C1233C15-4232-478E-B6EA-0DFFFA53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3EA1B6-B386-42E5-8696-928D16431CC0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9B4EBDFF-59C1-4BAF-B08D-0E31B48F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EBF95684-8ABD-4BB0-9ABC-3A7FF707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9598BD76-9E2B-4A4E-B73B-8E619C5C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25785CE4-E0AB-4C62-BD0F-B092A2A9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2766CB31-8236-4646-8DEE-1AD70303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CA4E4090-4673-4902-8C60-55BAD647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4A78AA28-9FB7-4887-9703-AAF2F0D1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DF2BE3B6-12C8-4662-B65A-4B5C7BAA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20A527AC-A96C-476C-9D5D-4313AAD2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A6D0947F-1F83-4199-8E90-955ABA8A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3EE071-CEFB-45BA-882A-109B30F7A1B7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49673A99-5EED-4729-8433-1CE36615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1B5D66C9-BB35-4877-A1B0-5AB6D1A5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6CCD3518-793A-47BD-8C27-C97BC18C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C6B91357-6D41-4AA0-ACE1-69009F42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F6A08DF-3D4F-4E35-9CF1-3514C1DF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6CCF281-271E-4916-AC46-471CACF8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E3AB4E8-86E1-4467-9F36-FF22827F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33B9F860-FDAD-4E3F-8B9D-ACBD9B8C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4ECFACDA-20C0-43F4-A11B-B64A4912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86EEFF7C-A2F3-4C6C-AA02-189CEBE5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87AA9C-4955-40CA-A738-95595BDB67DD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B0C60DFA-511B-4420-8A67-F6F72E19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DF08F3AF-4F82-4215-B5D0-8D61A5E1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9A9E17BE-17E1-4FDE-A1D3-A56AAA9E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E6D55AED-B226-4A9F-BA63-2426DD33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8A2CE2A-F192-40FD-B686-28CF2559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C2E2E005-F895-4496-8DA1-7F2C9001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DE70B38-B9C4-4C1D-9064-455DB13C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A1195F27-1261-4496-BEF2-F6F89EC3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4747A1A5-A78A-466E-906E-6964AE23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F551088-F581-4540-8F61-7834B6EF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859270-B6D4-4169-9F07-8DADB110CFFE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0210E8F-FF83-4B3C-B255-44A5443F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61EA5164-4BD1-43AE-86C1-961E7AD4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C68CD10-FFE2-4185-9693-157F3239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C245706D-5C05-4597-920B-D555479E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55CDBB4-A757-4F5A-B30B-84D209F5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B41AB872-1A3A-4D21-96B4-75CFB90F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790DCB3E-8E15-42B7-9A0F-0A599729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B10514A5-4FDE-4189-8B31-648933F5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83983A04-2F7D-4EF3-B98E-AF09C22D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21F7030E-1106-4DAA-A05C-2FD535AB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0F2169-321D-4775-A91C-14E2884B57A3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A80CEA13-BCF0-40C2-94F9-E427E0AB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C15E6EA2-0AB8-4BA1-B054-261E5DE2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1E324A79-4D96-458C-9075-05DF4B56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29EEB262-3969-4807-82B5-3E09D280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EE796E4A-067A-4E37-A932-B1840D0B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6ED43603-EE5D-4F09-9AEE-D0C1C114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BA2464D6-F29F-4B40-9EA0-1BB2407E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B7FBA0A0-8B05-4FB5-AD69-D690FE9F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07CEBF6D-08C6-4B14-88FA-5634F1D1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55C6785-4C09-4A1F-8EA5-779D2FDE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2ADD01-DFEA-4E4B-8774-9C530D123D78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AE4033D3-9DA1-43A8-AC8C-F9E307DE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AE2483AB-421A-4560-A0D1-51E44929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18342A57-3BC4-4418-BC05-27D4929E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F216CBCD-5D71-4B20-A852-05E7609B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E6782C1E-66DD-47F6-BED8-7D13CF19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6D5F57A2-4C06-41D7-8BA7-688D044B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2E891528-0774-4F62-9717-CEDB2B07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0B1A7128-F8E2-41FB-B104-87E13EDB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F0E6023-C6CB-482B-AFBC-0F90B991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13985B4F-4EC8-40B0-85D0-119AECB4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281325-DAAF-4DDD-8FD8-F9EF84E2C36F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E0A23A3A-48B5-4355-A330-E61A25B5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2EC9BC74-721D-41CA-85DB-BFD24E80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0E315C93-3F26-463A-8142-EEC813DC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9CBD095-4827-49EE-8B26-4B65EAC8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2EFAA4F5-942F-4D0E-8F82-7DCF2379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BD3DC661-BFF6-4958-93E8-7A2CBAC3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57E0ED31-C7A6-4EC8-B163-A9FD9042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1ADADC3D-CBC8-4F04-983C-996E4248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F54E7BC8-6D23-42A5-91A2-F7115E61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8340BA49-F3EB-4295-B4B9-044803F0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C24343-AF36-445D-80AD-6BEAEE88CEC1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A4AC6F9A-3E61-4758-99FF-F80844E1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6FF9A128-4A74-48A1-8B75-F068903E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48837BF-5F2B-42EA-8101-99159A64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B59CC91D-CF8B-4C15-95DD-6873FD66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1E749FD2-A46A-4FB4-BFF3-5CB80A09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5D02AEF9-FAFF-45D5-A994-F135647B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1CEA10C6-2715-45EC-881B-A3C57F70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1E8BFAE-8EA8-4BC7-AE01-B5D93601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27AB1046-3663-4C3E-AF0E-BCFADE27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FB85933-9A14-47EE-955E-BD81A296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88165-D876-4E01-8FD5-72E7BEFEA5D8}" type="slidenum">
              <a:t>&lt;#&gt;</a:t>
            </a:fld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581B6F5A-DFD4-4044-8E64-86A1D08E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5DA259B4-8EEA-4BEB-9DF1-A5E87BFD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89277C5E-D2A2-4D2F-BD52-56F8362D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2F9EC71-557A-49B6-B504-B97E686D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5A343685-DF6F-4F17-89DD-97E8A231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D7780810-6C73-448E-9DC7-446A4103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F2478ED7-4F0A-4464-B023-3DAF3CD3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0EA5532F-C263-4ECD-A242-49721C85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0580251-82E7-4435-868E-962459A8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32A23853-1E1D-4D63-949C-AB188CDA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D8D-8419-4214-A51A-E2608467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A545C-2315-4F05-ADC2-6D94CFAB1A45}" type="slidenum">
              <a:t>&lt;#&gt;</a:t>
            </a:fld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BF0E626-20A4-4DEB-BC2E-96BC86AD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B6E8D14-A891-48AA-A371-85436882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B6C190EA-9F8D-45BC-89A1-D1020618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A5D7F8B9-7235-4FD4-BE9F-A02BC757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CAA96629-F592-459F-AB0B-029AA4D1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B4F56666-AEE9-4224-92E3-4CF9944D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D9E1A03E-F60F-4239-80AC-F147A126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9930DA3-0E9C-45B1-91C5-333FCD19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2C9206AC-50C8-49EE-96AB-968A1038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ACCF5112-912A-4BF5-B252-7CC7B2D4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68AEB-7393-457D-9977-EFCB63C12C6F}" type="slidenum">
              <a:t>&lt;#&gt;</a:t>
            </a:fld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7AEFA30E-DAA3-4294-8BC1-3D9A673C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2B2E5FBB-5191-43BE-81A1-BEE9B56C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AF3B7C2B-AA4E-4EED-B3C9-99FBF756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56966E67-EF7A-4CBB-9D43-CC652C1D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7916A98E-2980-4993-82FB-C7B4905D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F385D466-43A1-4327-8816-257FDC6D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ED1309E2-BDA1-4CFA-9578-DFAABEF2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776BD96F-6BF1-4686-B68B-62566ED6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AFDE9B96-0713-4200-B177-C35804A2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DF731144-D2E3-441B-9880-7B7EEE73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66FAA-03E9-462A-9A91-223C05FBBC0B}" type="slidenum">
              <a:t>&lt;#&gt;</a:t>
            </a:fld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D9FFCE2F-3B0D-4021-9500-E80BC976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F8C1392-DB12-412B-8386-4E0B895E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D10C2FE-B308-4853-BFDE-48C668CA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71D043C-5F17-43F7-8938-D993DCC0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B60A70C-A509-4EAF-8F29-A1D41C99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E93684F8-1ADF-4508-994F-C6C45107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9EEFF9A0-1B57-47DF-A249-37079012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796D719-C102-411F-ACBF-A667AE0E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BFD0644A-2029-4588-8B3C-00382EB0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01880A7B-23B8-43CB-9357-04DEA9A3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D75BD-BF61-424A-A331-924252E723A7}" type="slidenum">
              <a:t>&lt;#&gt;</a:t>
            </a:fld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42D2FA24-8C42-4CEF-ABEA-A31813CA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093870CE-41F4-4E48-95E5-0062AB2E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8A1C489-D5D3-4C8A-A2B9-A02C25AF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ED589E05-64AB-4968-AB98-70942799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0A67FBF3-9810-4DF0-BD9D-47073CDE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8131834-7EC0-4E50-A235-15098FD3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12D42C89-06C1-41FF-A3DF-A920F9F7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D658178B-6EF4-419B-98D5-42376FC9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8B30F3B8-DFBD-4D33-9BC0-283F5F21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7E16B0D7-4A9E-46DD-BC3D-5397FD9A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FB1C6-74E2-4FF8-88F9-E27F0FB10B2C}" type="slidenum">
              <a:t>&lt;#&gt;</a:t>
            </a:fld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534D5716-748A-4774-89FC-E4301B94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119D01F0-A902-43B1-847E-0338920D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65B50ECA-6855-4142-9020-07371A95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2F59F907-881B-49A4-989A-7D391C94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37EDD7B9-D9D0-4F1B-BF80-EEA5B14E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4E3E1CE4-272A-450D-946B-3FDB106A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85E7EBCE-91D6-4603-AD1C-30BBCACD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AE40BC33-CBD6-4B7C-815A-43D1D21B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D6166631-C336-487D-B07F-C50F47F9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827FEC65-3191-47A2-ACFC-B07F5D2E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93B85-6DA0-4899-9A69-0C5D787D9498}" type="slidenum">
              <a:t>&lt;#&gt;</a:t>
            </a:fld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E1627F57-E187-4406-8C0F-36F42739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E703AF26-DD9B-43C7-845B-9C7B7BC8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1901F35-3215-4778-B6E8-872FE34C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BA676753-2B6D-44B3-A6F2-B1731A0E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52F45AA1-934A-4EA4-A355-A2EFF863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CC69DC8E-0954-48DA-96AC-5086F59B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BA82406E-3756-4C58-8CB2-C1884994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7297B9BF-4621-40ED-81B7-44D77EAD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C6191EB7-847E-4505-86EE-CC39BC36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D2E1BDE5-C058-4D95-A5BF-1BF5B43E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8400A-91D9-4F10-B78B-224A9755BB7F}" type="slidenum">
              <a:t>&lt;#&gt;</a:t>
            </a:fld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7AF57D5E-97F7-4A69-9811-C3135CE5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B84012C3-AA9D-4871-A8F4-29C469E0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D843BFA-01F9-44D1-BADD-540D1373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F1234C8-74E9-4F8A-BE78-B7B60C3B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5280BD5-3FCA-40B9-AC2A-F79112CF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D19A0FD8-1776-491A-AF37-2CBAACB6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4E60CD5-EDE5-491C-9ACD-8B4F9133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E4A657DB-7D02-4492-88B5-B3604CB3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2616E046-C40B-46C2-B343-403BADB6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00F1FDC-EDAB-45E2-9A17-652000DF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92999-DF14-4141-B349-89640273238D}" type="slidenum">
              <a:t>&lt;#&gt;</a:t>
            </a:fld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3787D5D8-0AB2-4F51-8453-17752BA7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4B985461-043F-4C16-B8B7-56424598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ED6C231C-2C30-4EA2-BAE1-43EFD3CC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F46670BE-86BC-4C01-B341-7AC6E425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5B820453-2BAC-40B1-B854-9D216AE8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E31875EB-CA5A-483A-9F1F-36D14F43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2FA247A8-64AE-4079-BADD-7E11C838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992745FB-E48F-4C07-8A26-2504602D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88F7EEC1-FD40-4928-A46D-6331AB3F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B06A5504-C4B0-4DEC-9E70-084B27BB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1720B-B708-4D01-8D6B-0BDAB6C17334}" type="slidenum">
              <a:t>&lt;#&gt;</a:t>
            </a:fld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CEB5E58E-01A5-4EC4-BB81-88F21753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D805979D-A4D0-4D5E-8FB8-0F927085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A168835B-DC0C-49BB-BB4A-C8F07198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63C82E50-6ECC-4280-AC42-9D229470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0208A86E-FBFC-46D6-A1FA-8DB5F271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14F9031D-8CF2-460B-9786-7013F4D8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D7B032D5-DA27-4D73-91E9-66A74059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A7DA1B6A-0BDC-4A2D-BB24-953D546B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EE74D8F4-39B0-4E53-BE44-ADCC3C15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DF6C339-69C7-44BB-810F-33C38FB5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997B0-D72B-42D4-87D7-FB76D09AEA8E}" type="slidenum">
              <a:t>&lt;#&gt;</a:t>
            </a:fld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EFEA99F-2EFF-4FBD-B7C8-0E3244F7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9AEB649F-4A22-4AF5-A698-A280B291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FA71D0A4-5B9D-470A-8666-B6F82E5E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E8A3D0D-0134-4E3D-BF01-67B4766F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E14576C1-1E7D-4BEB-A505-2137FA00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9245587-8C5B-45C5-B0B6-4BA4305F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2C54F67F-B9A1-4078-B714-CAC55E26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8B6E6A9B-FA90-4126-969B-6C2ADAA2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C0CFCF70-993B-440E-A1D7-E79B54CE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C0B5164-2FB3-449B-A9BE-4335C579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3E6-A276-40ED-A19D-FD019633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50C36-314D-4BC1-9E96-E8714F479CCF}" type="slidenum">
              <a:t>&lt;#&gt;</a:t>
            </a:fld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859B0875-61D6-42E3-B717-EE7BF389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0E0D7473-636E-4E56-BE4B-033798A5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65ECBE7B-2473-4285-BD15-2FBB7E34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37D9C655-289A-4608-B5FA-DBC21F2D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65D41A0C-24D5-4227-8552-511C3DA0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A3FDED5B-3A64-4226-809A-F6778F77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5A83856-0520-4D46-A21C-DE9185B7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F87A8A9-E16A-4CE3-93A6-7B48228F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F8BA32A1-19B1-421C-BDC8-C9B375FD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A7BAD180-5846-4BAD-8378-35DF2A9F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55E47-D6D8-4650-99BA-29376FEC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0623FF4-41D8-4312-AD41-18A43F45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08906E51-1883-4D20-9A04-15FCD903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0D13A3ED-1803-447D-9FC2-F2A31272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FDAF7913-C2C2-4E45-8E87-26D01D09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FEBB27B5-B64D-49BB-A223-D188A208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31658B1E-05DB-4A0A-911A-80E2E14E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E714AF32-B69E-499F-BB45-FDDD1F9A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73492ACB-7D3C-492B-83BF-5BFD7B30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FB90CF69-2F60-4F24-85E4-262FCB6B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EC827533-B0D8-4669-8C93-EC4261AC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294D9-7DB7-4063-8489-D21373C0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07B3D358-1C9C-44B4-86E9-4F8E0208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4CC04DC4-35B7-4D4F-BC3B-F052611B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F6389E87-D220-4F60-ABC1-E98614C0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161EF969-2B1B-4075-8336-0FD7E625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A7990161-DCFE-45D0-8A8F-39F8911D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07966B6E-F054-48D8-98D3-970FC159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D9037C5-773F-493E-BA63-C84C22AB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8C83E15E-B619-4670-A8DE-1E51B9A2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F92A17EA-45E7-478E-BED3-66F5EA7D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85E2ACCC-F7B9-4192-9991-EDB3CA75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58975-11BE-4F76-82FD-63CDF183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E8A072AA-FE5C-45F1-98C0-48240BBF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CCBF46E0-4463-4AA6-B4D8-B4292AC9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4414955D-7BF8-4F3C-AF4B-C61AE95E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897A070F-6BBE-4980-BD1D-270F25F7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C0BE7AA1-CB53-4516-B0CF-E0C9830B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380C6B92-1DE1-4650-B604-CD616390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5B769F18-53D1-486D-A1EE-0956099D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A64590D-72E6-4CBD-8EF4-19C58574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4D0641B4-F6B2-4A0A-8099-B45F3366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CF07F281-7C49-4F47-A69F-8FC88419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27149-111A-420C-BB02-DC9859E0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616ACB3-D077-41A4-8704-DE875575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6993577E-C6FA-4427-B53A-EACB3365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AF514CF-2FF7-4DA4-96A8-1C5D71C4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51F9C4D-A930-4909-B885-24782EDE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ED3273E-BBD3-4C8F-ACBB-80647BB3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39B7C301-BE6E-43CE-90E4-277BB30C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899B0886-9D63-4414-9A09-71CF580E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49D81CF-4E24-4801-AD96-85CCCCA0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B4C38B0B-3E05-485B-88C3-92DC8C6E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06419201-506C-4B1A-AB6F-ADD58D97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DF6F7-79A8-4C4F-9CFA-BE2B17CA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4FBD7BEC-C45C-42F5-A3B7-BB2140B8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EFEE2FAF-E1DB-40CF-B576-FA771213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EC50107C-E204-468F-9A4F-A3E5725E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D53FBA0F-36A4-4728-9C20-8B2AEB6C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6C617FFD-6C70-43BA-A769-286F945A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CF0A050D-7DDB-4C7F-BF61-C622B98B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D195F0DF-551F-4C5F-86C7-85011D5C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0BFBE328-B3DA-4EBC-8F2D-CFAA0894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21E68CBE-57CF-4ED4-88C1-2ADFF10A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20F55743-D8A6-4E20-8F9F-1FD2D2EE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9B599-AD08-45C3-9AE7-4673709D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4B2642BB-0F58-4B65-894C-F7AA3D09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C9DC9-4A29-492C-88F8-993A1D53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85475-6E94-459E-950D-75C023AB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6B90A-C343-4674-B05E-1B8FCB36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C336-0102-42AF-9FA0-7CBA2375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309DDF-DB6F-4F7F-B05D-130E2444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050C9-3231-46F2-814C-F73C725E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53CCB-C0C3-454C-A52E-668F7B54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7618D-1410-42B5-811E-BB3DB5B8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9E7A2D-DC4A-4D7A-8861-E2E2F579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165F8-10E9-4ABF-87A0-8AD746A7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40AD8-E49C-4FA9-AE13-253CB6A4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70FBEA-82F2-4D5F-A9B3-6772BB23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09CB8F-0577-4460-9D2D-F212491C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DDD9CA-A3CE-4B9A-9BE7-FE6F81AF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D54E-FC12-49AD-9D62-05DF8AAF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034AB5-F964-420D-956D-133CC138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658A6-94BD-4770-AC0C-35B72EBA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31E25-DD4E-4D2C-97E6-EE6F0661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2ED16F-C8F5-410B-ABB2-3D6B5261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F4A5B-A786-4C14-A565-6F2386B6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E42139-4E6E-4034-A4FD-2D37C3D4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9A8349-8B05-4C17-A65B-A5F203EC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573616-B075-4A9E-A209-341A858E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05AD3B-9822-4DD1-849D-53D7EE37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FEE3BD-79A8-4035-89AE-B6B5D8A2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2499-272B-4424-A1D4-03ADCFCB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8E5D90-7355-4789-9B2E-EA2616BD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FBF4F9-9ACB-4859-80A3-3064B817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4294E0-63CD-419F-A571-FF5E3610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A7C9B9-6586-4EB0-A103-E255892C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04A23D-F886-47C1-A641-F84B56A0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BBC15E-E3DE-4A7C-9154-ADFAD274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36A5CB-D396-4C65-9717-D71014F2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12C8FB-8F12-4870-9182-29E44BD9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4B9EB-6447-4252-8459-46B232C5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120432-6D28-47CF-81C8-51EE0A15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2AB4-0578-4A0E-86A7-2EE85031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4EFFF-8548-41B6-B6D9-CC96EF8D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46E04-B69D-4360-8869-B9FFDFF6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FA56A-EB9E-4E91-A396-F0516D9E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8DAEC-4D6D-4602-9D5A-E885FCC2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07A4F6-D2D8-46F9-A429-BDF04A89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CDB99-0B62-4E2C-A6FB-DA2DC894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5D3F8-6F36-4A7D-BA54-3FE524AA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786066-BA1E-4E1D-BF68-2A948B2F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CB2316-818B-4D4A-A173-82284CC4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5F9432-4C4B-4144-AA9C-9CBB63F2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EC7A-AB9B-40E8-BBB6-7EEAAFC5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C6C7B4-6D9D-4806-9D24-C39179A9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41D0A3-D581-4BE6-9A2C-0F43447E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0D7E03-C911-4944-BFEF-FE433F25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D92B30-4403-4BB5-91FE-E8C7122F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8F9EFC-97CA-4132-B6A1-93B2224E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C449E2-2C33-4396-A5EA-B2ED5B7F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231FF7-1188-4ECE-8D8F-1EFF600A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BE76DC-62EF-4076-8D1B-0DACE38F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3A5730-5D55-416F-A75E-BC35B281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BF402D-AEF7-4B14-8B17-D2916D33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CFF7-55AA-40BB-A79F-DBE89330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0EFBF3-8521-4393-9D29-67AE7E27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2623FD-1A1E-44C8-AFEC-76E894A9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DDD65E-A569-4EBD-93D0-9C69890E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A74C6AD-FEAB-4B30-BDC2-BA948650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A1AFB5D-D277-4989-B342-52DB9DAC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CD57CB4-745C-4A33-A946-DA696396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924063E-5F92-4124-B55F-2B307DBA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745504-01A1-40BC-A9A4-E3068CCF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CE0E148-C88D-4C3C-98D5-731265CD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D417192-6B97-4DC3-B532-54AD40C2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C43F-2BF0-45B8-AE70-8A013E92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ED13375-844C-4DD6-B5AB-BB8687D9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40DDB59-4B89-4781-BA83-179EC92F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F2E9BBC-BEDB-4D79-9BF7-42B7DE2C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DD7B65-9F4A-4182-BCD1-9239F180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C9AF95F-3632-4C28-88C6-DCE8515A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9F0D07E-89B6-4ADB-BAF3-4FA6E370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B9985E8-DE3B-4052-A4F7-9596C7C2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0D75C52-45A3-4574-BCCC-20A18242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8EE83A-87AE-406E-9B96-385E5923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B7CA8E6-3E78-4506-ACCD-B508001D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0D3-8025-472E-AB1C-C638FE84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D994-9AE7-4C3A-83F9-380C9939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8BC7D3B-1C29-473E-AA82-09187850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64069B8-19C9-4F53-9FBB-54E05282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A26D31F-45F3-4FAE-B48D-6AB3574F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E172ABB-5BCE-493D-BDA3-1A7A2E92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FD6C34-DC03-47AA-9133-AC1C7DE3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58ED86-0CE4-41CA-AFA3-7BB37558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3E7E2B5-5FF8-422C-839E-5D189820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7523DB-9A35-41DE-A2F2-591F722D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9A8CF30-3CC0-4EFF-9D34-92C16DD0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CE456F7-DA03-402B-A6D2-0A8D474E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30CE-6C39-4EC4-93CF-0DB12424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FAF977E-D9FC-40E9-8F42-503C3F8C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9E24486-84F6-463F-9DEC-B3C7D262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E52863-CA8F-4DF9-AEC5-57F02B4A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2C35C3-F02D-4B40-903E-9559C08B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31436A8-C9D3-4558-B6A6-740E14B5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FD39DED-438A-46D0-83F1-21474A6E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1BCD573-E430-494F-A3D0-BDFDDE1B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55D9A42-6AF9-4374-A423-D0F9278C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CBEF9C5-B66B-431A-8560-5EDCD10B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FC5EB11-C9D6-48C4-8C4E-061381E0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CF48-42D8-4D92-BE69-DE6C54B7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EB84CB4-D1BD-4518-9136-0857FFF8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45F4F69-C3FF-4CFE-8F7C-131DEA82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3DDAC28-BB92-4DBD-944B-B98AE6FD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F5E861E-D508-4E56-880F-D2B94473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D142D45-4998-49C1-A2E0-ADCB06D8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A4C97E0-9225-476A-AD03-44043AD1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F39890B-3F61-4158-A826-F951A31F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C0A80D1-8AE9-4E7B-833A-7CD80311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8BDFA11-4E7E-4EDA-977C-37EF4D96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851C02D-D9F9-4B8A-AEEA-10F24A49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2E68-ACD6-4500-8FED-71BF4E7A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FFF2FA3-3AB2-458D-9A35-2A2A9F6E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86222BA-4D70-4EEA-91C3-5520F9C5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CD14937-616A-4487-A011-7F2174F0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34ED9B9-8806-4516-89C2-0553B176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D115F3D-9CB7-4EC3-BD88-FA21874E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8F32A1A-4425-4A75-8BC3-2BC90894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D006DFB-9044-4FB6-AFBD-0674D620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D7B8E82-C809-4F1D-9652-E2EF74DC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BE428AB-DEB7-402A-BDA4-A6052654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50440F6-887F-450B-89A3-28DFDFEE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83A3-E4A2-4492-84E8-4045829A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7DF1696-4118-4102-82CB-90CFEF31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9721CB1-DF28-4B06-A104-BFB1EB62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D0987BA-8D0D-46B1-A444-E6DCF270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F2E505D-1D1D-4322-82FC-E2037E5A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EFD3520-6410-43C1-9FCF-428596C6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5EEE463-CEDC-40E9-B247-46EDDB51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55D2FD5-DA0C-43FC-8A04-A4F75962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02A680D-1835-4AB9-BEB0-2671355D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306197C-84A1-47D3-8CC7-8ACC59B0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D220BFF-617B-4691-A867-94B01FEE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02E44-99D9-41B1-BC7A-F573F6B3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A30FFCE-75FF-40D9-B4E7-B1717F61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0919371-AB9C-4835-8015-A53F3235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6ECA15A-2881-438C-B51A-9A55302B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81C7A69-713B-466A-9368-311BFD60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13FF4B5-1D23-47EC-A00A-439FC3E0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BD5C62E-3574-4596-B3BD-59C182FC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2A835ED-54D0-4D10-8B6A-82E620B9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AF36281-F5A9-40CA-A8A2-8D25494E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CD611D5-61DF-48BA-AC09-437A9E3D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6A13655-E457-4A5A-A62A-B5E3E87C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A2890-5A74-4DA4-A8B9-1B8B8BE3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D33FE14-5812-4FFF-935F-734CC4DC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C6623A3-189D-4039-A5F9-A8845140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339906C-8041-498B-ADDB-6582808F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4EB9B87-2C38-4953-A8BC-2B53A213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E3F7BE1-49EB-4677-BC39-EEF5B2AF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473B3D9-9A06-4C28-9EEC-FF0BE2B3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DBF6A6E-22D1-418C-9418-53D342AA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ED87902-F00A-4791-913E-365F8D5C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B8357F3-D980-46C4-8870-42FFD18A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596CDAF-4813-4F49-8E08-6A1E613E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E6BC0-7B56-47D0-B58F-257F07BD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B8C450A-C232-4805-B152-F0D1AEA8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E2FB0AB-D474-4664-9012-F1616D78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7621FB0-4C5A-4F05-AC00-2AD0FE1F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0D59920-D1A6-4FD1-B00B-83F31953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9F5043F-7BD3-4CEE-B77F-B21AA685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0F553A1-5B73-4147-AFB0-CFAEDA8F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2C3AF29-E6A0-445A-B745-CB10460D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72332CE-0DEA-44A2-9481-BDA83B4D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4CD52B3-31DF-4A08-BDC1-BCB28E1B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3134526-FFD6-4BE4-84C9-ACED08AE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A3538-1282-4056-BBEF-4D631449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B06E4F6-98EF-447C-B2E7-7A195591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DFABD8F-9D51-4050-8946-D2E6CAEE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ED3E07C-D1D6-430D-9AA4-833A1097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81053D8-90B6-48DF-8E63-907C1F75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6B1C532-BF36-4A76-8257-2320B620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D217058-EC8F-4373-8AA8-51EBE8E1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1DC06A0-816D-4AC3-93F6-8AEBF005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64672E3-3D5C-46D4-888D-26940278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E0F0ACF-EA21-4CBB-8FD0-8B1E3C79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7710BD0-F4A7-42FD-8A5E-7ABC6893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C655A-2B52-4AE7-A337-5C517DFF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AA838CE-BB3B-4400-932C-44685249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B952224-24FC-4F5C-9F1C-B13F80D5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A63CF26-ACCC-452A-AB21-1F918922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760E816-C9AF-402A-B102-2BB6A223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BD33973-99FF-48A1-BCEB-267D0C52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E4C21B4-384A-48F2-907F-D14F0483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0EB6FD9-6036-47BD-AB02-C00C66F8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F126D1D-925F-4DFC-AC4B-94309209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3A09516-3E59-4F4F-90EC-187C3FAE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0AB2E18-1237-4D3E-A32E-41CB6E65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6DE-6C91-4F4F-BF24-26277627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0962D-3A8E-4140-B1D0-548A681E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766B269-EAF4-4F3C-A413-953BCFEC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D8F9C62-C177-4521-A4CF-6A508974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6442067-3829-473E-8525-4BE99F81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9B97A10-37DB-4A1C-8B4C-A26C165B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52123E5-CF5F-4FD4-A83D-C9234ED1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A669D29-1F54-444C-A586-86AD2ADC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5F475F3-7CDF-4419-B95B-93A04085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A672C52-5813-4328-83C6-B8EC3C6D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938546D-E16A-4DFE-B80A-78A4C5DF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F2DB459-D3AB-4EDC-9DF3-093B65A8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923C4-D12B-4CDB-92AE-E2498343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80A72E3-FBC8-4752-8C2F-A3D5583B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388B329-77E8-4F93-8101-57D6D98B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95ADE8B-C844-4E42-963E-BA3EA1EC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F2BEF1A-D01B-42EE-B687-3742BEE1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FAAAA00-E38B-46C1-BAC1-6FDAB35F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4A9C3A2-3DE1-4827-AAA4-31784BCC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6738DF9-E6FB-481F-AC93-A79A94B3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F8F600F-3FA9-4201-834A-77961F67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E7F949B-10BB-411A-B679-D15DAF89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F685729-2FEF-455B-9072-957EE1EE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A7C8-3C68-46AC-BDAB-B8A4D72D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6EA8ABC-5CAC-4678-814C-C2912B88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357057F-FDE0-4670-8587-B83056B0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38B65B1-A7FA-4782-9306-F0927B8C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63E8433-BE99-4384-80D5-58ACEFF8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A072678-FDD3-43B6-A970-C7B3F97A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931B0F7-21F3-4C23-8CAD-7BBA7B5A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4FB750D-5DD6-4364-91B0-136033AF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53B43EE-E349-4360-A3AA-ABB6F93D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DFAD788-3AEA-4C0D-BACC-A23F9157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F831A69-58C8-4CD7-ADF6-CA45C2BB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93445-7957-4108-AAA9-E76C033D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7470171-5BC9-4954-86EC-365FB779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CD8B7C0-339F-4EFE-BD18-ACFA52CE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4C009F4-6E44-409D-97C2-D701D34A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A2FE311-56AE-4CE9-A037-3DAA8EB6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E607458-F8F4-459F-AA2A-0650C63E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80A5A10-ACC9-4B96-A5CC-D58CFB1A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FCC34F0-21DE-4A23-9190-ECDFCDBE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80A4D88-5565-4664-AB15-2B39BB2B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BAABD52-6E53-4917-88C2-34BE05AA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9BACECB-8AA2-4004-99EB-38F5290B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F92C-75DA-4B70-A5A4-C8C73F4A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D16F1E1-55B8-456F-AD70-8991B663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7A3436D-B20F-429F-A286-50DC36CF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23A75AD-F7A2-4FCD-87EE-18E6AE63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FF85A09-513C-45ED-BDD6-ED10ECAE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ABF0D11-3D38-411A-8D20-1D8020BA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5F0F05D-51B6-4FB7-8B13-5BAD28FB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24C2FE3-60B4-40B2-BEE6-6199AC3E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3FBC719-AC19-498E-8C39-5D22094E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A45FC35-BC46-4255-A3C9-E29923C0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60F90BD-2600-419A-876A-3DB3117F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5CAB7-01C4-48C3-BA25-877CCB94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36F2FE6-C728-43AC-9792-30182BC1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A111FF9-586B-4F36-999F-E97C1183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7DA8689-A9BA-43E6-9A8B-3E442D99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7A53338-A22F-4E7F-9E26-771A1B69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F9DB636-3AB4-474A-9B25-566C6283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31A669B-41DB-4B47-8116-208D6839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07308D4-A6C5-41B3-B56A-908CA326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D162964-F1A8-4326-9DAA-28563DEE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6111D3B-2008-4ED7-81A5-34E1C91F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6718DAC-0DE4-4DA9-8552-F3C4B008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AA068-DAA8-438F-BDE3-B1C55DAB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5E88D12-E306-4C96-8B54-C7BB1E34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6B53A93-669C-4073-B08C-5BD25513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1D5DB55-FCF2-4311-95ED-B5E9DEB9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DADFE59-42EF-492F-A812-6E6F0831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98E939C-D6DB-4CAA-A8C3-CCCE9BE5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67BDB29-0CBE-4611-8CEF-FADB0F8F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D3B4E1E-5BE6-4C38-B534-1CE65419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722F40E-239A-4BBC-9B17-C3E83C8B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4A11617-8A56-4963-9226-E981A168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D74A215-1E60-4C13-BD6A-19CC206F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81E6E-8349-4051-8036-C7B1AD3A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B1B5011-FC47-47BB-8657-B9345D23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CE7F19F-DC0C-4F1B-9F11-F6BDA16F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FED997C-299C-4160-A88B-9710D829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C3E514D-5C36-4E55-B0B1-27D949C7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1311915-AB28-4EF3-B691-D20B0FA6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E47AD36-548B-479E-876E-38573AE7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3166825-0794-46E7-A5AB-27732350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D468CD4-2FCA-45BE-B292-98642971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ECF5BF6-52FA-4A83-9FA5-7519980D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721A4AF-9B41-411E-BA25-3BD14EA7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689F6-19CD-4F64-903B-FE811FF3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F60C521-61D9-477D-BDB0-13B6D35C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C4A8D9D-5DD9-470B-B228-0B99C0D2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30C3721-FF0F-40EB-B752-CE45E78C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9B22B5E-F9AB-4CB1-8BA0-9A2E92EF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0C2951B-EAC2-4CBA-83F8-ACB7D76C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ABC5AB3-4BF8-489B-8974-0ADE3C8E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B5941EB-6294-4F8A-B76C-7F2AA710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BD151A9-AE0B-48C2-87B7-B7D41802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ED53FD2-E54E-4494-BAB3-43A0421D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2979624-36F0-4E7F-B399-5F62324C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FD12D-1037-4C00-9D1A-DD60A275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9C31367-BE13-4609-A92B-A0BDFFFA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D55C428-1815-4689-89BC-B963EC61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5353FE2-0A12-46FF-833D-6B7A502E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04A7070-9E4B-4505-AF25-A8C095D0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5CB97C1-1EDD-4238-8B63-9CBB4955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E86E6D0-C72C-4266-830D-01D5F8DE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E277EFE-2CF0-4EF5-8D30-4F2D926B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C4933FC-D729-4054-8906-A35C3463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5378A7F-63EC-4057-9DE8-6A3208CC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B1AB2DD-BBED-4BC8-B7DD-9AD7A9D0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434-CC66-4DF4-B74F-C2E25A05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A04B6-C7BA-4166-A576-615846D3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49CD328-35D6-4B09-9BF1-6C32AACA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3075F30-231F-4467-813E-73807C2C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FA84FCF-0DC4-470F-8352-19B17040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4119EE7-9650-4452-86A0-547C1BB9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66EBE69-195E-4AC7-B1DC-CBC5B701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F7A0799-FC22-4E53-812B-FBC62152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C4A0C14-5354-42E2-BEAF-1779B2CD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6726E54-9358-425F-896E-FF25271F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7ED1BC7-2C6E-477E-81BC-B69F34E2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069E3D7-1239-432E-B9B0-3D43D28D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27FB7-E466-4D47-BBE1-65477F8B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8F8EA88-676B-47F3-A319-FDD51897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73ADE4C-B859-4DF9-A7F3-68CCF4F2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8E882FE-2CB8-489C-95DF-43B58E0C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E738B64-E10F-4839-BAAD-D5D75E39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11C5074-5DB6-4748-8DDD-0DF05614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DD052A6-4EBF-4C2A-BD41-9673B31D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91DDB32-3B51-4E4F-83BD-4E0A255A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BB773CA-0A8D-45C6-940E-3B13B089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FD69213-4B69-4A9F-AA54-038986C2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4EAD639-2DC6-4045-8E86-475FAEAD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C205D-B205-4DA8-83E6-3B63F203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250371D-2695-4055-AAE5-EDA8082A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5C1C4D2-A668-40E5-849E-C5446E77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50435D0-2A47-4D93-BCC0-E68329A8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C28AB6A-B171-4B22-87E2-B60D2385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F3AB630-FEA3-4FC5-A363-FB0ECA74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5DA85CB-EA7D-4D00-AC64-AE3F2763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50EEC93-9D0C-44DC-BE5E-DAE0CA85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4A5F7EC-54FB-456D-BECC-7CE6F8A8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5B9046F-DFFF-46DF-8DF3-D7E34F81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3E65F1F-7B40-461F-9C7F-3E4BC387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5E878-9C73-490C-8154-6DF3DE0D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D1C13BA-B3B3-4DE0-93CB-E1646378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940592F-A102-42A6-A181-91B1560E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83FB0D7-1DE6-434F-A4AF-B71F1E07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01AED9D-8187-40EF-9E60-2F71C83E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F8D15E4-5295-4553-9ED6-3BC20668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A00A8E4-6AD9-4B47-93DE-59803002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471D942-C85E-4A3D-9111-973C8C4D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7C5C1DF-C551-41A7-881C-F75F3857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D8E76C2-74A6-47A4-A3E2-215B037F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1DF9CE9-C0FA-483D-9399-DACA3DB9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FD5EB-6589-4CBC-940E-A7481763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B4E5C1B-7C6D-4433-AF30-65273081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E128C47-A82C-4A16-9735-B774E760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2765E2D-B52C-4F21-BD51-5F7DB144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956B246-981B-4CAC-8B1F-B2D2113E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22F7C8C-581C-4116-BC8C-02A5109B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FF2266B-1B3A-4A81-8AE0-D43559C6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1E56339-64B4-4335-9614-E2FE6F4D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DBC2DC6-5627-4B01-BBFE-76983DAD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7652152-2F12-4DA1-A1B6-C92CB4ED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B15EA60-D1A5-4802-B0B0-796167A5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C083B-FFCA-4C80-9404-C26E7568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24D8AB1-0751-48AB-8845-72B703A0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8E52BE4-27F8-4F16-A813-1CF73F7B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843D6BF-0FE2-4347-A83D-50CCEB3C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CDE5B5C-614A-4284-B271-A3DF094E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02A354D-156F-42A5-9011-9F296CDB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11285A4-2BF3-4656-8A85-C4F55D4F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002BE2C-499E-4360-A1C4-A42B0FF0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13FA15E-117E-4E8E-990B-54FB0B87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7923A8B-F2FC-4B48-B71C-3E70CEBA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D8C208A-3D2D-4404-B183-8D9387F4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6BCD6-9753-48E4-842D-205CB01C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80065A8-CC91-4129-B0BD-B36CBB8D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4C34747-0642-4F48-BB5F-A297F5C6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07A3E8A-410D-4F3B-93C7-4565A423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BC66D2B-1673-4D6C-A292-065EF8DE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3B5016A-3F83-4729-A52D-2359052E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FCB9E57-D591-4B97-8559-5B3A2D97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5B15350-088E-4778-87AB-3B524869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6D688C1-B3E1-4876-96D0-9D467C35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8D56842-3435-4321-9C13-B74AEC8B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0FCF6AD-1113-469D-B46F-9B573AC8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2DB5D-93ED-4B12-BC00-03BB6C16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1D5A8ED-3475-4E1B-9BFC-8EA0AC45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F361892-5203-4637-9C72-2442D7D6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F7275FE-8AB4-400F-868B-4681A429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461B478-CCA4-44B0-AC8A-6077693F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A686691-3CBC-49AA-833A-76A560BE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DE7C949-1E13-4CAB-A19E-BC8690DB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AA9BCF1-CE92-4B1B-99ED-A854B7F4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29148CA-76D2-44DE-80EE-80FD9F86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FA59600-4C69-4E99-872B-2B23C736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E97420A-1CED-41C8-AF4B-54CD05D8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27B58-F25A-404D-BF22-20E2FDDB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B0C04B1-01A1-4645-8220-531BA084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C899C63-6C78-471D-8629-0A855E80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37EC2F0-45BD-494A-8528-1C0CF5D8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FFCF44A-A427-45DB-A625-8F22C823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33A78B3-953F-4A80-8A83-2D1FCA47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8547A6A-9D5F-4E57-9D38-B2B38E31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B8CF166-58F2-45C6-9A83-E70E3916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2C38D93-9E9B-47A8-9497-D7771591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6921D5C-601A-4EE9-B0F8-46516C3A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508436DC-A8C4-4884-AD12-88024313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25240-D89D-46DF-975E-D00FF985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032465E-F33C-4D18-8AF5-FA289041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07D8780-E61A-46A7-9CCD-254A9403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867A26A-7B6C-4E92-A020-6D1C2CA3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70858E1-750C-4DE0-8024-53BF7880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6F779D8-CC5D-4D93-9761-C3384C83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4953475-A4D6-4089-BEE8-25BEA782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01312D9-6C02-439C-A392-A02D1116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5CD7F2E-019E-46AC-B276-0493B22B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C9A39BFA-D912-4E9D-BE6D-4356545A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5EAB6A0-9D54-4A45-88D4-F4782343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E9A-39A4-45A2-B648-D2CFA01C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29F31-82C6-4CEE-A3A6-65B1AAB3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61A4D55-581C-4B27-B7A7-C455FA9C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9C083BF-647C-4586-AA53-BFFE8C22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7FA90DC-C038-4057-A1A3-5F07EB9C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9B443B3-7B7C-44CA-8619-6DAB139E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55D86B8-F2B3-4985-92F4-73999A3B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C6018B1-D37F-45C2-8BD5-350BD44B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E8DB2AE-6B8D-4156-B338-5FC2ED3C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048F192-2B2D-4614-8C24-EAC8D8AC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441D7E8-045D-4240-A638-227C701D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9B1E369-DDDC-4B50-AD72-DF15A39E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57144-A072-4069-A6ED-0E9C08DF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C109F12-F0D4-49F6-BA9D-88D05B2D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EB5F89C-415C-49FA-B5A3-47D6913B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DEF1BCB-EF8D-4C76-95D9-8EDB6F90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83385D2-4A62-4DC6-837D-880ACFAF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BB34AD1-EB52-4B8A-AB78-9D2CCCAB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64DBFAE9-9EDE-4949-A18C-F922FF96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9B2B79B-63DC-4DDF-AC11-84953247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BB6A9DE-EA8E-4E66-BBFB-D375DDAD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FBC5D54-34B6-4FD2-8775-A2261782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112CCF0-61EC-4150-B170-42C6DFDC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842D9-C260-497C-BB92-1FA952F9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391C2698-151F-4CE3-9870-652EF963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CD5CD56-6321-4943-A178-55362A79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9A3E243-283F-4381-9BD4-38582FB7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B650ADA-49D5-41A2-8FD7-69EAD907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91521FC-2C0C-4912-8596-99B45781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4B761EE-E607-4385-BDEF-A71D6F20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E2D2814-B2CB-4081-BAF8-09C2A38D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7866A4D-91E1-4428-A330-A3BA5442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96E388D-C328-45D9-8526-CAE26CF1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2A2BEC3-72F2-49AE-B506-39EF950A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F7078-6D27-4954-B772-728CECF6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7EA9C6E-49D8-4730-92F0-5B3656BB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0A8CADD-73C2-487A-AEF3-C4892B04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F1AC93D-B23E-4B0A-AB4D-6F68AE03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69E2701-D26A-4D16-939B-8455145C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63C438B-A700-4E19-B1E3-6FF78519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1AAC6BDA-76FE-4DAF-A632-019832C2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0CE800B-FF2A-422E-AC8D-E0444920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87C0449-A02C-4607-82D9-C17EDFCF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C12B425-9BDD-4606-947A-C019E9BD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E1B8671-B9B5-48AB-819D-19B54953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38F38-FB19-4711-8DF7-22F6B8E6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D63D60A-6238-467D-8CF5-1D72CB39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D79B63B-43CD-4F8E-9DF0-BD5C415F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C71E2FE-D622-4D00-9F98-B7613C72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777BEA3-DC68-4549-BE83-03A2AD4C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B2C4FDF-DC81-454A-A0B4-2349E343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1401638-331D-455D-B1E8-702732B1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AD3696C-E6AF-4DAA-9AB5-105E1BFC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DBD380D-F6D9-4007-80D8-833FE454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B2C6D15-D50C-451E-897B-B20BB594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5736B11-515D-4725-A1F7-C3EB6054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7CB6B-B7C6-4E7B-AEC5-BD3938DD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7B853DB-BA53-4964-A104-3D4D5E94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3649D49-9508-467E-9A06-3EA34570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5F86EDF-1560-43A4-923B-86706EF9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B157EC3-70C2-47E8-87F6-DFE06335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465EB9B-4E5E-4E48-ACEF-01EB3436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462FA90-4020-4AEB-86AB-7642A820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73FE95F-F3AD-4070-ADAA-9FB854C1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A3C1B71-A9B3-4B18-A960-F5517B11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A901CC4-483E-4915-A6C6-44317B3E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5B1128A-442B-48B9-B38D-C49AD9DE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EEF1A-B96E-4D72-AD8B-2D82ACE3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F3ED252-A702-41CD-B32B-11B9FF15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58DDF20-1005-46B0-A9B5-247E5E50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953A8B8-AF08-4E26-A875-7425FDB4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2411D02-9148-44CB-837C-83296512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3BC4CCD-970A-4BA6-AA64-07AD2159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D4D27-400C-4A00-BFA4-81A00B54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70C4B-45B7-45EC-9FF3-3DF729C6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09224-3D65-4EC9-BAEA-75DF006C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0B11-4B1B-4E77-9A21-E91D75EA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CC0C9-D637-4E7C-A1EF-36B3961D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52FEE-E7FF-4601-B226-E56F3768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D1886-56B4-4874-93DA-14AEA187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A2B96-96BC-4DF6-BDA2-12C7979B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85640A1-58CD-40C4-BE23-EFA63A0C5816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56649F7-4D10-4890-96F7-F74BDF2CA5D9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D0B6563-4F91-43BF-AAD8-A8B84EC9DAF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7CEC3-B68E-4292-B005-20C92B03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295A8B7-38D0-4841-8A80-D5CD6BE3F10B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B55D30C-4B33-48D5-B0ED-871B950FAD3A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957226C-2D05-406B-923F-60208E6BD709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5664693-6D72-44B7-9DE3-44428C1A728C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28D8E49-6AFB-4C99-9222-9601EE34387F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4A784DF-4C65-46D6-8790-7E14FE1CBF07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B898075-61B5-4514-B42C-CD4AC0F1DA8F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BF14824-5503-4CC7-85A4-8C0408B31D6E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2C74B28-3F6F-437A-9134-0DB309C440D3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23EA8B6-1856-4162-AC2E-113022E7DEC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883CA-5E69-4140-95A2-1E06A131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8000FFC-FD4B-4E3D-8626-237CFF453FDE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FB48A9E-A7D8-4087-A507-7066933A9928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3DA0644-1217-4BFE-B89A-0E6ECA196A38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6B4E6EB-2ECD-47B2-B65F-AD8C2F0DD476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2F02049-8762-4018-B858-22099DA8BA74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702D7C8-6D7A-4136-AE39-6A45D71D28D9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FB82F19-FA47-4A0A-93F4-8C0EECD70558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31A6D95-77B3-4C9F-A79A-98EF9CF65326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B4243F4-D098-42E5-8F3D-44B0B29B5D47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720384E-4F08-4260-B4B8-F26752B9827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4D150-C4FA-4EDD-932F-BD67F5A0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87961E2-85ED-4C77-9154-DB69D2B06E19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2EA709B-2C82-4FD0-9481-D084FA3428C1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44B4222-C341-49C9-887D-B65DDE63A5C7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E694D4E-5A61-4DE6-9C5F-E0A46CAB86FC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A2F2080-33FF-4CCF-8933-A7EB07F97AD3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67E5352-515F-4E0B-B304-18F24B7E7FEE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F8B003A-7A1E-48FA-8454-40DB4C165466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89A5B99-CEEA-473A-8FAF-927E51516348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2365C37-D2F9-479C-8158-A3D0ED23949E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732E1A6-2479-4730-8146-6AD606D1A84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FC51C-95F1-421A-8EC1-138B316E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7219BF3-8950-4244-9A4E-9208C4DDE8DA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453E88D-AD92-45F0-A42E-5DBB3BF7DAF7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85AA768-1834-4DD9-AC52-DDF64F01BF5E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3F84B55-44A5-4A41-985C-8678BA340E03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E3CE142-0C01-4503-926E-005F98E620B9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DA49351-BBAD-4686-9F22-1D05FDBB865C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5F34FCA-77F9-4297-B774-248C95DEDF29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74A4387-E0B5-42C0-AF09-758057E0A8DC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DCAD549-EA8B-4AEB-A2FE-1B7121B465A3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19082CD-F217-43CF-8ABC-E89035067CF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A1793-837C-4A6F-9013-DB98552D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DB05E54-95C7-4462-8727-476D38D2223D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4055289-BDA0-4349-9D07-ECD0D80D6F26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92AD881-6F12-4966-BAA0-C822DD5FA0FB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D3AD6CE-FC9C-45EA-8508-FACC378E1917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AFCAB77-2ADE-463C-B5BA-E00DF138F23D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1D7A1E9-898B-4676-947B-0CF9DCFA13AE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4636A6D-91A0-4F7A-BE0E-8FF2D9C9D3E4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FA472A3-522F-455F-864C-8B3C1F49DE8B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82847FA-D46B-40A8-A2C9-162B6FB9C8D5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360E179-5958-491A-8D32-F375FF5F9D6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DB809-B355-4D2C-99F0-262D6B7C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63A168D-A102-4B83-980D-E91EC5C4656E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A852834-4EA9-4139-BE9D-C1E3088FB276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5EB3111-A107-4C4F-9AAC-1C6FBDDA0C56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896B8D9-88C8-4F46-97C3-55F3B3EECB1A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8775454-598D-4CEE-96F1-2052FEFD9F9F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B289031-9FAC-4E60-8979-5E40044E4E11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30528BD-B443-4CB4-99D3-1589912510D7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214FFF9-BF09-46FC-948E-A473A0EB9DCD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C85E38D-2E9C-4C7B-BDE0-D757175AFC93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15A8578-BFD7-40C3-970D-3745E8122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862-C493-406A-A574-3BC46C76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E868F-EF40-41DC-B196-8624ADF2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BE4CBB6-93B2-4BC8-B482-F6E44DFB864E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7EAFDE6-9A36-4074-9C92-6A75D9566D9F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B7E90F3-BD28-446D-8EC8-47A5F2017568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BF82722-0B86-4A3F-B59B-7E81ACEF7C7F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262852B-50E9-4B3D-84D1-6FEBFB1CBFE2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5F5B9D9-4427-47D8-9C70-302F07D45CD7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C9C218F-5B2E-421D-8E52-84C326EEBF18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11C683D-BE2D-4E70-B76E-E44A08DBFC4C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F5CC26-D243-4B85-8757-FCAC1CFCBE8B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BD0041E-A924-40B0-B0E1-099583A446B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42061-7FFF-4E70-8C4C-63EA59A7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0719EDB-2F79-4C5C-BC20-7402F2424B20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D1045BE-F620-48D3-9E08-B221004CFDF8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5D6263F9-D42C-4C87-9F2B-C8C04E5460D3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D07C8B5-7C07-4A18-A7BB-2FB0F25E6F1E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1926636-8A72-42B8-B612-D7ABF49997F5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0646DF65-7ACB-4D1A-BF50-7F2D014ECBA3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03C49F3-4F7B-4333-8610-A5502B47C0D4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5F3FC248-8D40-4FA5-9AF2-172954D543EC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1649C83D-D91E-4BB9-AB46-5140E7B070A3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1A6CCD2-1E15-4737-B6E7-18DBF3F4F66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36302-6B85-4A9E-B2BF-71C8B849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781A2F2-8840-4028-BABC-6D2CD9950D68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0BF8429-9F2A-4621-99AA-5C06F730E58C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F83E4E8-167E-4D8A-B5B9-A34D35955013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44A7169-1B85-49C6-89E0-045713A0F009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5394FD1-4AD4-4680-87DC-DBA9B98E7684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0782759-4BB7-4A3A-9110-417ACD7561E0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11D8649-E027-4498-9CB2-B9C94275213D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2B48DB0-117A-40F8-96BE-46B1B30F5B22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6A5F667-6323-436A-8E22-01B9CE38CE0E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B7F8E6A-8BBD-44A0-9DFE-BA750575D3D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F35A34F-F6F8-40AD-8D5E-162BA2D83638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EF272F8-51D7-4A6B-9C3B-5BEF90FD71E0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71E1A36-FAF5-4248-9E93-194096A7E79F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7F9B587-26DD-4F12-884D-D242EBE640B6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8CDDA85-4268-4009-B03D-546738E7F2F4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9B79C2C-F081-4954-BA10-44A8A95B83A2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7C6419B-9A6D-475E-9DF7-3D73621451B4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93F792C-7A1E-48F1-882B-1DC83D95DF9B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740AA5D-91A5-4012-9539-CE0EBEECAB60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6E7692E-A5DD-4EF1-89EF-CE0AA6B1A8D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B93D119-49CE-4996-B105-6BCD5E02280C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3CA7613-E203-4CE5-A035-6E5541812748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12789B3-07D7-42ED-AD22-04591B428DD2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DC4582C-CD42-43AB-A458-7DA85F1A20F1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824B476-9570-42FD-8532-7181FE80FBAA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75F45C0-0A38-423C-8CFB-338BDCDE19F7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4B9192C-C04D-41CE-A4E2-39C38B07F187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C050B96-492F-4858-B26E-1E1EF9A4C744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CCD79E0-84F5-4974-8251-4809E23DA16C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3F9E672-ECFF-4963-96DB-C8D96118B94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F64347E-CC76-4026-B51A-E69CAA04EFB5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272FE517-F32A-4270-992D-944C3C81D1B7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3AEBBCE-64EF-45AA-86E5-C3EF20CAAFB3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B994607-48FE-4E61-BEFC-F6EE1EE95BF5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93F2BC1-6F78-43CB-9855-DDADB421F146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9E3894D-7CA7-4E4A-94BE-4FE1383959C9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B5015F5-BA5D-4538-A569-735A0B5106D6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7E23BAA-7AD3-4F66-BDD1-60EAF4E4681E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F1E1342-92BD-4078-9BE7-5E1E04B57B0D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76736AE-31AF-46D6-A979-DD9AE9A538F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1C4D3AF-FCFE-4516-AB15-ADEAEBD4CCE3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F1A40B4-1950-4217-8612-2F28E42927A3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F2782A0-DC49-42E7-B8F2-27EE9AD93F1B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37860FB-B5DF-45D1-A701-DE51BFCFCFC0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2F690AD-19C0-4C00-AED6-A0E9D87095D7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2DAC273-5482-417F-98D3-7DB9D71C4B63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3056B01-5373-4C0E-9F4F-9D89F83C6799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4B9700B-A019-4CE8-ADB1-66C682A068F3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0AD70AA-5181-4E01-996F-AAFCD25BB0C8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2BB9AF6-7F1B-4EA0-88BD-17F0509E3F3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F88CF16-F8EB-40CE-8DFB-0A97F12E9C5E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6225490-8E48-4074-93F0-0D39B86A6C58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F3F89B3-6F11-4CED-B3F2-F0088AA51BC9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04DB0F9-DAA2-4300-8A08-126623D55B97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024A872-0EC2-474A-BE40-2428F32754C1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6779EAF-0405-4EE2-BA79-300BE7820DFD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B974FDF-7543-4257-9303-72CB9942AAED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1827B06-7316-4B58-AFF1-EB2EE204E9A6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04A293B-0BD0-48FB-BCD5-E44D67FC383B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48C7E09-A13A-46ED-94B4-838165686CA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58B0E55-7D6D-489F-B373-6ABF86413B17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CB6B302F-F448-42BF-A6EF-367339B2A5E1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F294FB8B-1C34-4CDE-A88A-AF7ECEC3B8C9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275B7370-E801-403E-B865-98B5276EFD9C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D482D01F-3D94-48D6-83E5-70C0D3C1942D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A6FE2F51-9E5D-4E7D-9F09-94A5F71923F0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13C3AD30-C5AE-49AC-8CAE-D59E10564131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A87F9520-CF4E-4822-8093-76CEAECEBC64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77225C2D-3742-45A6-8D54-8799482D0AD1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CF5393F0-656D-4678-A32B-C50B3FFBF8D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1A90106F-D740-455B-ABC9-CF72DD4B12FB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D43A58DC-347C-440A-9B78-02F90A996233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8082B88E-DEF8-43E1-BA76-D50F807D21D0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87475B2-F530-46C5-BA0C-0B456AABDA1E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8855788-0D8F-484E-AAF3-2AB717ECE118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02A751C-68E6-4E0E-AEB5-17B4D19DD83B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BF83E28-4BC0-4DF3-AD8D-F66271F99C96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61A7A03-A7C6-42BF-9D87-A339FE988BEA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248369A-8AF1-4755-8422-9EB145EA28CC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456FF45-7B9C-41FC-A0F6-7DB9FDCAB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723-C621-48A1-9F0D-E4F1F2EA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E0C3987-9B8E-4D36-81CB-E0B4672B5049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4A73DCD-65DB-4FCE-B5F8-24533B7FD327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E380A84-4424-49DC-9204-838DEB28E094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C323B78-A56C-439A-B559-C60707134BBF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3D86717-7819-4288-8EBD-04926F1434AF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BC43D88-A638-4F4D-B14C-0129BB846A61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95BF32F-F3D5-4D1F-9DFF-9FDC7B704D65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E4EA840-0236-4C84-ABA9-923ECE1635D3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95E8898-AFD4-4D32-9D72-4E11E81CEFC7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1621A20-9343-45DB-BBF1-A5A107CF41E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E707530-C3B5-42F6-B793-3D9AD720F6B5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63D9D63-C107-4D5A-ADB4-D85DC235D6CA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DEB32EE-9CBC-4804-9C9C-2D2B20AA8EFF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C7A6F6A-AEE4-485F-9021-EB7E4F5F018B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F97EA9C-C566-49F9-872F-E0ACA46D3C13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AEDE86C-400B-4F18-8F29-DE7792B074A7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9201540-A11D-4569-84EE-0DCAC1710228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8FBCE423-E49A-484B-8D4E-1DBE465CABCA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E9935C8-DC35-4514-946E-F4B8A94AE65D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7DCB7018-5952-4F12-B442-826100A6A3A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C031B60C-AE5C-4BCF-BFCD-0EFDA930E4D8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E8F8B514-9AC3-4877-B2A7-EC9A1F965AC7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99DA6C28-C5F5-4DDE-86DC-C2654281AF27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0105A1A5-F6EC-4DFE-82F0-F7A9751CB3E6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5DB496A8-339E-4B24-9A51-3666682E08EE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54E832F-0299-49B8-BFE1-76415026F002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AA85CB53-5F2A-466F-870F-54C5A5BBFA70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AD16D397-92D4-48E6-B5A4-16CC36A0740F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F702D159-BC4D-4FB4-B88B-553BCBEC8357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FE2BCCD-7680-4442-91A3-1ECD3F69CF8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A0A2CE5-FCEE-41EC-9AC4-4DAD71BF21D7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DFC9C4C-8812-4CE3-9B4B-45F762367EE1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D360384-E3A2-495C-8412-DB76379129FA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1AB4FF3-8123-4468-8F38-F520DB9BD99D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82A2BC2-A7E9-4850-83C1-86327A92B089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94935D2-22E2-4905-B84D-CCF27D6421A0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D58F2E4-D5BA-41A9-AD82-EBF9F1303BD7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B6D60CE-FB8D-4EBC-A500-64524B7BF42F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E006451-9FA5-4847-91A2-8E18F0499B7C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1753FBE-53FD-4658-BEE1-FFE5FABE377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054AEC9-F476-491B-AD82-5D0963F4E7F0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AE60A59-EBD7-43BD-9FA0-EC8BC44D60A7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792208F-6389-4EE1-9EDB-CDDCC4996835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D196C4E-AB46-4606-9F43-C4590057159A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B073485-5843-4EE3-88B5-246503EDFFFB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83C3068-F802-427B-BD8A-3EE2D4E256A8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CBF3072-86B8-4686-989B-1070DCDDCC3F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B215A6B-8960-4938-BC23-065825F2B3FF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2B84C92-132B-4443-8B55-EE09D9A328E3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74181F5-1F7B-4053-8E66-77D116D4A90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B24A45E-68B9-4BB2-AEFD-281DA338EF62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A6BB663-E9E5-4245-A1E8-45E35929E0A8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A1A6EBC-DD14-4A83-9293-1AADF3CF4997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C28E5557-440C-4FE0-AF79-BA08A1EE0869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34D4D268-9AEA-41C9-95C1-1B6853303771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15FDB410-B610-47D8-942A-E9AF5A107399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6D595A4F-797D-40D1-B028-839B87AAFC5B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4D61526D-DB3F-4946-B64E-D8F1A4CF617D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0A606B45-B3F0-44EE-8E8D-0B31E660932A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497FD2EF-98EF-464C-AB9A-C8790AFACD8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A7FEE3DA-9E16-4B2E-9454-32771A922BC8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49E93263-958A-4724-AB95-D3D93EF1FF4E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17D221DB-717C-47D3-883C-614C4E9AD104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CF39DA52-A306-41A2-A957-A68B98A40F0B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3B071ACF-C9D9-4E3A-AD49-CAA62E237DB0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BFB40C3-34DE-4EAB-B8B5-EB32DBA92ABE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8B8213F-5BF8-4AF1-822E-1277464BC143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41A1EF9-08CE-4B74-A3B7-6C4606B9D21F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C4E34DF-8578-4461-BDC8-805DAA638B02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56D56F0-4383-45C4-A149-163C432B43E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38E1E12-FF20-4D3F-B8C7-A7C5962A0D1D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4BB18F4-54CF-4278-8E0E-56FD86D6A881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4CAB9F4-0F73-4A87-B5EC-686225B98405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17B616A-C403-4CB8-B9AB-6165BA4DCB7F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AC6CFD7-9004-482F-8BE1-7702DBDA6C86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D602278-3873-4021-8116-4EB439325C5D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1EBCD8D-07E8-47EC-BAAA-7E66092C2B0A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CDF0A03-A800-4DF6-9978-423677038608}" type="slidenum">
              <a:t>&lt;#&gt;</a:t>
            </a:fld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81D4A44-4644-41E9-A7A0-803B025A8B9F}" type="slidenum">
              <a:t>&lt;#&gt;</a:t>
            </a:fld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B86A64B-F103-4F66-B327-91D716A2C13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6AF2219-C880-4445-AAFF-24F75B7368DF}" type="slidenum">
              <a:t>&lt;#&gt;</a:t>
            </a:fld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8FFFF8D-E681-48E6-8578-6C28A60975D0}" type="slidenum">
              <a:t>&lt;#&gt;</a:t>
            </a:fld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8FD01CE-9AA5-49DB-A25C-8463EF26D4B5}" type="slidenum">
              <a:t>&lt;#&gt;</a:t>
            </a:fld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19E8B80-7E7E-4329-918D-7B51884B8EFF}" type="slidenum">
              <a:t>&lt;#&gt;</a:t>
            </a:fld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EBCC939-29E6-49AC-B71B-4F964B8C045E}" type="slidenum">
              <a:t>&lt;#&gt;</a:t>
            </a:fld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8BEFFB7-C690-459F-8159-B6CAB28FB2AE}" type="slidenum">
              <a:t>&lt;#&gt;</a:t>
            </a:fld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25D94A5-E1A4-421C-8E38-8D97E635DAE1}" type="slidenum">
              <a:t>&lt;#&gt;</a:t>
            </a:fld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D0943D4-E249-4722-A316-157806C6E4CB}" type="slidenum">
              <a:t>&lt;#&gt;</a:t>
            </a:fld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3C80C96-3041-4367-8B71-CBA4390F40BF}" type="slidenum">
              <a:t>&lt;#&gt;</a:t>
            </a:fld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06799BAB-4C63-499A-B060-BD958B518B0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6E9AA4A7-23EB-40B1-9F75-642BF0989256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738FF63B-29E3-49F3-9E70-B2807D72FC54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C125EA75-E6A1-42DD-B457-179F5CE4CD6B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1BD7FD47-3F79-47BF-BE3F-813DFEF9EBC3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127CB5AF-4593-43CE-A538-DC8C867DB2DD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787BA935-03C8-424B-B551-EE6E6FF6AE93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9D81C952-F660-42F8-B198-BE1A0F9D73E9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F8EA79FF-136F-428F-8048-A692F8FFF8E9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B9C793AF-4C26-4CB8-89EF-88758AFA88D7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DC80C494-F1CD-40FB-BA3F-F487FDF1E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C95-C50D-481E-93E4-626BBAF4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230089D7-B39F-4F30-A1C2-B743C86C4929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27FC05D-44B7-4287-9F01-391F5D472202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52C4732-6C86-4BF3-976A-4573E4C0E1FD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71FAFBB-0D7C-45D5-BDB3-7029AA6772BA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B38B734-0B64-4448-8E75-6F60825E75A6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851B3B5-CE27-42B6-B8EA-2B2866828830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0FA6E1F-927A-4058-BA0D-FFD53E4CC305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1F67971-896B-42B3-A862-43DD4C152BC1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64C0073-298E-435B-B2B4-54D92670F25C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11C6F51-C6A2-4ACF-A974-61FA1F6D8AA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1A6ECF1-8F9D-4402-B225-82F4BE628C5E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8524085-FACE-49A2-93D4-44E4741D0CFB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B7D876E-6085-4430-A7FC-9C5534768647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7CDBA8A-0324-459B-86E7-DA9DC593D363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FBA31CE-A38C-4D65-828A-546B70A9E5CC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45B0A36-F518-4E7C-A94E-1A568849C615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A0EEC68-E8B8-4C6A-8001-EDBE79DEBA62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8D11BD1-EF4C-483B-9914-5122088F88AB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11C701C-12AB-4622-8262-80C8E48A8144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E9F3FEA-17A5-4666-98D6-C2548D2D7DB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D9A4A25-131D-45CB-BAFD-B4F7BAA7EC4F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E896C9B-96BB-421F-9CCE-3D3F66E8C3C2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5B9451A-9F6E-4507-A5A5-61EF6BABBA7C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428D7A8-28C5-4EC5-88B9-0312304E4CCB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FFCFB8F-9398-4FD9-AFD0-8BA764CE31A4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3FF87E8-481A-4C37-9747-2B00E1FB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867F188-42BE-4E51-8907-1CBF3EB8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98E96F9-9391-4821-9DEE-3E81A223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2440935-0623-46E6-BA05-69D19AC1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44A27E9-BE3B-4D9B-9D69-82921E89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FDBA0B0-350B-4E70-90D5-025251C0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2AE0D78-AD93-4812-8692-F68770C7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ECC343C-EE03-4E2B-9F4E-254AA09B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FA90740-2009-4A9A-8AFD-F8410DD0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71A8E86-FB77-4874-ABCE-CC8EC648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EE68A94-61EF-49A9-BABB-C39B365B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771860A-FD37-4BA9-B4F9-6F4FA5AF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7D820B0-D79C-460C-A77D-78F1BCB6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1C43B73-9724-4848-A310-E67ACBB3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7EB1497-3B91-49A1-AA7D-BE72266C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A669947-982A-42F4-B2DD-3377F221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29C8F79-928D-4511-A5A5-7B6DDBB2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72D7AD4-58F7-4D45-96DF-53686AD9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0FB8C26-580D-43AA-B37B-C1F0A28F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915301E-8A85-4AAB-A2AB-0A0E3CBD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28D90C8-9A7B-4AD0-8D24-2E5FFA72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5DA4DD1-B379-4018-A571-A3038EBB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F5CB764-D10A-4960-9D1D-C4944EC1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932A6FB-B4AD-4BB6-B7C4-D1359050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6B25C72-1DAC-47A5-B6BF-E4779CDB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FE1EB7F-83F5-4B9F-8912-F6E20BB8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F48462A-33C2-4903-A60C-74AF3DE9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4783508-3E45-4A06-AE70-4AB1B5D7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3B1BAEE-BFDF-4B65-AD56-02F6ED2E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96A67D0-EF65-47A9-952C-B6DF1E49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FA5AFD2-A78C-4063-92C8-42F80FC1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0BB8C9E-87E8-408C-97B3-F60F79C9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53DAD9A-E0AD-4083-8EE3-9C764A34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8AD3C5D-8634-428D-9430-486C01F0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39AA044-27A9-4D73-9C71-4B742A97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23B55B5-1627-41E9-81C7-269020FF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3288758D-48CF-46FB-A744-D1EF74D2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DFBFCE01-CBC4-47CA-9EC2-0CC86F23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4CC9D1A5-8EA0-47A5-B2E5-C6A6CACE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224CEFA-0F17-490F-93D0-6CA18FC5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30C7372E-DF3B-4425-8A58-E616FC5D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D2F7C43F-FCAE-4200-AD19-3B9A25A0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AA13C0D9-9E16-46B7-8550-AEBA75E3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511959EE-F7CE-463C-8489-BD3F26E9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F9784204-CAF0-4498-BA05-BFDA98D0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2F9C67-27A4-4EEF-B94B-735EB008872A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A67A88B8-A039-4E30-9F26-07F68155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82CA6B4A-CD46-440E-B140-38A6A98E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0EE3EDF1-8ECB-48A9-9EE3-B3E89A9C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F4D8C67D-AE6C-473D-A64F-9FC21DA8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AF42CC74-D8EA-4BD3-AAB1-963CFD23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90DDFEC8-E2F3-419C-BB0D-503233B0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271AD84C-6167-4281-9139-5F465678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A4D0361C-CEBF-4ACC-ABC9-37CB256F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B049C8CB-45E8-40E2-BD6C-652C56E2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C522291C-99E0-48EA-A10F-D73541EC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5135A0-E68C-4E65-9B96-19C65030B0C3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D98ECC4-4EA6-4BCD-8DEB-AC28C7E3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03A4CA21-843C-4D4C-A09E-F1E94E5F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622477EA-2A9C-40B7-A71C-63065EB8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7D94841F-560F-4CFD-9A38-01C2C141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BF50251-F587-4E90-B4E5-EBC8D5F6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ECFF42E-E5E6-4FE6-97DA-D21E6080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DE781238-71AE-45F0-9DD4-9076B457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B52E55B-53B5-4DE9-A0D1-C46E85CE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1DE4B73-D027-4196-80DB-11B1DD19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9284500-B705-47FE-8BDB-1265F5AA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F1BD60-5DF0-4147-8F01-71EC964518BC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8719434-4B96-42D7-9034-2557454A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4BE1642A-B4C7-4E1B-9ADE-DE4D24E2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11FFA44D-0F94-4D0D-8D42-7412B53A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B3AD8651-9624-40FD-AD61-84E481FF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1538D0D7-D1C3-4E14-9593-739CA4DB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E31D31E3-1935-4C0F-BB36-3034A72E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B63D258-7865-4DD6-A0CF-F1D8D2F6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1F572273-5D31-45E2-AC8C-FCEE5F02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165D43A6-9FF2-4D2E-83C3-F575258D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DB40FEA1-167D-41AC-B926-CD8FDE15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89.xml"/><Relationship Id="rId4" Type="http://schemas.openxmlformats.org/officeDocument/2006/relationships/slideLayout" Target="../slideLayouts/slideLayout1190.xml"/><Relationship Id="rId5" Type="http://schemas.openxmlformats.org/officeDocument/2006/relationships/slideLayout" Target="../slideLayouts/slideLayout1191.xml"/><Relationship Id="rId6" Type="http://schemas.openxmlformats.org/officeDocument/2006/relationships/slideLayout" Target="../slideLayouts/slideLayout1192.xml"/><Relationship Id="rId7" Type="http://schemas.openxmlformats.org/officeDocument/2006/relationships/slideLayout" Target="../slideLayouts/slideLayout1193.xml"/><Relationship Id="rId8" Type="http://schemas.openxmlformats.org/officeDocument/2006/relationships/slideLayout" Target="../slideLayouts/slideLayout1194.xml"/><Relationship Id="rId9" Type="http://schemas.openxmlformats.org/officeDocument/2006/relationships/slideLayout" Target="../slideLayouts/slideLayout1195.xml"/><Relationship Id="rId10" Type="http://schemas.openxmlformats.org/officeDocument/2006/relationships/slideLayout" Target="../slideLayouts/slideLayout1196.xml"/><Relationship Id="rId11" Type="http://schemas.openxmlformats.org/officeDocument/2006/relationships/slideLayout" Target="../slideLayouts/slideLayout1197.xml"/><Relationship Id="rId12" Type="http://schemas.openxmlformats.org/officeDocument/2006/relationships/slideLayout" Target="../slideLayouts/slideLayout1198.xml"/><Relationship Id="rId13" Type="http://schemas.openxmlformats.org/officeDocument/2006/relationships/slideLayout" Target="../slideLayouts/slideLayout1199.xml"/><Relationship Id="rId14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01.xml"/><Relationship Id="rId4" Type="http://schemas.openxmlformats.org/officeDocument/2006/relationships/slideLayout" Target="../slideLayouts/slideLayout1202.xml"/><Relationship Id="rId5" Type="http://schemas.openxmlformats.org/officeDocument/2006/relationships/slideLayout" Target="../slideLayouts/slideLayout1203.xml"/><Relationship Id="rId6" Type="http://schemas.openxmlformats.org/officeDocument/2006/relationships/slideLayout" Target="../slideLayouts/slideLayout1204.xml"/><Relationship Id="rId7" Type="http://schemas.openxmlformats.org/officeDocument/2006/relationships/slideLayout" Target="../slideLayouts/slideLayout1205.xml"/><Relationship Id="rId8" Type="http://schemas.openxmlformats.org/officeDocument/2006/relationships/slideLayout" Target="../slideLayouts/slideLayout1206.xml"/><Relationship Id="rId9" Type="http://schemas.openxmlformats.org/officeDocument/2006/relationships/slideLayout" Target="../slideLayouts/slideLayout1207.xml"/><Relationship Id="rId10" Type="http://schemas.openxmlformats.org/officeDocument/2006/relationships/slideLayout" Target="../slideLayouts/slideLayout1208.xml"/><Relationship Id="rId11" Type="http://schemas.openxmlformats.org/officeDocument/2006/relationships/slideLayout" Target="../slideLayouts/slideLayout1209.xml"/><Relationship Id="rId12" Type="http://schemas.openxmlformats.org/officeDocument/2006/relationships/slideLayout" Target="../slideLayouts/slideLayout1210.xml"/><Relationship Id="rId13" Type="http://schemas.openxmlformats.org/officeDocument/2006/relationships/slideLayout" Target="../slideLayouts/slideLayout1211.xml"/><Relationship Id="rId14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3.xml"/><Relationship Id="rId4" Type="http://schemas.openxmlformats.org/officeDocument/2006/relationships/slideLayout" Target="../slideLayouts/slideLayout1214.xml"/><Relationship Id="rId5" Type="http://schemas.openxmlformats.org/officeDocument/2006/relationships/slideLayout" Target="../slideLayouts/slideLayout1215.xml"/><Relationship Id="rId6" Type="http://schemas.openxmlformats.org/officeDocument/2006/relationships/slideLayout" Target="../slideLayouts/slideLayout1216.xml"/><Relationship Id="rId7" Type="http://schemas.openxmlformats.org/officeDocument/2006/relationships/slideLayout" Target="../slideLayouts/slideLayout1217.xml"/><Relationship Id="rId8" Type="http://schemas.openxmlformats.org/officeDocument/2006/relationships/slideLayout" Target="../slideLayouts/slideLayout1218.xml"/><Relationship Id="rId9" Type="http://schemas.openxmlformats.org/officeDocument/2006/relationships/slideLayout" Target="../slideLayouts/slideLayout1219.xml"/><Relationship Id="rId10" Type="http://schemas.openxmlformats.org/officeDocument/2006/relationships/slideLayout" Target="../slideLayouts/slideLayout1220.xml"/><Relationship Id="rId11" Type="http://schemas.openxmlformats.org/officeDocument/2006/relationships/slideLayout" Target="../slideLayouts/slideLayout1221.xml"/><Relationship Id="rId12" Type="http://schemas.openxmlformats.org/officeDocument/2006/relationships/slideLayout" Target="../slideLayouts/slideLayout1222.xml"/><Relationship Id="rId13" Type="http://schemas.openxmlformats.org/officeDocument/2006/relationships/slideLayout" Target="../slideLayouts/slideLayout1223.xml"/><Relationship Id="rId14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25.xml"/><Relationship Id="rId4" Type="http://schemas.openxmlformats.org/officeDocument/2006/relationships/slideLayout" Target="../slideLayouts/slideLayout1226.xml"/><Relationship Id="rId5" Type="http://schemas.openxmlformats.org/officeDocument/2006/relationships/slideLayout" Target="../slideLayouts/slideLayout1227.xml"/><Relationship Id="rId6" Type="http://schemas.openxmlformats.org/officeDocument/2006/relationships/slideLayout" Target="../slideLayouts/slideLayout1228.xml"/><Relationship Id="rId7" Type="http://schemas.openxmlformats.org/officeDocument/2006/relationships/slideLayout" Target="../slideLayouts/slideLayout1229.xml"/><Relationship Id="rId8" Type="http://schemas.openxmlformats.org/officeDocument/2006/relationships/slideLayout" Target="../slideLayouts/slideLayout1230.xml"/><Relationship Id="rId9" Type="http://schemas.openxmlformats.org/officeDocument/2006/relationships/slideLayout" Target="../slideLayouts/slideLayout1231.xml"/><Relationship Id="rId10" Type="http://schemas.openxmlformats.org/officeDocument/2006/relationships/slideLayout" Target="../slideLayouts/slideLayout1232.xml"/><Relationship Id="rId11" Type="http://schemas.openxmlformats.org/officeDocument/2006/relationships/slideLayout" Target="../slideLayouts/slideLayout1233.xml"/><Relationship Id="rId12" Type="http://schemas.openxmlformats.org/officeDocument/2006/relationships/slideLayout" Target="../slideLayouts/slideLayout1234.xml"/><Relationship Id="rId13" Type="http://schemas.openxmlformats.org/officeDocument/2006/relationships/slideLayout" Target="../slideLayouts/slideLayout1235.xml"/><Relationship Id="rId14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37.xml"/><Relationship Id="rId4" Type="http://schemas.openxmlformats.org/officeDocument/2006/relationships/slideLayout" Target="../slideLayouts/slideLayout1238.xml"/><Relationship Id="rId5" Type="http://schemas.openxmlformats.org/officeDocument/2006/relationships/slideLayout" Target="../slideLayouts/slideLayout1239.xml"/><Relationship Id="rId6" Type="http://schemas.openxmlformats.org/officeDocument/2006/relationships/slideLayout" Target="../slideLayouts/slideLayout1240.xml"/><Relationship Id="rId7" Type="http://schemas.openxmlformats.org/officeDocument/2006/relationships/slideLayout" Target="../slideLayouts/slideLayout1241.xml"/><Relationship Id="rId8" Type="http://schemas.openxmlformats.org/officeDocument/2006/relationships/slideLayout" Target="../slideLayouts/slideLayout1242.xml"/><Relationship Id="rId9" Type="http://schemas.openxmlformats.org/officeDocument/2006/relationships/slideLayout" Target="../slideLayouts/slideLayout1243.xml"/><Relationship Id="rId10" Type="http://schemas.openxmlformats.org/officeDocument/2006/relationships/slideLayout" Target="../slideLayouts/slideLayout1244.xml"/><Relationship Id="rId11" Type="http://schemas.openxmlformats.org/officeDocument/2006/relationships/slideLayout" Target="../slideLayouts/slideLayout1245.xml"/><Relationship Id="rId12" Type="http://schemas.openxmlformats.org/officeDocument/2006/relationships/slideLayout" Target="../slideLayouts/slideLayout1246.xml"/><Relationship Id="rId13" Type="http://schemas.openxmlformats.org/officeDocument/2006/relationships/slideLayout" Target="../slideLayouts/slideLayout1247.xml"/><Relationship Id="rId14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49.xml"/><Relationship Id="rId4" Type="http://schemas.openxmlformats.org/officeDocument/2006/relationships/slideLayout" Target="../slideLayouts/slideLayout1250.xml"/><Relationship Id="rId5" Type="http://schemas.openxmlformats.org/officeDocument/2006/relationships/slideLayout" Target="../slideLayouts/slideLayout1251.xml"/><Relationship Id="rId6" Type="http://schemas.openxmlformats.org/officeDocument/2006/relationships/slideLayout" Target="../slideLayouts/slideLayout1252.xml"/><Relationship Id="rId7" Type="http://schemas.openxmlformats.org/officeDocument/2006/relationships/slideLayout" Target="../slideLayouts/slideLayout1253.xml"/><Relationship Id="rId8" Type="http://schemas.openxmlformats.org/officeDocument/2006/relationships/slideLayout" Target="../slideLayouts/slideLayout1254.xml"/><Relationship Id="rId9" Type="http://schemas.openxmlformats.org/officeDocument/2006/relationships/slideLayout" Target="../slideLayouts/slideLayout1255.xml"/><Relationship Id="rId10" Type="http://schemas.openxmlformats.org/officeDocument/2006/relationships/slideLayout" Target="../slideLayouts/slideLayout1256.xml"/><Relationship Id="rId11" Type="http://schemas.openxmlformats.org/officeDocument/2006/relationships/slideLayout" Target="../slideLayouts/slideLayout1257.xml"/><Relationship Id="rId12" Type="http://schemas.openxmlformats.org/officeDocument/2006/relationships/slideLayout" Target="../slideLayouts/slideLayout1258.xml"/><Relationship Id="rId13" Type="http://schemas.openxmlformats.org/officeDocument/2006/relationships/slideLayout" Target="../slideLayouts/slideLayout1259.xml"/><Relationship Id="rId14" Type="http://schemas.openxmlformats.org/officeDocument/2006/relationships/slideLayout" Target="../slideLayouts/slideLayout126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89.xml"/><Relationship Id="rId6" Type="http://schemas.openxmlformats.org/officeDocument/2006/relationships/slideLayout" Target="../slideLayouts/slideLayout590.xml"/><Relationship Id="rId7" Type="http://schemas.openxmlformats.org/officeDocument/2006/relationships/slideLayout" Target="../slideLayouts/slideLayout591.xml"/><Relationship Id="rId8" Type="http://schemas.openxmlformats.org/officeDocument/2006/relationships/slideLayout" Target="../slideLayouts/slideLayout592.xml"/><Relationship Id="rId9" Type="http://schemas.openxmlformats.org/officeDocument/2006/relationships/slideLayout" Target="../slideLayouts/slideLayout593.xml"/><Relationship Id="rId10" Type="http://schemas.openxmlformats.org/officeDocument/2006/relationships/slideLayout" Target="../slideLayouts/slideLayout594.xml"/><Relationship Id="rId11" Type="http://schemas.openxmlformats.org/officeDocument/2006/relationships/slideLayout" Target="../slideLayouts/slideLayout595.xml"/><Relationship Id="rId12" Type="http://schemas.openxmlformats.org/officeDocument/2006/relationships/slideLayout" Target="../slideLayouts/slideLayout596.xml"/><Relationship Id="rId13" Type="http://schemas.openxmlformats.org/officeDocument/2006/relationships/slideLayout" Target="../slideLayouts/slideLayout597.xml"/><Relationship Id="rId14" Type="http://schemas.openxmlformats.org/officeDocument/2006/relationships/slideLayout" Target="../slideLayouts/slideLayout598.xml"/><Relationship Id="rId15" Type="http://schemas.openxmlformats.org/officeDocument/2006/relationships/slideLayout" Target="../slideLayouts/slideLayout599.xml"/><Relationship Id="rId16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17.xml"/><Relationship Id="rId4" Type="http://schemas.openxmlformats.org/officeDocument/2006/relationships/slideLayout" Target="../slideLayouts/slideLayout1118.xml"/><Relationship Id="rId5" Type="http://schemas.openxmlformats.org/officeDocument/2006/relationships/slideLayout" Target="../slideLayouts/slideLayout1119.xml"/><Relationship Id="rId6" Type="http://schemas.openxmlformats.org/officeDocument/2006/relationships/slideLayout" Target="../slideLayouts/slideLayout1120.xml"/><Relationship Id="rId7" Type="http://schemas.openxmlformats.org/officeDocument/2006/relationships/slideLayout" Target="../slideLayouts/slideLayout1121.xml"/><Relationship Id="rId8" Type="http://schemas.openxmlformats.org/officeDocument/2006/relationships/slideLayout" Target="../slideLayouts/slideLayout1122.xml"/><Relationship Id="rId9" Type="http://schemas.openxmlformats.org/officeDocument/2006/relationships/slideLayout" Target="../slideLayouts/slideLayout1123.xml"/><Relationship Id="rId10" Type="http://schemas.openxmlformats.org/officeDocument/2006/relationships/slideLayout" Target="../slideLayouts/slideLayout1124.xml"/><Relationship Id="rId11" Type="http://schemas.openxmlformats.org/officeDocument/2006/relationships/slideLayout" Target="../slideLayouts/slideLayout1125.xml"/><Relationship Id="rId12" Type="http://schemas.openxmlformats.org/officeDocument/2006/relationships/slideLayout" Target="../slideLayouts/slideLayout1126.xml"/><Relationship Id="rId13" Type="http://schemas.openxmlformats.org/officeDocument/2006/relationships/slideLayout" Target="../slideLayouts/slideLayout1127.xml"/><Relationship Id="rId14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29.xml"/><Relationship Id="rId4" Type="http://schemas.openxmlformats.org/officeDocument/2006/relationships/slideLayout" Target="../slideLayouts/slideLayout1130.xml"/><Relationship Id="rId5" Type="http://schemas.openxmlformats.org/officeDocument/2006/relationships/slideLayout" Target="../slideLayouts/slideLayout1131.xml"/><Relationship Id="rId6" Type="http://schemas.openxmlformats.org/officeDocument/2006/relationships/slideLayout" Target="../slideLayouts/slideLayout1132.xml"/><Relationship Id="rId7" Type="http://schemas.openxmlformats.org/officeDocument/2006/relationships/slideLayout" Target="../slideLayouts/slideLayout1133.xml"/><Relationship Id="rId8" Type="http://schemas.openxmlformats.org/officeDocument/2006/relationships/slideLayout" Target="../slideLayouts/slideLayout1134.xml"/><Relationship Id="rId9" Type="http://schemas.openxmlformats.org/officeDocument/2006/relationships/slideLayout" Target="../slideLayouts/slideLayout1135.xml"/><Relationship Id="rId10" Type="http://schemas.openxmlformats.org/officeDocument/2006/relationships/slideLayout" Target="../slideLayouts/slideLayout1136.xml"/><Relationship Id="rId11" Type="http://schemas.openxmlformats.org/officeDocument/2006/relationships/slideLayout" Target="../slideLayouts/slideLayout1137.xml"/><Relationship Id="rId12" Type="http://schemas.openxmlformats.org/officeDocument/2006/relationships/slideLayout" Target="../slideLayouts/slideLayout1138.xml"/><Relationship Id="rId13" Type="http://schemas.openxmlformats.org/officeDocument/2006/relationships/slideLayout" Target="../slideLayouts/slideLayout1139.xml"/><Relationship Id="rId14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41.xml"/><Relationship Id="rId4" Type="http://schemas.openxmlformats.org/officeDocument/2006/relationships/slideLayout" Target="../slideLayouts/slideLayout1142.xml"/><Relationship Id="rId5" Type="http://schemas.openxmlformats.org/officeDocument/2006/relationships/slideLayout" Target="../slideLayouts/slideLayout1143.xml"/><Relationship Id="rId6" Type="http://schemas.openxmlformats.org/officeDocument/2006/relationships/slideLayout" Target="../slideLayouts/slideLayout1144.xml"/><Relationship Id="rId7" Type="http://schemas.openxmlformats.org/officeDocument/2006/relationships/slideLayout" Target="../slideLayouts/slideLayout1145.xml"/><Relationship Id="rId8" Type="http://schemas.openxmlformats.org/officeDocument/2006/relationships/slideLayout" Target="../slideLayouts/slideLayout1146.xml"/><Relationship Id="rId9" Type="http://schemas.openxmlformats.org/officeDocument/2006/relationships/slideLayout" Target="../slideLayouts/slideLayout1147.xml"/><Relationship Id="rId10" Type="http://schemas.openxmlformats.org/officeDocument/2006/relationships/slideLayout" Target="../slideLayouts/slideLayout1148.xml"/><Relationship Id="rId11" Type="http://schemas.openxmlformats.org/officeDocument/2006/relationships/slideLayout" Target="../slideLayouts/slideLayout1149.xml"/><Relationship Id="rId12" Type="http://schemas.openxmlformats.org/officeDocument/2006/relationships/slideLayout" Target="../slideLayouts/slideLayout1150.xml"/><Relationship Id="rId13" Type="http://schemas.openxmlformats.org/officeDocument/2006/relationships/slideLayout" Target="../slideLayouts/slideLayout1151.xml"/><Relationship Id="rId14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53.xml"/><Relationship Id="rId4" Type="http://schemas.openxmlformats.org/officeDocument/2006/relationships/slideLayout" Target="../slideLayouts/slideLayout1154.xml"/><Relationship Id="rId5" Type="http://schemas.openxmlformats.org/officeDocument/2006/relationships/slideLayout" Target="../slideLayouts/slideLayout1155.xml"/><Relationship Id="rId6" Type="http://schemas.openxmlformats.org/officeDocument/2006/relationships/slideLayout" Target="../slideLayouts/slideLayout1156.xml"/><Relationship Id="rId7" Type="http://schemas.openxmlformats.org/officeDocument/2006/relationships/slideLayout" Target="../slideLayouts/slideLayout1157.xml"/><Relationship Id="rId8" Type="http://schemas.openxmlformats.org/officeDocument/2006/relationships/slideLayout" Target="../slideLayouts/slideLayout1158.xml"/><Relationship Id="rId9" Type="http://schemas.openxmlformats.org/officeDocument/2006/relationships/slideLayout" Target="../slideLayouts/slideLayout1159.xml"/><Relationship Id="rId10" Type="http://schemas.openxmlformats.org/officeDocument/2006/relationships/slideLayout" Target="../slideLayouts/slideLayout1160.xml"/><Relationship Id="rId11" Type="http://schemas.openxmlformats.org/officeDocument/2006/relationships/slideLayout" Target="../slideLayouts/slideLayout1161.xml"/><Relationship Id="rId12" Type="http://schemas.openxmlformats.org/officeDocument/2006/relationships/slideLayout" Target="../slideLayouts/slideLayout1162.xml"/><Relationship Id="rId13" Type="http://schemas.openxmlformats.org/officeDocument/2006/relationships/slideLayout" Target="../slideLayouts/slideLayout1163.xml"/><Relationship Id="rId14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65.xml"/><Relationship Id="rId4" Type="http://schemas.openxmlformats.org/officeDocument/2006/relationships/slideLayout" Target="../slideLayouts/slideLayout1166.xml"/><Relationship Id="rId5" Type="http://schemas.openxmlformats.org/officeDocument/2006/relationships/slideLayout" Target="../slideLayouts/slideLayout1167.xml"/><Relationship Id="rId6" Type="http://schemas.openxmlformats.org/officeDocument/2006/relationships/slideLayout" Target="../slideLayouts/slideLayout1168.xml"/><Relationship Id="rId7" Type="http://schemas.openxmlformats.org/officeDocument/2006/relationships/slideLayout" Target="../slideLayouts/slideLayout1169.xml"/><Relationship Id="rId8" Type="http://schemas.openxmlformats.org/officeDocument/2006/relationships/slideLayout" Target="../slideLayouts/slideLayout1170.xml"/><Relationship Id="rId9" Type="http://schemas.openxmlformats.org/officeDocument/2006/relationships/slideLayout" Target="../slideLayouts/slideLayout1171.xml"/><Relationship Id="rId10" Type="http://schemas.openxmlformats.org/officeDocument/2006/relationships/slideLayout" Target="../slideLayouts/slideLayout1172.xml"/><Relationship Id="rId11" Type="http://schemas.openxmlformats.org/officeDocument/2006/relationships/slideLayout" Target="../slideLayouts/slideLayout1173.xml"/><Relationship Id="rId12" Type="http://schemas.openxmlformats.org/officeDocument/2006/relationships/slideLayout" Target="../slideLayouts/slideLayout1174.xml"/><Relationship Id="rId13" Type="http://schemas.openxmlformats.org/officeDocument/2006/relationships/slideLayout" Target="../slideLayouts/slideLayout1175.xml"/><Relationship Id="rId14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77.xml"/><Relationship Id="rId4" Type="http://schemas.openxmlformats.org/officeDocument/2006/relationships/slideLayout" Target="../slideLayouts/slideLayout1178.xml"/><Relationship Id="rId5" Type="http://schemas.openxmlformats.org/officeDocument/2006/relationships/slideLayout" Target="../slideLayouts/slideLayout1179.xml"/><Relationship Id="rId6" Type="http://schemas.openxmlformats.org/officeDocument/2006/relationships/slideLayout" Target="../slideLayouts/slideLayout1180.xml"/><Relationship Id="rId7" Type="http://schemas.openxmlformats.org/officeDocument/2006/relationships/slideLayout" Target="../slideLayouts/slideLayout1181.xml"/><Relationship Id="rId8" Type="http://schemas.openxmlformats.org/officeDocument/2006/relationships/slideLayout" Target="../slideLayouts/slideLayout1182.xml"/><Relationship Id="rId9" Type="http://schemas.openxmlformats.org/officeDocument/2006/relationships/slideLayout" Target="../slideLayouts/slideLayout1183.xml"/><Relationship Id="rId10" Type="http://schemas.openxmlformats.org/officeDocument/2006/relationships/slideLayout" Target="../slideLayouts/slideLayout1184.xml"/><Relationship Id="rId11" Type="http://schemas.openxmlformats.org/officeDocument/2006/relationships/slideLayout" Target="../slideLayouts/slideLayout1185.xml"/><Relationship Id="rId12" Type="http://schemas.openxmlformats.org/officeDocument/2006/relationships/slideLayout" Target="../slideLayouts/slideLayout1186.xml"/><Relationship Id="rId13" Type="http://schemas.openxmlformats.org/officeDocument/2006/relationships/slideLayout" Target="../slideLayouts/slideLayout1187.xml"/><Relationship Id="rId14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813F-B242-484E-A8A8-E0924E33A3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86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88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21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D8CB0-40A3-4D80-AF45-772A43ABDFB9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2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PlaceHolder 3"/>
          <p:cNvSpPr>
            <a:spLocks noGrp="1"/>
          </p:cNvSpPr>
          <p:nvPr>
            <p:ph type="dt" idx="24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9" name="PlaceHolder 4"/>
          <p:cNvSpPr>
            <a:spLocks noGrp="1"/>
          </p:cNvSpPr>
          <p:nvPr>
            <p:ph type="ftr" idx="2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0" name="PlaceHolder 5"/>
          <p:cNvSpPr>
            <a:spLocks noGrp="1"/>
          </p:cNvSpPr>
          <p:nvPr>
            <p:ph type="sldNum" idx="25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5D34-3D0F-467C-ACB9-2EA79F0CC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3"/>
    <p:sldLayoutId id="2147484937" r:id="rId4"/>
    <p:sldLayoutId id="2147484938" r:id="rId5"/>
    <p:sldLayoutId id="2147484939" r:id="rId6"/>
    <p:sldLayoutId id="2147484940" r:id="rId7"/>
    <p:sldLayoutId id="2147484941" r:id="rId8"/>
    <p:sldLayoutId id="2147484942" r:id="rId9"/>
    <p:sldLayoutId id="2147484943" r:id="rId10"/>
    <p:sldLayoutId id="2147484944" r:id="rId11"/>
    <p:sldLayoutId id="2147484945" r:id="rId12"/>
    <p:sldLayoutId id="2147484946" r:id="rId13"/>
    <p:sldLayoutId id="2147484947" r:id="rId14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 type="dt" idx="25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 type="ftr" idx="2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1" name="PlaceHolder 5"/>
          <p:cNvSpPr>
            <a:spLocks noGrp="1"/>
          </p:cNvSpPr>
          <p:nvPr>
            <p:ph type="sldNum" idx="25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7C66-658B-46E4-94C5-7FA67B518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3"/>
    <p:sldLayoutId id="2147484950" r:id="rId4"/>
    <p:sldLayoutId id="2147484951" r:id="rId5"/>
    <p:sldLayoutId id="2147484952" r:id="rId6"/>
    <p:sldLayoutId id="2147484953" r:id="rId7"/>
    <p:sldLayoutId id="2147484954" r:id="rId8"/>
    <p:sldLayoutId id="2147484955" r:id="rId9"/>
    <p:sldLayoutId id="2147484956" r:id="rId10"/>
    <p:sldLayoutId id="2147484957" r:id="rId11"/>
    <p:sldLayoutId id="2147484958" r:id="rId12"/>
    <p:sldLayoutId id="2147484959" r:id="rId13"/>
    <p:sldLayoutId id="2147484960" r:id="rId14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PlaceHolder 3"/>
          <p:cNvSpPr>
            <a:spLocks noGrp="1"/>
          </p:cNvSpPr>
          <p:nvPr>
            <p:ph type="dt" idx="2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81" name="PlaceHolder 4"/>
          <p:cNvSpPr>
            <a:spLocks noGrp="1"/>
          </p:cNvSpPr>
          <p:nvPr>
            <p:ph type="ftr" idx="2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82" name="PlaceHolder 5"/>
          <p:cNvSpPr>
            <a:spLocks noGrp="1"/>
          </p:cNvSpPr>
          <p:nvPr>
            <p:ph type="sldNum" idx="2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D185-2149-4322-9189-E0B71328B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3"/>
    <p:sldLayoutId id="2147484963" r:id="rId4"/>
    <p:sldLayoutId id="2147484964" r:id="rId5"/>
    <p:sldLayoutId id="2147484965" r:id="rId6"/>
    <p:sldLayoutId id="2147484966" r:id="rId7"/>
    <p:sldLayoutId id="2147484967" r:id="rId8"/>
    <p:sldLayoutId id="2147484968" r:id="rId9"/>
    <p:sldLayoutId id="2147484969" r:id="rId10"/>
    <p:sldLayoutId id="2147484970" r:id="rId11"/>
    <p:sldLayoutId id="2147484971" r:id="rId12"/>
    <p:sldLayoutId id="2147484972" r:id="rId13"/>
    <p:sldLayoutId id="2147484973" r:id="rId14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PlaceHolder 3"/>
          <p:cNvSpPr>
            <a:spLocks noGrp="1"/>
          </p:cNvSpPr>
          <p:nvPr>
            <p:ph type="dt" idx="2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2" name="PlaceHolder 4"/>
          <p:cNvSpPr>
            <a:spLocks noGrp="1"/>
          </p:cNvSpPr>
          <p:nvPr>
            <p:ph type="ftr" idx="2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3" name="PlaceHolder 5"/>
          <p:cNvSpPr>
            <a:spLocks noGrp="1"/>
          </p:cNvSpPr>
          <p:nvPr>
            <p:ph type="sldNum" idx="2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CE7E-44C7-4333-86DA-25AB6FD97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3"/>
    <p:sldLayoutId id="2147484976" r:id="rId4"/>
    <p:sldLayoutId id="2147484977" r:id="rId5"/>
    <p:sldLayoutId id="2147484978" r:id="rId6"/>
    <p:sldLayoutId id="2147484979" r:id="rId7"/>
    <p:sldLayoutId id="2147484980" r:id="rId8"/>
    <p:sldLayoutId id="2147484981" r:id="rId9"/>
    <p:sldLayoutId id="2147484982" r:id="rId10"/>
    <p:sldLayoutId id="2147484983" r:id="rId11"/>
    <p:sldLayoutId id="2147484984" r:id="rId12"/>
    <p:sldLayoutId id="2147484985" r:id="rId13"/>
    <p:sldLayoutId id="2147484986" r:id="rId14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PlaceHolder 3"/>
          <p:cNvSpPr>
            <a:spLocks noGrp="1"/>
          </p:cNvSpPr>
          <p:nvPr>
            <p:ph type="dt" idx="26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3" name="PlaceHolder 4"/>
          <p:cNvSpPr>
            <a:spLocks noGrp="1"/>
          </p:cNvSpPr>
          <p:nvPr>
            <p:ph type="ftr" idx="2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4" name="PlaceHolder 5"/>
          <p:cNvSpPr>
            <a:spLocks noGrp="1"/>
          </p:cNvSpPr>
          <p:nvPr>
            <p:ph type="sldNum" idx="26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627D-7212-42E8-8C62-88B03BC73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3"/>
    <p:sldLayoutId id="2147484989" r:id="rId4"/>
    <p:sldLayoutId id="2147484990" r:id="rId5"/>
    <p:sldLayoutId id="2147484991" r:id="rId6"/>
    <p:sldLayoutId id="2147484992" r:id="rId7"/>
    <p:sldLayoutId id="2147484993" r:id="rId8"/>
    <p:sldLayoutId id="2147484994" r:id="rId9"/>
    <p:sldLayoutId id="2147484995" r:id="rId10"/>
    <p:sldLayoutId id="2147484996" r:id="rId11"/>
    <p:sldLayoutId id="2147484997" r:id="rId12"/>
    <p:sldLayoutId id="2147484998" r:id="rId13"/>
    <p:sldLayoutId id="2147484999" r:id="rId14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 type="dt" idx="26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 type="ftr" idx="2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 type="sldNum" idx="26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3CB2-C1AE-4BAC-A4D5-FCB800D9D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3"/>
    <p:sldLayoutId id="2147485002" r:id="rId4"/>
    <p:sldLayoutId id="2147485003" r:id="rId5"/>
    <p:sldLayoutId id="2147485004" r:id="rId6"/>
    <p:sldLayoutId id="2147485005" r:id="rId7"/>
    <p:sldLayoutId id="2147485006" r:id="rId8"/>
    <p:sldLayoutId id="2147485007" r:id="rId9"/>
    <p:sldLayoutId id="2147485008" r:id="rId10"/>
    <p:sldLayoutId id="2147485009" r:id="rId11"/>
    <p:sldLayoutId id="2147485010" r:id="rId12"/>
    <p:sldLayoutId id="2147485011" r:id="rId13"/>
    <p:sldLayoutId id="2147485012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E542-E698-4DFC-AA4F-7DD903B12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22F0-C3D3-43E9-B832-21E25147A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0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E9A7-1F12-45C8-B8E0-B8FD2DDD9E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3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A849-9171-4BE9-967A-DF6FB29E53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22CC-4F5C-423D-92BD-0F773DB7ED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4D7A-838D-4E1E-B86B-20A3C27BF0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9DEA-9DE8-43B3-AC63-0AAB77C831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45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4CBF-A59B-44FC-B624-A0044F8284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48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49EF-5336-464B-A9E5-3D6BA32150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22B3-3A64-48AD-89F9-1A0D523A4A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sldNum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5C05-5D99-4E6B-B0F8-2F6B87C3EB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5EB5-B1E2-4B24-B4E3-C56121EE38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7940-9A98-4F91-BCCD-DE202F9696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944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5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6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6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7899-FD58-4563-9B1C-FDA43A132DD7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9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990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91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92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93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6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6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6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33DC-4131-40BD-BBDA-A8DBD23523C7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9679-7153-4A89-BEE0-714CA198C85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6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6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7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C224-671F-4369-816C-078D28949D9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dt" idx="7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ftr" idx="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sldNum" idx="7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061A-F03B-4021-83BF-CD13FF55458E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dt" idx="7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ftr" idx="7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 type="sldNum" idx="7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F21F-464E-44D8-A730-A909AED69DD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 type="dt" idx="7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 type="ftr" idx="7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 type="sldNum" idx="7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562C-E4D8-4DAB-B8C8-61FD5F595052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85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4044-DDDD-4686-92D7-BA4E428128EF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dt" idx="8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ftr" idx="8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sldNum" idx="8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A3F6-D42D-44D0-ADA8-AD5E7CCB58D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 type="dt" idx="8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 type="ftr" idx="8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 type="sldNum" idx="8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6A13-4BE2-4249-8C27-E5094A0B93C1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8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8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3C32-D225-42F3-AD32-5A933CAB8611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dt" idx="8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ftr" idx="9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sldNum" idx="9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1BFF-B91C-423A-98F0-705B87E1CB0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 type="dt" idx="9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 type="ftr" idx="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 type="sldNum" idx="9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9A45-FF59-449D-AA56-0C9B31510904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 type="dt" idx="9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 type="ftr" idx="9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 type="sldNum" idx="9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4E3A-537A-4B49-B82A-754D3A5C7B88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 type="sldNum" idx="1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5EB7-185B-4360-895F-4A8B00ABA1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1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3CAF-A14C-468F-8494-CD3B7B3C63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dt" idx="1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ftr" idx="1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 type="sldNum" idx="10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0236-EAA5-4683-BC70-009E7E8C96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dt" idx="1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 type="ftr" idx="1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 type="sldNum" idx="10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9366-A40B-4B08-A44C-8C1B7D4C80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3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7353-88EC-4BB5-B8CE-0B409B38CFAA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1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1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1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37EE-4304-4B09-9945-220697D92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 type="dt" idx="1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 type="ftr" idx="1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 type="sldNum" idx="1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0542-4ECD-4547-BE99-9662CB77F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 type="dt" idx="1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 type="ftr" idx="1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 type="sldNum" idx="1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5815-240C-4B77-9CF6-D5CF92E197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 type="dt" idx="1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 type="ftr" idx="1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 type="sldNum" idx="1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647B-4CF9-42F3-A296-40971E0638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 type="dt" idx="1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 type="ftr" idx="1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 type="sldNum" idx="1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A79B-1E7C-48B7-9F88-8B2C589848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0E8B-A70A-4924-A3E9-4D6DB6D2EE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54C9-CFF6-4E1F-82F3-00F8D8A556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32CC-2F84-4FB5-AE75-3FE0C048DD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Shape 13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Shape 17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Shape 20"/>
          <p:cNvSpPr/>
          <p:nvPr/>
        </p:nvSpPr>
        <p:spPr>
          <a:xfrm>
            <a:off x="8064360" y="958680"/>
            <a:ext cx="40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315200" cy="1452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Arc 3"/>
          <p:cNvSpPr/>
          <p:nvPr/>
        </p:nvSpPr>
        <p:spPr>
          <a:xfrm rot="10800000">
            <a:off x="8178480" y="-1266840"/>
            <a:ext cx="3282840" cy="2766960"/>
          </a:xfrm>
          <a:custGeom>
            <a:avLst/>
            <a:gdLst/>
            <a:ahLst/>
            <a:rect l="l" t="t" r="r" b="b"/>
            <a:pathLst>
              <a:path stroke="0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  <a:lnTo>
                  <a:pt x="1641475" y="1383507"/>
                </a:lnTo>
                <a:lnTo>
                  <a:pt x="2309823" y="119873"/>
                </a:lnTo>
                <a:close/>
              </a:path>
              <a:path fill="none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2" name="Arc 4"/>
          <p:cNvSpPr/>
          <p:nvPr/>
        </p:nvSpPr>
        <p:spPr>
          <a:xfrm rot="10800000">
            <a:off x="7499520" y="-1842840"/>
            <a:ext cx="4867200" cy="3598920"/>
          </a:xfrm>
          <a:custGeom>
            <a:avLst/>
            <a:gdLst/>
            <a:ahLst/>
            <a:rect l="l" t="t" r="r" b="b"/>
            <a:pathLst>
              <a:path stroke="0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  <a:lnTo>
                  <a:pt x="2433638" y="1799432"/>
                </a:lnTo>
                <a:lnTo>
                  <a:pt x="3206071" y="93045"/>
                </a:lnTo>
                <a:close/>
              </a:path>
              <a:path fill="none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</a:path>
            </a:pathLst>
          </a:custGeom>
          <a:noFill/>
          <a:ln w="6048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3" name="Arc 5"/>
          <p:cNvSpPr/>
          <p:nvPr/>
        </p:nvSpPr>
        <p:spPr>
          <a:xfrm rot="10800000">
            <a:off x="7304040" y="-1904760"/>
            <a:ext cx="4867200" cy="3760920"/>
          </a:xfrm>
          <a:custGeom>
            <a:avLst/>
            <a:gdLst/>
            <a:ahLst/>
            <a:rect l="l" t="t" r="r" b="b"/>
            <a:pathLst>
              <a:path stroke="0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  <a:lnTo>
                  <a:pt x="2433638" y="1880394"/>
                </a:lnTo>
                <a:lnTo>
                  <a:pt x="3011833" y="53842"/>
                </a:lnTo>
                <a:close/>
              </a:path>
              <a:path fill="none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4" name="Straight Connector 6"/>
          <p:cNvSpPr/>
          <p:nvPr/>
        </p:nvSpPr>
        <p:spPr>
          <a:xfrm flipV="1">
            <a:off x="457200" y="3122640"/>
            <a:ext cx="8229600" cy="9360"/>
          </a:xfrm>
          <a:prstGeom prst="line">
            <a:avLst/>
          </a:prstGeom>
          <a:ln w="50760">
            <a:solidFill>
              <a:srgbClr val="0096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5" name="Arc 7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6" name="Arc 8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7" name="Arc 9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50760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48" name="Picture 10" descr="SMARTER_logo_big.png"/>
          <p:cNvPicPr/>
          <p:nvPr/>
        </p:nvPicPr>
        <p:blipFill>
          <a:blip r:embed="rId3"/>
          <a:stretch/>
        </p:blipFill>
        <p:spPr>
          <a:xfrm>
            <a:off x="581040" y="358920"/>
            <a:ext cx="7981920" cy="2423880"/>
          </a:xfrm>
          <a:prstGeom prst="rect">
            <a:avLst/>
          </a:prstGeom>
          <a:ln w="0">
            <a:noFill/>
          </a:ln>
        </p:spPr>
      </p:pic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D48A-150C-4D9D-A1C1-E42C804942BA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Arc 3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009644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8" name="Arc 4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009644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9" name="Arc 5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28440">
            <a:solidFill>
              <a:srgbClr val="009644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90" name="Rectangle 6"/>
          <p:cNvGrpSpPr/>
          <p:nvPr/>
        </p:nvGrpSpPr>
        <p:grpSpPr>
          <a:xfrm>
            <a:off x="0" y="0"/>
            <a:ext cx="9144000" cy="1170000"/>
            <a:chOff x="0" y="0"/>
            <a:chExt cx="9144000" cy="1170000"/>
          </a:xfrm>
        </p:grpSpPr>
        <p:pic>
          <p:nvPicPr>
            <p:cNvPr id="209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2" name=""/>
            <p:cNvSpPr/>
            <p:nvPr/>
          </p:nvSpPr>
          <p:spPr>
            <a:xfrm>
              <a:off x="0" y="0"/>
              <a:ext cx="914400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93" name="Footer Placeholder 4"/>
          <p:cNvSpPr/>
          <p:nvPr/>
        </p:nvSpPr>
        <p:spPr>
          <a:xfrm>
            <a:off x="5059440" y="635328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4" name="Slide Number Placeholder 5"/>
          <p:cNvSpPr/>
          <p:nvPr/>
        </p:nvSpPr>
        <p:spPr>
          <a:xfrm>
            <a:off x="4227480" y="6519960"/>
            <a:ext cx="689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0A75-13D3-4AE4-A86D-3DC0A05F2179}" type="slidenum">
              <a:rPr b="0" lang="en-US" sz="1100" spc="-1" strike="noStrike">
                <a:solidFill>
                  <a:srgbClr val="1f497d"/>
                </a:solidFill>
                <a:latin typeface="Arial"/>
                <a:ea typeface="MS PGothic"/>
              </a:rPr>
              <a:t>&lt;number&gt;</a:t>
            </a:fld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5" name="Arc 9"/>
          <p:cNvSpPr/>
          <p:nvPr/>
        </p:nvSpPr>
        <p:spPr>
          <a:xfrm rot="10800000">
            <a:off x="8076960" y="-1276200"/>
            <a:ext cx="3028680" cy="2552400"/>
          </a:xfrm>
          <a:custGeom>
            <a:avLst/>
            <a:gdLst/>
            <a:ahLst/>
            <a:rect l="l" t="t" r="r" b="b"/>
            <a:pathLst>
              <a:path stroke="0" w="3028950" h="2552700">
                <a:moveTo>
                  <a:pt x="2131066" y="110571"/>
                </a:moveTo>
                <a:cubicBezTo>
                  <a:pt x="2683949" y="318268"/>
                  <a:pt x="3036979" y="783471"/>
                  <a:pt x="3028812" y="1293570"/>
                </a:cubicBezTo>
                <a:lnTo>
                  <a:pt x="1514475" y="1276350"/>
                </a:lnTo>
                <a:lnTo>
                  <a:pt x="2131066" y="110571"/>
                </a:lnTo>
                <a:close/>
              </a:path>
              <a:path fill="none" w="3028950" h="2552700">
                <a:moveTo>
                  <a:pt x="2131066" y="110571"/>
                </a:moveTo>
                <a:cubicBezTo>
                  <a:pt x="2683949" y="318268"/>
                  <a:pt x="3036979" y="783471"/>
                  <a:pt x="3028812" y="1293570"/>
                </a:cubicBezTo>
              </a:path>
            </a:pathLst>
          </a:custGeom>
          <a:noFill/>
          <a:ln w="28440">
            <a:solidFill>
              <a:srgbClr val="ffffff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6" name="Arc 10"/>
          <p:cNvSpPr/>
          <p:nvPr/>
        </p:nvSpPr>
        <p:spPr>
          <a:xfrm rot="10800000">
            <a:off x="7519680" y="-1852200"/>
            <a:ext cx="4489560" cy="3321000"/>
          </a:xfrm>
          <a:custGeom>
            <a:avLst/>
            <a:gdLst/>
            <a:ahLst/>
            <a:rect l="l" t="t" r="r" b="b"/>
            <a:pathLst>
              <a:path stroke="0" w="4489450" h="3321051">
                <a:moveTo>
                  <a:pt x="3519206" y="293599"/>
                </a:moveTo>
                <a:cubicBezTo>
                  <a:pt x="4059111" y="569067"/>
                  <a:pt x="4409147" y="1005431"/>
                  <a:pt x="4477298" y="1487982"/>
                </a:cubicBezTo>
                <a:lnTo>
                  <a:pt x="2244725" y="1660526"/>
                </a:lnTo>
                <a:lnTo>
                  <a:pt x="3519206" y="293599"/>
                </a:lnTo>
                <a:close/>
              </a:path>
              <a:path fill="none" w="4489450" h="3321051">
                <a:moveTo>
                  <a:pt x="3519206" y="293599"/>
                </a:moveTo>
                <a:cubicBezTo>
                  <a:pt x="4059111" y="569067"/>
                  <a:pt x="4409147" y="1005431"/>
                  <a:pt x="4477298" y="1487982"/>
                </a:cubicBezTo>
              </a:path>
            </a:pathLst>
          </a:custGeom>
          <a:noFill/>
          <a:ln w="60480">
            <a:solidFill>
              <a:srgbClr val="ffffff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7" name="Arc 11"/>
          <p:cNvSpPr/>
          <p:nvPr/>
        </p:nvSpPr>
        <p:spPr>
          <a:xfrm rot="10800000">
            <a:off x="7324200" y="-1914480"/>
            <a:ext cx="4489560" cy="3470400"/>
          </a:xfrm>
          <a:custGeom>
            <a:avLst/>
            <a:gdLst/>
            <a:ahLst/>
            <a:rect l="l" t="t" r="r" b="b"/>
            <a:pathLst>
              <a:path stroke="0" w="4489450" h="3470275">
                <a:moveTo>
                  <a:pt x="3606558" y="355799"/>
                </a:moveTo>
                <a:cubicBezTo>
                  <a:pt x="4107389" y="651250"/>
                  <a:pt x="4424541" y="1095792"/>
                  <a:pt x="4480559" y="1580859"/>
                </a:cubicBezTo>
                <a:lnTo>
                  <a:pt x="2244725" y="1735138"/>
                </a:lnTo>
                <a:lnTo>
                  <a:pt x="3606558" y="355799"/>
                </a:lnTo>
                <a:close/>
              </a:path>
              <a:path fill="none" w="4489450" h="3470275">
                <a:moveTo>
                  <a:pt x="3606558" y="355799"/>
                </a:moveTo>
                <a:cubicBezTo>
                  <a:pt x="4107389" y="651250"/>
                  <a:pt x="4424541" y="1095792"/>
                  <a:pt x="4480559" y="1580859"/>
                </a:cubicBezTo>
              </a:path>
            </a:pathLst>
          </a:custGeom>
          <a:noFill/>
          <a:ln w="28440">
            <a:solidFill>
              <a:srgbClr val="ffffff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98" name="Picture 12" descr="SMARTER_logo_250.png"/>
          <p:cNvPicPr/>
          <p:nvPr/>
        </p:nvPicPr>
        <p:blipFill>
          <a:blip r:embed="rId4"/>
          <a:stretch/>
        </p:blipFill>
        <p:spPr>
          <a:xfrm>
            <a:off x="7342200" y="6183360"/>
            <a:ext cx="1427040" cy="433440"/>
          </a:xfrm>
          <a:prstGeom prst="rect">
            <a:avLst/>
          </a:prstGeom>
          <a:ln w="0">
            <a:noFill/>
          </a:ln>
        </p:spPr>
      </p:pic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5"/>
    <p:sldLayoutId id="2147484287" r:id="rId6"/>
    <p:sldLayoutId id="2147484288" r:id="rId7"/>
    <p:sldLayoutId id="2147484289" r:id="rId8"/>
    <p:sldLayoutId id="2147484290" r:id="rId9"/>
    <p:sldLayoutId id="2147484291" r:id="rId10"/>
    <p:sldLayoutId id="2147484292" r:id="rId11"/>
    <p:sldLayoutId id="2147484293" r:id="rId12"/>
    <p:sldLayoutId id="2147484294" r:id="rId13"/>
    <p:sldLayoutId id="2147484295" r:id="rId14"/>
    <p:sldLayoutId id="2147484296" r:id="rId15"/>
    <p:sldLayoutId id="2147484297" r:id="rId16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Arc 3"/>
          <p:cNvSpPr/>
          <p:nvPr/>
        </p:nvSpPr>
        <p:spPr>
          <a:xfrm rot="10800000">
            <a:off x="8178480" y="-1266840"/>
            <a:ext cx="3282840" cy="2766960"/>
          </a:xfrm>
          <a:custGeom>
            <a:avLst/>
            <a:gdLst/>
            <a:ahLst/>
            <a:rect l="l" t="t" r="r" b="b"/>
            <a:pathLst>
              <a:path stroke="0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  <a:lnTo>
                  <a:pt x="1641475" y="1383507"/>
                </a:lnTo>
                <a:lnTo>
                  <a:pt x="2309823" y="119873"/>
                </a:lnTo>
                <a:close/>
              </a:path>
              <a:path fill="none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8" name="Arc 4"/>
          <p:cNvSpPr/>
          <p:nvPr/>
        </p:nvSpPr>
        <p:spPr>
          <a:xfrm rot="10800000">
            <a:off x="7499520" y="-1842840"/>
            <a:ext cx="4867200" cy="3598920"/>
          </a:xfrm>
          <a:custGeom>
            <a:avLst/>
            <a:gdLst/>
            <a:ahLst/>
            <a:rect l="l" t="t" r="r" b="b"/>
            <a:pathLst>
              <a:path stroke="0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  <a:lnTo>
                  <a:pt x="2433638" y="1799432"/>
                </a:lnTo>
                <a:lnTo>
                  <a:pt x="3206071" y="93045"/>
                </a:lnTo>
                <a:close/>
              </a:path>
              <a:path fill="none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</a:path>
            </a:pathLst>
          </a:custGeom>
          <a:noFill/>
          <a:ln w="6048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9" name="Arc 5"/>
          <p:cNvSpPr/>
          <p:nvPr/>
        </p:nvSpPr>
        <p:spPr>
          <a:xfrm rot="10800000">
            <a:off x="7304040" y="-1904760"/>
            <a:ext cx="4867200" cy="3760920"/>
          </a:xfrm>
          <a:custGeom>
            <a:avLst/>
            <a:gdLst/>
            <a:ahLst/>
            <a:rect l="l" t="t" r="r" b="b"/>
            <a:pathLst>
              <a:path stroke="0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  <a:lnTo>
                  <a:pt x="2433638" y="1880394"/>
                </a:lnTo>
                <a:lnTo>
                  <a:pt x="3011833" y="53842"/>
                </a:lnTo>
                <a:close/>
              </a:path>
              <a:path fill="none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0" name="Arc 6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1" name="Arc 7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2" name="Arc 8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5076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143" name="Picture 11" descr="SMARTER_logo_250.png"/>
          <p:cNvPicPr/>
          <p:nvPr/>
        </p:nvPicPr>
        <p:blipFill>
          <a:blip r:embed="rId3"/>
          <a:stretch/>
        </p:blipFill>
        <p:spPr>
          <a:xfrm>
            <a:off x="7342200" y="6183360"/>
            <a:ext cx="1427040" cy="433440"/>
          </a:xfrm>
          <a:prstGeom prst="rect">
            <a:avLst/>
          </a:prstGeom>
          <a:ln w="0">
            <a:noFill/>
          </a:ln>
        </p:spPr>
      </p:pic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2" name="Picture 3" descr="SBAC_logo_HEADER_11.18.2010.tif"/>
          <p:cNvPicPr/>
          <p:nvPr/>
        </p:nvPicPr>
        <p:blipFill>
          <a:blip r:embed="rId2"/>
          <a:stretch/>
        </p:blipFill>
        <p:spPr>
          <a:xfrm>
            <a:off x="7385040" y="6199200"/>
            <a:ext cx="1560600" cy="476280"/>
          </a:xfrm>
          <a:prstGeom prst="rect">
            <a:avLst/>
          </a:prstGeom>
          <a:ln w="0">
            <a:noFill/>
          </a:ln>
        </p:spPr>
      </p:pic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Arc 3"/>
          <p:cNvSpPr/>
          <p:nvPr/>
        </p:nvSpPr>
        <p:spPr>
          <a:xfrm rot="10800000">
            <a:off x="8178480" y="-1266840"/>
            <a:ext cx="3282840" cy="2766960"/>
          </a:xfrm>
          <a:custGeom>
            <a:avLst/>
            <a:gdLst/>
            <a:ahLst/>
            <a:rect l="l" t="t" r="r" b="b"/>
            <a:pathLst>
              <a:path stroke="0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  <a:lnTo>
                  <a:pt x="1641475" y="1383507"/>
                </a:lnTo>
                <a:lnTo>
                  <a:pt x="2309823" y="119873"/>
                </a:lnTo>
                <a:close/>
              </a:path>
              <a:path fill="none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2" name="Arc 4"/>
          <p:cNvSpPr/>
          <p:nvPr/>
        </p:nvSpPr>
        <p:spPr>
          <a:xfrm rot="10800000">
            <a:off x="7499520" y="-1842840"/>
            <a:ext cx="4867200" cy="3598920"/>
          </a:xfrm>
          <a:custGeom>
            <a:avLst/>
            <a:gdLst/>
            <a:ahLst/>
            <a:rect l="l" t="t" r="r" b="b"/>
            <a:pathLst>
              <a:path stroke="0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  <a:lnTo>
                  <a:pt x="2433638" y="1799432"/>
                </a:lnTo>
                <a:lnTo>
                  <a:pt x="3206071" y="93045"/>
                </a:lnTo>
                <a:close/>
              </a:path>
              <a:path fill="none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</a:path>
            </a:pathLst>
          </a:custGeom>
          <a:noFill/>
          <a:ln w="6048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3" name="Arc 5"/>
          <p:cNvSpPr/>
          <p:nvPr/>
        </p:nvSpPr>
        <p:spPr>
          <a:xfrm rot="10800000">
            <a:off x="7304040" y="-1904760"/>
            <a:ext cx="4867200" cy="3760920"/>
          </a:xfrm>
          <a:custGeom>
            <a:avLst/>
            <a:gdLst/>
            <a:ahLst/>
            <a:rect l="l" t="t" r="r" b="b"/>
            <a:pathLst>
              <a:path stroke="0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  <a:lnTo>
                  <a:pt x="2433638" y="1880394"/>
                </a:lnTo>
                <a:lnTo>
                  <a:pt x="3011833" y="53842"/>
                </a:lnTo>
                <a:close/>
              </a:path>
              <a:path fill="none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4" name="Arc 6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5" name="Arc 7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6" name="Arc 8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5076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27" name="Picture 11" descr="SMARTER_logo_250.png"/>
          <p:cNvPicPr/>
          <p:nvPr/>
        </p:nvPicPr>
        <p:blipFill>
          <a:blip r:embed="rId3"/>
          <a:stretch/>
        </p:blipFill>
        <p:spPr>
          <a:xfrm>
            <a:off x="7342200" y="6183360"/>
            <a:ext cx="1427040" cy="4334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67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268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269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270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1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72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27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 type="sldNum" idx="13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3259-3CCB-4D00-B282-E636C2E50765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 type="ftr" idx="13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314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315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316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317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8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319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32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 type="sldNum" idx="13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E537-D933-40C4-BE44-936B5F9CA9A9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 type="ftr" idx="13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361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362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363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364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5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366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36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 type="sldNum" idx="13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5D2F-ADD3-4994-A85C-9760B9FDFD43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 type="ftr" idx="13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40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40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1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41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1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41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 type="sldNum" idx="14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0F4A-2138-436A-BC73-7CD56E3D91BA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 type="ftr" idx="14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455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456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57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458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9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60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4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 type="sldNum" idx="14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0D9B-5F2B-4192-BA84-D76FF36A0D83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 type="ftr" idx="14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2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03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504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505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6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07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0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 type="sldNum" idx="14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CAC0-126D-4511-AE73-42D5DF960B86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 type="ftr" idx="14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2AE5-EF45-4004-A719-0F149C5299E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49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50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551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552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3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4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 type="sldNum" idx="14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BDAB-5BF7-4463-841A-C401D99F73A2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 type="ftr" idx="14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96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97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598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599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0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01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60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 type="sldNum" idx="14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F727-D11B-4C13-A046-6E226E5B03BD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PlaceHolder 4"/>
          <p:cNvSpPr>
            <a:spLocks noGrp="1"/>
          </p:cNvSpPr>
          <p:nvPr>
            <p:ph type="ftr" idx="14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43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644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45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646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7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8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6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 type="sldNum" idx="15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D5D6-4FE5-4DFC-AA92-9A1BF742554A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 type="ftr" idx="15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90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691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92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693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95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69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 type="sldNum" idx="15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D9B0-235A-4F35-9C96-D3FBD671B6B6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4"/>
          <p:cNvSpPr>
            <a:spLocks noGrp="1"/>
          </p:cNvSpPr>
          <p:nvPr>
            <p:ph type="ftr" idx="15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737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738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739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740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1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2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74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 type="sldNum" idx="15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6AB1-95AE-4356-AEDA-2AAB7F9085E8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 type="ftr" idx="15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784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785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786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787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8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9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79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 type="sldNum" idx="15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5002-1442-4F7E-9FEC-50A796C03D4C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 type="ftr" idx="15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831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832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833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834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5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6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83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 type="sldNum" idx="15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1595-45AD-4292-9C81-0711EF68DA88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4"/>
          <p:cNvSpPr>
            <a:spLocks noGrp="1"/>
          </p:cNvSpPr>
          <p:nvPr>
            <p:ph type="ftr" idx="15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87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87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88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88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8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 type="sldNum" idx="16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836C-549A-4DE0-9644-095C66300684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 type="ftr" idx="16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925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926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927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928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9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0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9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 type="sldNum" idx="16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5F46-3812-4FC3-8774-2A711D2AB525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 type="ftr" idx="16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972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973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974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975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6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7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97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 type="sldNum" idx="16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79BE-3538-4DA6-81AA-2AB85886F943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 type="ftr" idx="16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hape 13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315200" cy="1452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019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020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021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022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3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4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0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PlaceHolder 3"/>
          <p:cNvSpPr>
            <a:spLocks noGrp="1"/>
          </p:cNvSpPr>
          <p:nvPr>
            <p:ph type="sldNum" idx="16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379A-3D9B-46BD-BD51-96FC43E0B240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PlaceHolder 4"/>
          <p:cNvSpPr>
            <a:spLocks noGrp="1"/>
          </p:cNvSpPr>
          <p:nvPr>
            <p:ph type="ftr" idx="16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066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067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068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069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0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1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07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 type="sldNum" idx="16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1353-FFA1-4B37-98E4-C894285F3DBD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 type="ftr" idx="16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113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114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115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116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7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8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11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3"/>
          <p:cNvSpPr>
            <a:spLocks noGrp="1"/>
          </p:cNvSpPr>
          <p:nvPr>
            <p:ph type="sldNum" idx="17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FACD-368A-435E-A0CF-FF9E0EDD5BED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PlaceHolder 4"/>
          <p:cNvSpPr>
            <a:spLocks noGrp="1"/>
          </p:cNvSpPr>
          <p:nvPr>
            <p:ph type="ftr" idx="17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160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161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162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163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4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5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1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 type="sldNum" idx="17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3E5D-CFE5-48E1-8CAC-BF2C23CC4694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 type="ftr" idx="17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207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208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209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210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1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2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2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 type="sldNum" idx="17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08BA-915E-4096-8DDC-F15E989163E7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 type="ftr" idx="17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254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255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256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257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8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9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2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 type="sldNum" idx="17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7142-4A55-427B-A5FC-E0B39E9B218B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 type="ftr" idx="17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01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302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303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304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5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6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30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30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PlaceHolder 3"/>
          <p:cNvSpPr>
            <a:spLocks noGrp="1"/>
          </p:cNvSpPr>
          <p:nvPr>
            <p:ph type="sldNum" idx="17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BE02-71B4-4FEA-9BBA-BCFE60E65109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PlaceHolder 4"/>
          <p:cNvSpPr>
            <a:spLocks noGrp="1"/>
          </p:cNvSpPr>
          <p:nvPr>
            <p:ph type="ftr" idx="17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4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34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35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35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3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Num" idx="18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E750-1470-4B8D-B4C0-D10DFD9D1856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ftr" idx="18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 type="dt" idx="1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 type="ftr" idx="1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8" name="PlaceHolder 5"/>
          <p:cNvSpPr>
            <a:spLocks noGrp="1"/>
          </p:cNvSpPr>
          <p:nvPr>
            <p:ph type="sldNum" idx="1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5EAA-FF8B-4516-892E-11EFE5A5D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PlaceHolder 3"/>
          <p:cNvSpPr>
            <a:spLocks noGrp="1"/>
          </p:cNvSpPr>
          <p:nvPr>
            <p:ph type="dt" idx="1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8" name="PlaceHolder 4"/>
          <p:cNvSpPr>
            <a:spLocks noGrp="1"/>
          </p:cNvSpPr>
          <p:nvPr>
            <p:ph type="ftr" idx="1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9" name="PlaceHolder 5"/>
          <p:cNvSpPr>
            <a:spLocks noGrp="1"/>
          </p:cNvSpPr>
          <p:nvPr>
            <p:ph type="sldNum" idx="1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09A3-A2D3-4D4A-94D1-7D3F372F8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 type="dt" idx="1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 type="ftr" idx="1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0" name="PlaceHolder 5"/>
          <p:cNvSpPr>
            <a:spLocks noGrp="1"/>
          </p:cNvSpPr>
          <p:nvPr>
            <p:ph type="sldNum" idx="1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D978-C9BC-41A1-A354-D1FE1152A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 type="dt" idx="1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 type="ftr" idx="1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1" name="PlaceHolder 5"/>
          <p:cNvSpPr>
            <a:spLocks noGrp="1"/>
          </p:cNvSpPr>
          <p:nvPr>
            <p:ph type="sldNum" idx="1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6859-203A-43BB-9E34-DF8990E41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PlaceHolder 3"/>
          <p:cNvSpPr>
            <a:spLocks noGrp="1"/>
          </p:cNvSpPr>
          <p:nvPr>
            <p:ph type="dt" idx="1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1" name="PlaceHolder 4"/>
          <p:cNvSpPr>
            <a:spLocks noGrp="1"/>
          </p:cNvSpPr>
          <p:nvPr>
            <p:ph type="ftr" idx="1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2" name="PlaceHolder 5"/>
          <p:cNvSpPr>
            <a:spLocks noGrp="1"/>
          </p:cNvSpPr>
          <p:nvPr>
            <p:ph type="sldNum" idx="1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EF3C-D880-4532-8334-252C23879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 type="dt" idx="1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 type="ftr" idx="1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3" name="PlaceHolder 5"/>
          <p:cNvSpPr>
            <a:spLocks noGrp="1"/>
          </p:cNvSpPr>
          <p:nvPr>
            <p:ph type="sldNum" idx="1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26D7-8822-4BB0-A737-2DA42157C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 type="dt" idx="2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 type="ftr" idx="2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44" name="PlaceHolder 5"/>
          <p:cNvSpPr>
            <a:spLocks noGrp="1"/>
          </p:cNvSpPr>
          <p:nvPr>
            <p:ph type="sldNum" idx="2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4AE4-1D3F-40C5-B65D-A852C4EBD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dt" idx="2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84" name="PlaceHolder 4"/>
          <p:cNvSpPr>
            <a:spLocks noGrp="1"/>
          </p:cNvSpPr>
          <p:nvPr>
            <p:ph type="ftr" idx="2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85" name="PlaceHolder 5"/>
          <p:cNvSpPr>
            <a:spLocks noGrp="1"/>
          </p:cNvSpPr>
          <p:nvPr>
            <p:ph type="sldNum" idx="2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6B12-31AF-46EA-A61C-3341E71F6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PlaceHolder 3"/>
          <p:cNvSpPr>
            <a:spLocks noGrp="1"/>
          </p:cNvSpPr>
          <p:nvPr>
            <p:ph type="dt" idx="2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5" name="PlaceHolder 4"/>
          <p:cNvSpPr>
            <a:spLocks noGrp="1"/>
          </p:cNvSpPr>
          <p:nvPr>
            <p:ph type="ftr" idx="2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6" name="PlaceHolder 5"/>
          <p:cNvSpPr>
            <a:spLocks noGrp="1"/>
          </p:cNvSpPr>
          <p:nvPr>
            <p:ph type="sldNum" idx="2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DA7E-818F-4036-AD33-049ED9256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PlaceHolder 3"/>
          <p:cNvSpPr>
            <a:spLocks noGrp="1"/>
          </p:cNvSpPr>
          <p:nvPr>
            <p:ph type="dt" idx="2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6" name="PlaceHolder 4"/>
          <p:cNvSpPr>
            <a:spLocks noGrp="1"/>
          </p:cNvSpPr>
          <p:nvPr>
            <p:ph type="ftr" idx="2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7" name="PlaceHolder 5"/>
          <p:cNvSpPr>
            <a:spLocks noGrp="1"/>
          </p:cNvSpPr>
          <p:nvPr>
            <p:ph type="sldNum" idx="2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02D0-2ECD-477D-84CB-9210306AC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PlaceHolder 3"/>
          <p:cNvSpPr>
            <a:spLocks noGrp="1"/>
          </p:cNvSpPr>
          <p:nvPr>
            <p:ph type="dt" idx="2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7" name="PlaceHolder 4"/>
          <p:cNvSpPr>
            <a:spLocks noGrp="1"/>
          </p:cNvSpPr>
          <p:nvPr>
            <p:ph type="ftr" idx="2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8" name="PlaceHolder 5"/>
          <p:cNvSpPr>
            <a:spLocks noGrp="1"/>
          </p:cNvSpPr>
          <p:nvPr>
            <p:ph type="sldNum" idx="2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443C-6A17-471E-B013-D58A1511A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 type="dt" idx="2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 type="ftr" idx="2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9" name="PlaceHolder 5"/>
          <p:cNvSpPr>
            <a:spLocks noGrp="1"/>
          </p:cNvSpPr>
          <p:nvPr>
            <p:ph type="sldNum" idx="2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8D1B-388B-4C69-B28C-1E7773437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3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4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4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19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71EB0-AAD5-44C9-B926-1C56849B6FDA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0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PlaceHolder 3"/>
          <p:cNvSpPr>
            <a:spLocks noGrp="1"/>
          </p:cNvSpPr>
          <p:nvPr>
            <p:ph type="dt" idx="2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9" name="PlaceHolder 4"/>
          <p:cNvSpPr>
            <a:spLocks noGrp="1"/>
          </p:cNvSpPr>
          <p:nvPr>
            <p:ph type="ftr" idx="2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90" name="PlaceHolder 5"/>
          <p:cNvSpPr>
            <a:spLocks noGrp="1"/>
          </p:cNvSpPr>
          <p:nvPr>
            <p:ph type="sldNum" idx="2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AFD9-48EE-4BD5-8549-ABF1E7913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dt" idx="2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 type="ftr" idx="2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31" name="PlaceHolder 5"/>
          <p:cNvSpPr>
            <a:spLocks noGrp="1"/>
          </p:cNvSpPr>
          <p:nvPr>
            <p:ph type="sldNum" idx="2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E0F3-6AE1-4410-9F5B-3D73F0270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PlaceHolder 3"/>
          <p:cNvSpPr>
            <a:spLocks noGrp="1"/>
          </p:cNvSpPr>
          <p:nvPr>
            <p:ph type="dt" idx="2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1" name="PlaceHolder 4"/>
          <p:cNvSpPr>
            <a:spLocks noGrp="1"/>
          </p:cNvSpPr>
          <p:nvPr>
            <p:ph type="ftr" idx="2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2" name="PlaceHolder 5"/>
          <p:cNvSpPr>
            <a:spLocks noGrp="1"/>
          </p:cNvSpPr>
          <p:nvPr>
            <p:ph type="sldNum" idx="2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C3CD-7A9C-43E9-8822-20F53A189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PlaceHolder 3"/>
          <p:cNvSpPr>
            <a:spLocks noGrp="1"/>
          </p:cNvSpPr>
          <p:nvPr>
            <p:ph type="dt" idx="2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2" name="PlaceHolder 4"/>
          <p:cNvSpPr>
            <a:spLocks noGrp="1"/>
          </p:cNvSpPr>
          <p:nvPr>
            <p:ph type="ftr" idx="2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3" name="PlaceHolder 5"/>
          <p:cNvSpPr>
            <a:spLocks noGrp="1"/>
          </p:cNvSpPr>
          <p:nvPr>
            <p:ph type="sldNum" idx="2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6AF1-120F-49E5-A2DD-179FF5D35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PlaceHolder 3"/>
          <p:cNvSpPr>
            <a:spLocks noGrp="1"/>
          </p:cNvSpPr>
          <p:nvPr>
            <p:ph type="dt" idx="2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53" name="PlaceHolder 4"/>
          <p:cNvSpPr>
            <a:spLocks noGrp="1"/>
          </p:cNvSpPr>
          <p:nvPr>
            <p:ph type="ftr" idx="2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54" name="PlaceHolder 5"/>
          <p:cNvSpPr>
            <a:spLocks noGrp="1"/>
          </p:cNvSpPr>
          <p:nvPr>
            <p:ph type="sldNum" idx="23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91F6-69EC-49F8-A61B-0652650A6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3"/>
    <p:sldLayoutId id="2147484859" r:id="rId4"/>
    <p:sldLayoutId id="2147484860" r:id="rId5"/>
    <p:sldLayoutId id="2147484861" r:id="rId6"/>
    <p:sldLayoutId id="2147484862" r:id="rId7"/>
    <p:sldLayoutId id="2147484863" r:id="rId8"/>
    <p:sldLayoutId id="2147484864" r:id="rId9"/>
    <p:sldLayoutId id="2147484865" r:id="rId10"/>
    <p:sldLayoutId id="2147484866" r:id="rId11"/>
    <p:sldLayoutId id="2147484867" r:id="rId12"/>
    <p:sldLayoutId id="2147484868" r:id="rId13"/>
    <p:sldLayoutId id="2147484869" r:id="rId14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PlaceHolder 3"/>
          <p:cNvSpPr>
            <a:spLocks noGrp="1"/>
          </p:cNvSpPr>
          <p:nvPr>
            <p:ph type="dt" idx="23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4" name="PlaceHolder 4"/>
          <p:cNvSpPr>
            <a:spLocks noGrp="1"/>
          </p:cNvSpPr>
          <p:nvPr>
            <p:ph type="ftr" idx="2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5" name="PlaceHolder 5"/>
          <p:cNvSpPr>
            <a:spLocks noGrp="1"/>
          </p:cNvSpPr>
          <p:nvPr>
            <p:ph type="sldNum" idx="2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3DD5-B27D-415D-ADC2-C48E45C3E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3"/>
    <p:sldLayoutId id="2147484872" r:id="rId4"/>
    <p:sldLayoutId id="2147484873" r:id="rId5"/>
    <p:sldLayoutId id="2147484874" r:id="rId6"/>
    <p:sldLayoutId id="2147484875" r:id="rId7"/>
    <p:sldLayoutId id="2147484876" r:id="rId8"/>
    <p:sldLayoutId id="2147484877" r:id="rId9"/>
    <p:sldLayoutId id="2147484878" r:id="rId10"/>
    <p:sldLayoutId id="2147484879" r:id="rId11"/>
    <p:sldLayoutId id="2147484880" r:id="rId12"/>
    <p:sldLayoutId id="2147484881" r:id="rId13"/>
    <p:sldLayoutId id="2147484882" r:id="rId14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PlaceHolder 3"/>
          <p:cNvSpPr>
            <a:spLocks noGrp="1"/>
          </p:cNvSpPr>
          <p:nvPr>
            <p:ph type="dt" idx="2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5" name="PlaceHolder 4"/>
          <p:cNvSpPr>
            <a:spLocks noGrp="1"/>
          </p:cNvSpPr>
          <p:nvPr>
            <p:ph type="ftr" idx="2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6" name="PlaceHolder 5"/>
          <p:cNvSpPr>
            <a:spLocks noGrp="1"/>
          </p:cNvSpPr>
          <p:nvPr>
            <p:ph type="sldNum" idx="23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9488-F6A1-42D8-8082-8B6D69FE1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3"/>
    <p:sldLayoutId id="2147484885" r:id="rId4"/>
    <p:sldLayoutId id="2147484886" r:id="rId5"/>
    <p:sldLayoutId id="2147484887" r:id="rId6"/>
    <p:sldLayoutId id="2147484888" r:id="rId7"/>
    <p:sldLayoutId id="2147484889" r:id="rId8"/>
    <p:sldLayoutId id="2147484890" r:id="rId9"/>
    <p:sldLayoutId id="2147484891" r:id="rId10"/>
    <p:sldLayoutId id="2147484892" r:id="rId11"/>
    <p:sldLayoutId id="2147484893" r:id="rId12"/>
    <p:sldLayoutId id="2147484894" r:id="rId13"/>
    <p:sldLayoutId id="2147484895" r:id="rId14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 type="dt" idx="23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6" name="PlaceHolder 4"/>
          <p:cNvSpPr>
            <a:spLocks noGrp="1"/>
          </p:cNvSpPr>
          <p:nvPr>
            <p:ph type="ftr" idx="2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7" name="PlaceHolder 5"/>
          <p:cNvSpPr>
            <a:spLocks noGrp="1"/>
          </p:cNvSpPr>
          <p:nvPr>
            <p:ph type="sldNum" idx="24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9E63-8434-4884-9B68-DAAB6412F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3"/>
    <p:sldLayoutId id="2147484898" r:id="rId4"/>
    <p:sldLayoutId id="2147484899" r:id="rId5"/>
    <p:sldLayoutId id="2147484900" r:id="rId6"/>
    <p:sldLayoutId id="2147484901" r:id="rId7"/>
    <p:sldLayoutId id="2147484902" r:id="rId8"/>
    <p:sldLayoutId id="2147484903" r:id="rId9"/>
    <p:sldLayoutId id="2147484904" r:id="rId10"/>
    <p:sldLayoutId id="2147484905" r:id="rId11"/>
    <p:sldLayoutId id="2147484906" r:id="rId12"/>
    <p:sldLayoutId id="2147484907" r:id="rId13"/>
    <p:sldLayoutId id="2147484908" r:id="rId14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PlaceHolder 3"/>
          <p:cNvSpPr>
            <a:spLocks noGrp="1"/>
          </p:cNvSpPr>
          <p:nvPr>
            <p:ph type="dt" idx="24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7" name="PlaceHolder 4"/>
          <p:cNvSpPr>
            <a:spLocks noGrp="1"/>
          </p:cNvSpPr>
          <p:nvPr>
            <p:ph type="ftr" idx="2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8" name="PlaceHolder 5"/>
          <p:cNvSpPr>
            <a:spLocks noGrp="1"/>
          </p:cNvSpPr>
          <p:nvPr>
            <p:ph type="sldNum" idx="24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6A1F-FA6A-4CC8-8AE8-119B05FBA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3"/>
    <p:sldLayoutId id="2147484911" r:id="rId4"/>
    <p:sldLayoutId id="2147484912" r:id="rId5"/>
    <p:sldLayoutId id="2147484913" r:id="rId6"/>
    <p:sldLayoutId id="2147484914" r:id="rId7"/>
    <p:sldLayoutId id="2147484915" r:id="rId8"/>
    <p:sldLayoutId id="2147484916" r:id="rId9"/>
    <p:sldLayoutId id="2147484917" r:id="rId10"/>
    <p:sldLayoutId id="2147484918" r:id="rId11"/>
    <p:sldLayoutId id="2147484919" r:id="rId12"/>
    <p:sldLayoutId id="2147484920" r:id="rId13"/>
    <p:sldLayoutId id="2147484921" r:id="rId14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 type="dt" idx="24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 type="ftr" idx="2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9" name="PlaceHolder 5"/>
          <p:cNvSpPr>
            <a:spLocks noGrp="1"/>
          </p:cNvSpPr>
          <p:nvPr>
            <p:ph type="sldNum" idx="24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8228-0546-4751-9719-1E697241B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3"/>
    <p:sldLayoutId id="2147484924" r:id="rId4"/>
    <p:sldLayoutId id="2147484925" r:id="rId5"/>
    <p:sldLayoutId id="2147484926" r:id="rId6"/>
    <p:sldLayoutId id="2147484927" r:id="rId7"/>
    <p:sldLayoutId id="2147484928" r:id="rId8"/>
    <p:sldLayoutId id="2147484929" r:id="rId9"/>
    <p:sldLayoutId id="2147484930" r:id="rId10"/>
    <p:sldLayoutId id="2147484931" r:id="rId11"/>
    <p:sldLayoutId id="2147484932" r:id="rId12"/>
    <p:sldLayoutId id="2147484933" r:id="rId13"/>
    <p:sldLayoutId id="214748493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6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8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58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act.org/research/policymakers/pdf/reading_summary.pdf" TargetMode="External"/><Relationship Id="rId3" Type="http://schemas.openxmlformats.org/officeDocument/2006/relationships/slideLayout" Target="../slideLayouts/slideLayout85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06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2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ticulatemarketing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amiesmart.com/innate-think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wlnet.rice.edu/~cainproj/presenting.ppt" TargetMode="External"/><Relationship Id="rId2" Type="http://schemas.openxmlformats.org/officeDocument/2006/relationships/hyperlink" Target="http://www.owlnet.rice.edu/~cainproj/presenting.ppt" TargetMode="External"/><Relationship Id="rId3" Type="http://schemas.openxmlformats.org/officeDocument/2006/relationships/hyperlink" Target="http://www.owlnet.rice.edu/~cainproj/presenting.ppt" TargetMode="External"/><Relationship Id="rId4" Type="http://schemas.openxmlformats.org/officeDocument/2006/relationships/hyperlink" Target="http://www.owlnet.rice.edu/~cainproj/presenting.ppt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9" name="PlaceHolder 1"/>
          <p:cNvSpPr>
            <a:spLocks noGrp="1"/>
          </p:cNvSpPr>
          <p:nvPr>
            <p:ph type="title"/>
          </p:nvPr>
        </p:nvSpPr>
        <p:spPr>
          <a:xfrm>
            <a:off x="914400" y="487800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5f5f5f"/>
                </a:solidFill>
                <a:latin typeface="Arial"/>
              </a:rPr>
              <a:t>Powerpoint Presentation Tips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0" name=""/>
          <p:cNvSpPr txBox="1"/>
          <p:nvPr/>
        </p:nvSpPr>
        <p:spPr>
          <a:xfrm>
            <a:off x="2823840" y="5935320"/>
            <a:ext cx="57322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d91c7"/>
                </a:solidFill>
                <a:latin typeface="Arial"/>
              </a:rPr>
              <a:t>Mrs. Kilbridge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TextBox 1"/>
          <p:cNvSpPr/>
          <p:nvPr/>
        </p:nvSpPr>
        <p:spPr>
          <a:xfrm>
            <a:off x="216000" y="15228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ur “north star”: Aretha &amp; Golden Rule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569" name="Picture 2" descr=""/>
          <p:cNvPicPr/>
          <p:nvPr/>
        </p:nvPicPr>
        <p:blipFill>
          <a:blip r:embed="rId1"/>
          <a:stretch/>
        </p:blipFill>
        <p:spPr>
          <a:xfrm>
            <a:off x="228600" y="1211400"/>
            <a:ext cx="4343400" cy="3894120"/>
          </a:xfrm>
          <a:prstGeom prst="rect">
            <a:avLst/>
          </a:prstGeom>
          <a:ln w="0">
            <a:noFill/>
          </a:ln>
        </p:spPr>
      </p:pic>
      <p:pic>
        <p:nvPicPr>
          <p:cNvPr id="4570" name="Picture 3" descr=""/>
          <p:cNvPicPr/>
          <p:nvPr/>
        </p:nvPicPr>
        <p:blipFill>
          <a:blip r:embed="rId2"/>
          <a:stretch/>
        </p:blipFill>
        <p:spPr>
          <a:xfrm>
            <a:off x="4660920" y="1066680"/>
            <a:ext cx="4483080" cy="3891240"/>
          </a:xfrm>
          <a:prstGeom prst="rect">
            <a:avLst/>
          </a:prstGeom>
          <a:ln w="0">
            <a:noFill/>
          </a:ln>
        </p:spPr>
      </p:pic>
      <p:sp>
        <p:nvSpPr>
          <p:cNvPr id="4571" name="TextBox 4"/>
          <p:cNvSpPr/>
          <p:nvPr/>
        </p:nvSpPr>
        <p:spPr>
          <a:xfrm>
            <a:off x="113400" y="595296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* keep these in mind and Learning Walks can’t fail!!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2" name="TextBox 5"/>
          <p:cNvSpPr/>
          <p:nvPr/>
        </p:nvSpPr>
        <p:spPr>
          <a:xfrm>
            <a:off x="398880" y="525780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ffec"/>
                </a:solidFill>
                <a:latin typeface="Arial"/>
                <a:ea typeface="Arial"/>
              </a:rPr>
              <a:t>R – E – S – P –E – C - 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Text Box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 Unicode MS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4" name="Text Box 2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Overview of Standards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 Unicode MS"/>
              </a:rPr>
              <a:t>HistoryO/Social Studies, Science, and Technical Subjec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5" name="Text Box 3"/>
          <p:cNvSpPr/>
          <p:nvPr/>
        </p:nvSpPr>
        <p:spPr>
          <a:xfrm>
            <a:off x="457200" y="1285920"/>
            <a:ext cx="845820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7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  <a:ea typeface="Arial Unicode MS"/>
              </a:rPr>
              <a:t>Reading Standards for History/Social Studies, Science, and Technical Subjec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1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nowledge of domain-specif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2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nalyze, evaluate, and differentiate primary and second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3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ynthe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quantitative and technical information, including facts presented in maps, timelines, flowcharts, or diagram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  <a:ea typeface="Arial Unicode MS"/>
              </a:rPr>
              <a:t>Writing Standards for History/Social Studies, Science, and Technical Subjec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4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Wri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g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on discipline-specific content and informative/explanatory tex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5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se of data, evidence, and reason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 arg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and claims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13"/>
              </a:spcBef>
              <a:spcAft>
                <a:spcPts val="213"/>
              </a:spcAft>
              <a:buSzPct val="100000"/>
              <a:buBlip>
                <a:blip r:embed="rId6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se of domain-specif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y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Arial Unicode MS"/>
              </a:rPr>
              <a:t> 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New Definit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 Reading for Michigan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198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i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cess of constructing mea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rough the dynamic interaction amo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 the reader’s existing knowledg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 the information suggested by the text being read;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) the context of the reading situ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9ABC-4017-4414-9999-252A295E6F8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9" name="Shape 23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0" name="Shape 236"/>
          <p:cNvSpPr/>
          <p:nvPr/>
        </p:nvSpPr>
        <p:spPr>
          <a:xfrm>
            <a:off x="7543800" y="-1440"/>
            <a:ext cx="1517760" cy="777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1" name="Shape 237"/>
          <p:cNvSpPr/>
          <p:nvPr/>
        </p:nvSpPr>
        <p:spPr>
          <a:xfrm>
            <a:off x="7547040" y="914400"/>
            <a:ext cx="1444680" cy="457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2" name="Shape 238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e66b2"/>
                </a:solidFill>
                <a:latin typeface="Arial"/>
              </a:rPr>
              <a:t>Contact 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>
              <a:spcBef>
                <a:spcPts val="601"/>
              </a:spcBef>
              <a:buClr>
                <a:srgbClr val="a63212"/>
              </a:buClr>
              <a:buSzPct val="9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Joseph Martineau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Executive Dir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Bureau of Assessment &amp; Account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Michigan Department of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martineauj@michigan.g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Shape 241"/>
          <p:cNvSpPr/>
          <p:nvPr/>
        </p:nvSpPr>
        <p:spPr>
          <a:xfrm>
            <a:off x="8064360" y="958680"/>
            <a:ext cx="40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6" name="Title 1" descr=""/>
          <p:cNvPicPr/>
          <p:nvPr/>
        </p:nvPicPr>
        <p:blipFill>
          <a:blip r:embed="rId1"/>
          <a:stretch/>
        </p:blipFill>
        <p:spPr>
          <a:xfrm>
            <a:off x="457200" y="438120"/>
            <a:ext cx="8242200" cy="519120"/>
          </a:xfrm>
          <a:prstGeom prst="rect">
            <a:avLst/>
          </a:prstGeom>
          <a:ln w="0">
            <a:noFill/>
          </a:ln>
        </p:spPr>
      </p:pic>
      <p:sp>
        <p:nvSpPr>
          <p:cNvPr id="4587" name=""/>
          <p:cNvSpPr txBox="1"/>
          <p:nvPr/>
        </p:nvSpPr>
        <p:spPr>
          <a:xfrm>
            <a:off x="457200" y="1371600"/>
            <a:ext cx="782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 integrated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vidence-based appro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acher invol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tate-led with transparent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ocus: improving teaching and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ctionable information – multiple mea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stablished professional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601"/>
              </a:spcAft>
              <a:buClr>
                <a:srgbClr val="00964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8" name="Title 1" descr=""/>
          <p:cNvPicPr/>
          <p:nvPr/>
        </p:nvPicPr>
        <p:blipFill>
          <a:blip r:embed="rId1"/>
          <a:stretch/>
        </p:blipFill>
        <p:spPr>
          <a:xfrm>
            <a:off x="420840" y="304920"/>
            <a:ext cx="8235720" cy="517320"/>
          </a:xfrm>
          <a:prstGeom prst="rect">
            <a:avLst/>
          </a:prstGeom>
          <a:ln w="0">
            <a:noFill/>
          </a:ln>
        </p:spPr>
      </p:pic>
      <p:pic>
        <p:nvPicPr>
          <p:cNvPr id="4589" name="Group 6" descr=""/>
          <p:cNvPicPr/>
          <p:nvPr/>
        </p:nvPicPr>
        <p:blipFill>
          <a:blip r:embed="rId2"/>
          <a:stretch/>
        </p:blipFill>
        <p:spPr>
          <a:xfrm>
            <a:off x="3005280" y="1432080"/>
            <a:ext cx="5668920" cy="873000"/>
          </a:xfrm>
          <a:prstGeom prst="rect">
            <a:avLst/>
          </a:prstGeom>
          <a:ln w="0">
            <a:noFill/>
          </a:ln>
        </p:spPr>
      </p:pic>
      <p:grpSp>
        <p:nvGrpSpPr>
          <p:cNvPr id="4590" name="Group 7"/>
          <p:cNvGrpSpPr/>
          <p:nvPr/>
        </p:nvGrpSpPr>
        <p:grpSpPr>
          <a:xfrm>
            <a:off x="285840" y="1389240"/>
            <a:ext cx="2976480" cy="912600"/>
            <a:chOff x="285840" y="1389240"/>
            <a:chExt cx="2976480" cy="912600"/>
          </a:xfrm>
        </p:grpSpPr>
        <p:sp>
          <p:nvSpPr>
            <p:cNvPr id="4591" name="Rounded Rectangle 38"/>
            <p:cNvSpPr/>
            <p:nvPr/>
          </p:nvSpPr>
          <p:spPr>
            <a:xfrm>
              <a:off x="285840" y="1389240"/>
              <a:ext cx="2976480" cy="91260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2" name="Rounded Rectangle 6"/>
            <p:cNvSpPr/>
            <p:nvPr/>
          </p:nvSpPr>
          <p:spPr>
            <a:xfrm>
              <a:off x="322200" y="1434960"/>
              <a:ext cx="29037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 and Procedures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4593" name="Group 8" descr=""/>
          <p:cNvPicPr/>
          <p:nvPr/>
        </p:nvPicPr>
        <p:blipFill>
          <a:blip r:embed="rId3"/>
          <a:stretch/>
        </p:blipFill>
        <p:spPr>
          <a:xfrm>
            <a:off x="3005280" y="2627280"/>
            <a:ext cx="5632200" cy="841320"/>
          </a:xfrm>
          <a:prstGeom prst="rect">
            <a:avLst/>
          </a:prstGeom>
          <a:ln w="0">
            <a:noFill/>
          </a:ln>
        </p:spPr>
      </p:pic>
      <p:grpSp>
        <p:nvGrpSpPr>
          <p:cNvPr id="4594" name="Group 9"/>
          <p:cNvGrpSpPr/>
          <p:nvPr/>
        </p:nvGrpSpPr>
        <p:grpSpPr>
          <a:xfrm>
            <a:off x="285840" y="2593800"/>
            <a:ext cx="2976480" cy="914400"/>
            <a:chOff x="285840" y="2593800"/>
            <a:chExt cx="2976480" cy="914400"/>
          </a:xfrm>
        </p:grpSpPr>
        <p:sp>
          <p:nvSpPr>
            <p:cNvPr id="4595" name="Rounded Rectangle 34"/>
            <p:cNvSpPr/>
            <p:nvPr/>
          </p:nvSpPr>
          <p:spPr>
            <a:xfrm>
              <a:off x="285840" y="2593800"/>
              <a:ext cx="2976480" cy="914400"/>
            </a:xfrm>
            <a:prstGeom prst="roundRect">
              <a:avLst>
                <a:gd name="adj" fmla="val 16667"/>
              </a:avLst>
            </a:prstGeom>
            <a:solidFill>
              <a:srgbClr val="009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6" name="Rounded Rectangle 10"/>
            <p:cNvSpPr/>
            <p:nvPr/>
          </p:nvSpPr>
          <p:spPr>
            <a:xfrm>
              <a:off x="322200" y="2639520"/>
              <a:ext cx="2903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blem Solving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4597" name="Group 10" descr=""/>
          <p:cNvPicPr/>
          <p:nvPr/>
        </p:nvPicPr>
        <p:blipFill>
          <a:blip r:embed="rId4"/>
          <a:stretch/>
        </p:blipFill>
        <p:spPr>
          <a:xfrm>
            <a:off x="3005280" y="3840120"/>
            <a:ext cx="5632200" cy="871560"/>
          </a:xfrm>
          <a:prstGeom prst="rect">
            <a:avLst/>
          </a:prstGeom>
          <a:ln w="0">
            <a:noFill/>
          </a:ln>
        </p:spPr>
      </p:pic>
      <p:grpSp>
        <p:nvGrpSpPr>
          <p:cNvPr id="4598" name="Group 11"/>
          <p:cNvGrpSpPr/>
          <p:nvPr/>
        </p:nvGrpSpPr>
        <p:grpSpPr>
          <a:xfrm>
            <a:off x="285840" y="3784680"/>
            <a:ext cx="2976480" cy="914400"/>
            <a:chOff x="285840" y="3784680"/>
            <a:chExt cx="2976480" cy="914400"/>
          </a:xfrm>
        </p:grpSpPr>
        <p:sp>
          <p:nvSpPr>
            <p:cNvPr id="4599" name="Rounded Rectangle 30"/>
            <p:cNvSpPr/>
            <p:nvPr/>
          </p:nvSpPr>
          <p:spPr>
            <a:xfrm>
              <a:off x="285840" y="3784680"/>
              <a:ext cx="2976480" cy="91440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0" name="Rounded Rectangle 14"/>
            <p:cNvSpPr/>
            <p:nvPr/>
          </p:nvSpPr>
          <p:spPr>
            <a:xfrm>
              <a:off x="322200" y="3828960"/>
              <a:ext cx="290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municating Reasoning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4601" name="Group 12" descr=""/>
          <p:cNvPicPr/>
          <p:nvPr/>
        </p:nvPicPr>
        <p:blipFill>
          <a:blip r:embed="rId5"/>
          <a:stretch/>
        </p:blipFill>
        <p:spPr>
          <a:xfrm>
            <a:off x="3005280" y="5059440"/>
            <a:ext cx="5711760" cy="877680"/>
          </a:xfrm>
          <a:prstGeom prst="rect">
            <a:avLst/>
          </a:prstGeom>
          <a:ln w="0">
            <a:noFill/>
          </a:ln>
        </p:spPr>
      </p:pic>
      <p:grpSp>
        <p:nvGrpSpPr>
          <p:cNvPr id="4602" name="Group 13"/>
          <p:cNvGrpSpPr/>
          <p:nvPr/>
        </p:nvGrpSpPr>
        <p:grpSpPr>
          <a:xfrm>
            <a:off x="285840" y="5010120"/>
            <a:ext cx="2976480" cy="914400"/>
            <a:chOff x="285840" y="5010120"/>
            <a:chExt cx="2976480" cy="914400"/>
          </a:xfrm>
        </p:grpSpPr>
        <p:sp>
          <p:nvSpPr>
            <p:cNvPr id="4603" name="Rounded Rectangle 26"/>
            <p:cNvSpPr/>
            <p:nvPr/>
          </p:nvSpPr>
          <p:spPr>
            <a:xfrm>
              <a:off x="285840" y="5010120"/>
              <a:ext cx="2976480" cy="914400"/>
            </a:xfrm>
            <a:prstGeom prst="roundRect">
              <a:avLst>
                <a:gd name="adj" fmla="val 16667"/>
              </a:avLst>
            </a:prstGeom>
            <a:solidFill>
              <a:srgbClr val="009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4" name="Rounded Rectangle 18"/>
            <p:cNvSpPr/>
            <p:nvPr/>
          </p:nvSpPr>
          <p:spPr>
            <a:xfrm>
              <a:off x="322200" y="5055840"/>
              <a:ext cx="2903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 Analysis and Modeling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605" name="TextBox 42"/>
          <p:cNvSpPr/>
          <p:nvPr/>
        </p:nvSpPr>
        <p:spPr>
          <a:xfrm>
            <a:off x="6352200" y="866880"/>
            <a:ext cx="28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/o Round 1 – released 8/29/11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lex 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2701"/>
              </a:spcBef>
              <a:spcAft>
                <a:spcPts val="601"/>
              </a:spcAft>
              <a:buClr>
                <a:srgbClr val="0091b2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91b2"/>
                </a:solidFill>
                <a:latin typeface="Arial"/>
              </a:rPr>
              <a:t>Performance on complex texts is the clearest differentiator in reading between students who are likely to be ready for college and those who are not.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1280" indent="-341280">
              <a:spcBef>
                <a:spcPts val="2701"/>
              </a:spcBef>
              <a:spcAft>
                <a:spcPts val="601"/>
              </a:spcAft>
              <a:buClr>
                <a:srgbClr val="0091b2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And this is true for both genders, all racial/ethnic groups, and all annual family income levels.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12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91b2"/>
                </a:solidFill>
                <a:latin typeface="Arial"/>
              </a:rPr>
              <a:t>ACT Reading Between the Lines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12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8" name="Picture 1" descr=""/>
          <p:cNvPicPr/>
          <p:nvPr/>
        </p:nvPicPr>
        <p:blipFill>
          <a:blip r:embed="rId1"/>
          <a:stretch/>
        </p:blipFill>
        <p:spPr>
          <a:xfrm>
            <a:off x="39600" y="0"/>
            <a:ext cx="9104400" cy="6211800"/>
          </a:xfrm>
          <a:prstGeom prst="rect">
            <a:avLst/>
          </a:prstGeom>
          <a:ln w="0">
            <a:noFill/>
          </a:ln>
        </p:spPr>
      </p:pic>
      <p:sp>
        <p:nvSpPr>
          <p:cNvPr id="4609" name="Text Box 2"/>
          <p:cNvSpPr/>
          <p:nvPr/>
        </p:nvSpPr>
        <p:spPr>
          <a:xfrm>
            <a:off x="533520" y="5638680"/>
            <a:ext cx="761976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Reading Between the Lines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2"/>
              </a:rPr>
              <a:t>http://act.org/research/policymakers/pdf/reading_summary.pdf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entury Schoolbook"/>
              </a:rPr>
              <a:t>What is a text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Builders can use different kinds of structures to build different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A skyscraper, for example, is a different kind of structure from a 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2" name="Picture 6" descr="bd10467_"/>
          <p:cNvPicPr/>
          <p:nvPr/>
        </p:nvPicPr>
        <p:blipFill>
          <a:blip r:embed="rId1"/>
          <a:stretch/>
        </p:blipFill>
        <p:spPr>
          <a:xfrm>
            <a:off x="4648320" y="2884320"/>
            <a:ext cx="380988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entury Schoolbook"/>
              </a:rPr>
              <a:t>What is a text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Writers use different structures to build their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Each text structure communicates ideas in a different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5" name="Picture 6" descr="bd06453_"/>
          <p:cNvPicPr/>
          <p:nvPr/>
        </p:nvPicPr>
        <p:blipFill>
          <a:blip r:embed="rId1"/>
          <a:stretch/>
        </p:blipFill>
        <p:spPr>
          <a:xfrm>
            <a:off x="685800" y="2139840"/>
            <a:ext cx="38098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14a"/>
                </a:solidFill>
                <a:latin typeface="Arial"/>
              </a:rPr>
              <a:t>Use the 10-20-30 rul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ttempt to follow Guy Kawasaki’s 10-20-30 rule: presentations should have no more than ten slides, last no longer than 20 minutes and no font should be smaller than 30 points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7f7f"/>
                </a:solidFill>
                <a:latin typeface="Arial"/>
              </a:rPr>
              <a:t>With thanks to Matthew Stibbe,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Articulate Marketing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Powerpoint Slides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void large blocks of text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Illustrate your points, don’t completely duplicate them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Proofread for errors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Presentations need careful proofreading: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Check for English errors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void an overuse of words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Make sure slides are easy to read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14a"/>
                </a:solidFill>
                <a:latin typeface="Arial"/>
              </a:rPr>
              <a:t>Rehears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Practice makes a good presentation. Very few people can deliver a great presentation off the top of their head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Rehearse the basic points you intend to make, in a clear order and with all the key facts memorized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14a"/>
                </a:solidFill>
                <a:latin typeface="Arial"/>
              </a:rPr>
              <a:t>Make eye contact with your audienc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It is important to make eye contact, speak clearly and create an open communication channel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Do not read the slides word for word. 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The focus should be on the presenter, and the powerpoint slides should enhance the message, not be the message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7f7f"/>
                </a:solidFill>
                <a:latin typeface="Arial"/>
              </a:rPr>
              <a:t>With thanks to Jamie Smart,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Innate Thinking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Easy to Use Powerpoint Templat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Go to this website for a step-by-step guide to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Creating a powerpoint presentation: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www.owlnet.rice.edu/~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cain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3"/>
              </a:rPr>
              <a:t>proj/presenting.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4"/>
              </a:rPr>
              <a:t>ppt</a:t>
            </a:r>
            <a:r>
              <a:rPr b="1" i="1" lang="en-US" sz="28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You be the judg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The following slides are examples taken from educators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re they effective?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How could they change these to make them more effective?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TextBox 1"/>
          <p:cNvSpPr/>
          <p:nvPr/>
        </p:nvSpPr>
        <p:spPr>
          <a:xfrm>
            <a:off x="-45720" y="76320"/>
            <a:ext cx="909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uilding a Culture of Giving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ND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ceiving </a:t>
            </a:r>
            <a:r>
              <a:rPr b="1" lang="en-US" sz="4400" spc="-1" strike="noStrike">
                <a:solidFill>
                  <a:srgbClr val="f8f8ef"/>
                </a:solidFill>
                <a:latin typeface="Arial"/>
                <a:ea typeface="Arial"/>
              </a:rPr>
              <a:t>Actionable Feedback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66" name="TextBox 2"/>
          <p:cNvSpPr/>
          <p:nvPr/>
        </p:nvSpPr>
        <p:spPr>
          <a:xfrm>
            <a:off x="-454680" y="2330280"/>
            <a:ext cx="98582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Humility/Curiosity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– no single person (coach, principal, consultant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etc.) knows it all, even experts need help/support/feedback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1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Collaborative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Partnership</a:t>
            </a:r>
            <a:r>
              <a:rPr b="1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is the path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– admin, coaches and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consultants need to forge these relationships tied to agreed upon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FOCUS - “Collaborative Coherence”- distributed leadership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Creating a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safe environment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for honest, open, trusting, inquiry &amp;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risk taking… Lead by </a:t>
            </a:r>
            <a:r>
              <a:rPr b="1" lang="en-US" sz="2200" spc="-1" strike="noStrike" u="sng">
                <a:solidFill>
                  <a:srgbClr val="12ff2a"/>
                </a:solidFill>
                <a:uFillTx/>
                <a:latin typeface="Arial"/>
                <a:ea typeface="Arial"/>
              </a:rPr>
              <a:t>DOING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, not simply talking…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Establish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Feedback (</a:t>
            </a:r>
            <a:r>
              <a:rPr b="0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Giving &amp; Receiving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) for ALL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as shared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professional goal across the faculty – refining and extending our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skill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67" name="TextBox 3"/>
          <p:cNvSpPr/>
          <p:nvPr/>
        </p:nvSpPr>
        <p:spPr>
          <a:xfrm>
            <a:off x="5040" y="1752480"/>
            <a:ext cx="78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ef"/>
                </a:solidFill>
                <a:uFillTx/>
                <a:latin typeface="Arial"/>
                <a:ea typeface="Arial"/>
              </a:rPr>
              <a:t>Key Norms or Dispositions Leaders Must Nurture/Create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Amy Kilbridge</cp:lastModifiedBy>
  <cp:lastPrinted>2015-07-28T19:41:11Z</cp:lastPrinted>
  <dcterms:modified xsi:type="dcterms:W3CDTF">2015-07-28T19:41:30Z</dcterms:modified>
  <cp:revision>56</cp:revision>
  <dc:subject/>
  <dc:title>Colour Pencils PowerPoint Template</dc:title>
</cp:coreProperties>
</file>