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0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.png" ContentType="image/png"/>
  <Override PartName="/ppt/media/image4.jpeg" ContentType="image/jpeg"/>
  <Override PartName="/ppt/media/image25.png" ContentType="image/png"/>
  <Override PartName="/ppt/media/image5.png" ContentType="image/png"/>
  <Override PartName="/ppt/media/image8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31.wmf" ContentType="image/x-wmf"/>
  <Override PartName="/ppt/media/image29.wmf" ContentType="image/x-wmf"/>
  <Override PartName="/ppt/media/image18.png" ContentType="image/png"/>
  <Override PartName="/ppt/media/image6.jpeg" ContentType="image/jpeg"/>
  <Override PartName="/ppt/media/image13.png" ContentType="image/png"/>
  <Override PartName="/ppt/media/image12.jpeg" ContentType="image/jpe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_rels/slideLayout941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9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</p:sldMasterIdLst>
  <p:notesMasterIdLst>
    <p:notesMasterId r:id="rId107"/>
  </p:notesMasterIdLst>
  <p:sldIdLst>
    <p:sldId id="256" r:id="rId108"/>
    <p:sldId id="257" r:id="rId109"/>
    <p:sldId id="258" r:id="rId110"/>
    <p:sldId id="259" r:id="rId111"/>
    <p:sldId id="260" r:id="rId112"/>
    <p:sldId id="261" r:id="rId113"/>
    <p:sldId id="262" r:id="rId114"/>
    <p:sldId id="263" r:id="rId115"/>
    <p:sldId id="264" r:id="rId116"/>
    <p:sldId id="265" r:id="rId117"/>
    <p:sldId id="266" r:id="rId118"/>
    <p:sldId id="267" r:id="rId119"/>
    <p:sldId id="268" r:id="rId120"/>
    <p:sldId id="269" r:id="rId121"/>
    <p:sldId id="270" r:id="rId122"/>
    <p:sldId id="271" r:id="rId123"/>
    <p:sldId id="272" r:id="rId124"/>
    <p:sldId id="273" r:id="rId125"/>
    <p:sldId id="274" r:id="rId1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notesMaster" Target="notesMasters/notesMaster1.xml"/><Relationship Id="rId108" Type="http://schemas.openxmlformats.org/officeDocument/2006/relationships/slide" Target="slides/slide1.xml"/><Relationship Id="rId109" Type="http://schemas.openxmlformats.org/officeDocument/2006/relationships/slide" Target="slides/slide2.xml"/><Relationship Id="rId110" Type="http://schemas.openxmlformats.org/officeDocument/2006/relationships/slide" Target="slides/slide3.xml"/><Relationship Id="rId111" Type="http://schemas.openxmlformats.org/officeDocument/2006/relationships/slide" Target="slides/slide4.xml"/><Relationship Id="rId112" Type="http://schemas.openxmlformats.org/officeDocument/2006/relationships/slide" Target="slides/slide5.xml"/><Relationship Id="rId113" Type="http://schemas.openxmlformats.org/officeDocument/2006/relationships/slide" Target="slides/slide6.xml"/><Relationship Id="rId114" Type="http://schemas.openxmlformats.org/officeDocument/2006/relationships/slide" Target="slides/slide7.xml"/><Relationship Id="rId115" Type="http://schemas.openxmlformats.org/officeDocument/2006/relationships/slide" Target="slides/slide8.xml"/><Relationship Id="rId116" Type="http://schemas.openxmlformats.org/officeDocument/2006/relationships/slide" Target="slides/slide9.xml"/><Relationship Id="rId117" Type="http://schemas.openxmlformats.org/officeDocument/2006/relationships/slide" Target="slides/slide10.xml"/><Relationship Id="rId118" Type="http://schemas.openxmlformats.org/officeDocument/2006/relationships/slide" Target="slides/slide11.xml"/><Relationship Id="rId119" Type="http://schemas.openxmlformats.org/officeDocument/2006/relationships/slide" Target="slides/slide12.xml"/><Relationship Id="rId120" Type="http://schemas.openxmlformats.org/officeDocument/2006/relationships/slide" Target="slides/slide13.xml"/><Relationship Id="rId121" Type="http://schemas.openxmlformats.org/officeDocument/2006/relationships/slide" Target="slides/slide14.xml"/><Relationship Id="rId122" Type="http://schemas.openxmlformats.org/officeDocument/2006/relationships/slide" Target="slides/slide15.xml"/><Relationship Id="rId123" Type="http://schemas.openxmlformats.org/officeDocument/2006/relationships/slide" Target="slides/slide16.xml"/><Relationship Id="rId124" Type="http://schemas.openxmlformats.org/officeDocument/2006/relationships/slide" Target="slides/slide17.xml"/><Relationship Id="rId125" Type="http://schemas.openxmlformats.org/officeDocument/2006/relationships/slide" Target="slides/slide18.xml"/><Relationship Id="rId126" Type="http://schemas.openxmlformats.org/officeDocument/2006/relationships/slide" Target="slides/slide19.xml"/><Relationship Id="rId1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 type="dt" idx="26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46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PlaceHolder 5"/>
          <p:cNvSpPr>
            <a:spLocks noGrp="1"/>
          </p:cNvSpPr>
          <p:nvPr>
            <p:ph type="ftr" idx="26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PlaceHolder 6"/>
          <p:cNvSpPr>
            <a:spLocks noGrp="1"/>
          </p:cNvSpPr>
          <p:nvPr>
            <p:ph type="sldNum" idx="26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0B97-98B9-480D-99CC-DD9EB7BFA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C10F6B7B-F3E7-4F3B-B47B-0612AFED9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0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1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 Unicode MS"/>
            </a:endParaRPr>
          </a:p>
        </p:txBody>
      </p:sp>
      <p:sp>
        <p:nvSpPr>
          <p:cNvPr id="4622" name="Text Box 3"/>
          <p:cNvSpPr/>
          <p:nvPr/>
        </p:nvSpPr>
        <p:spPr>
          <a:xfrm>
            <a:off x="3884760" y="897876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369440"/>
                <a:tab algn="l" pos="10820520"/>
              </a:tabLst>
            </a:pPr>
            <a:fld id="{01CF8A63-D726-4D89-B606-077EB758B0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7F55F36D-4C93-47CC-8F68-5E708F9ECB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4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5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9280"/>
                <a:tab algn="l" pos="1441440"/>
                <a:tab algn="l" pos="2163600"/>
                <a:tab algn="l" pos="288612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  <a:tab algn="l" pos="10406160"/>
                <a:tab algn="l" pos="10858680"/>
              </a:tabLst>
            </a:pPr>
            <a:fld id="{326CED66-6635-44AD-B854-C557D4DE9B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7" name="PlaceHolder 1"/>
          <p:cNvSpPr>
            <a:spLocks noGrp="1"/>
          </p:cNvSpPr>
          <p:nvPr>
            <p:ph type="sldImg"/>
          </p:nvPr>
        </p:nvSpPr>
        <p:spPr>
          <a:xfrm>
            <a:off x="1069920" y="708120"/>
            <a:ext cx="4724280" cy="3544920"/>
          </a:xfrm>
          <a:prstGeom prst="rect">
            <a:avLst/>
          </a:prstGeom>
          <a:ln w="0">
            <a:noFill/>
          </a:ln>
        </p:spPr>
      </p:sp>
      <p:sp>
        <p:nvSpPr>
          <p:cNvPr id="4628" name="PlaceHolder 2"/>
          <p:cNvSpPr>
            <a:spLocks noGrp="1"/>
          </p:cNvSpPr>
          <p:nvPr>
            <p:ph type="body"/>
          </p:nvPr>
        </p:nvSpPr>
        <p:spPr>
          <a:xfrm>
            <a:off x="685800" y="4491000"/>
            <a:ext cx="54864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E10D-0851-4C58-AB05-2D22C795C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ECC3-C72C-445D-955A-9E1BBF45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necessarily word for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AD52-C8B2-46E2-B17E-50BF7B5F5D7E}" type="slidenum">
              <a:rPr b="0" lang="en-GB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8EB-2C16-43EA-A97F-B65C4BB5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DC96-0C6B-4F8A-B3BE-16C9B40A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D7CC34-F6E8-4E4D-833A-8C68EF4B77EC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A3ABCCF-B61C-4A98-8D7D-B83BFA97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ED52DC9-9CDB-44B4-B525-A3C7437E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53D1636-1D4F-4DA3-BBC5-6704BCD1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1993DFB-EF8C-428C-8117-6CC66E60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166CEDB2-9BCC-4976-A5ED-DF05BFE6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E82F25D-8B45-4387-8A7F-AC6F7707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A707A6A9-9051-4E76-95DF-CFD2D318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29F0F67A-6A6B-4669-AF10-E66323542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5007D63-E5C9-4B97-B386-421C9877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621C444D-20AA-47DC-BAF6-EBACFB79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4F7F65-0407-4E5D-AC49-0233AFE397FB}" type="slidenum">
              <a:t>&lt;#&gt;</a:t>
            </a:fld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C2EAF67-2411-41AB-93BD-5534F56D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24B5C66-C399-4416-AA1E-9470FD3C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2F010EF-F06A-4C45-BF74-D8FF2771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D825DFE-15C5-4858-B25D-1E56D69D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D2E21BED-79C0-4FFE-B2AD-2527E4BA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E185F90-A02A-4C5F-BEBA-C9E35069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368393E-AE73-4011-ABE8-707EE9CA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5369BB6A-5159-4006-AE90-4C90F3F5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B300890-46FF-4EB5-8EA8-0BAADF0F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4CA5ABC9-BC3F-4100-92CB-1A6EDDAF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46C1DA-6F99-4B61-BD54-A303F942BFDE}" type="slidenum">
              <a:t>&lt;#&gt;</a:t>
            </a:fld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CE314F7-F8F0-4DFB-AEDD-2046520C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18A7931-36A7-4918-B5D5-46CB0271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577C8AA-D9F4-4F0A-812D-73E317A4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20ED8773-651D-44F6-9354-9726F3E6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B0DF2A8-789F-49CC-B2B2-3053610F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477B28EA-671E-4EDF-B194-8443286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5BB74AA-47D1-49C7-A836-F201ABD8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8DC3EA1-D37A-46E1-88A0-48A5C9B8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3B676BB1-25D6-423B-A437-1466D07F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EEFBCA7-A76F-4628-AF7E-132DF151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3362B5-3DCF-472E-B436-35D0CE6DCE1F}" type="slidenum">
              <a:t>&lt;#&gt;</a:t>
            </a:fld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48A9F99-8B62-4F8D-A79D-5060A9F3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54401940-EC0D-4F17-BDBC-5F0F9810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68963DB-A654-4BDC-9F36-9C76174B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5F62E55-0C82-4FEB-AECB-63F28F4D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7BBB11E-F642-4CDE-95DB-1670ACF2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D38ED29-31F7-43CA-A452-0ADE2EDE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E3C4CD3-8A53-4D11-A8DE-DDCF2615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A0537C6B-1591-4CD0-828F-392C1379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CA52FE81-00E4-4BAD-986B-17C6FF25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7F1611AC-D8DF-4BC2-9ED4-5DB75FAF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7F0988-6E4A-4C11-AF34-ADFAA2577997}" type="slidenum">
              <a:t>&lt;#&gt;</a:t>
            </a:fld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1EBAB793-4DD4-4738-B43D-F4AD6B41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9E755445-5B47-44D8-B76A-0CC56730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EC37186-26DE-4C94-9933-442EC57C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7BC2098-0834-41D3-AD2C-9D09DC28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B0E5ABF-0900-4E61-9924-BB27BEE1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7C585D3-B51A-42ED-A080-D90CDD8A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DEFD5A8D-76C4-4CB6-B94D-41C74DE5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7A7C6DA-A8F0-4CB4-86D7-4C8C85AD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193CAAFD-40CC-4D1F-B970-72DAD925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758CD004-F3CF-4C56-A269-23C733EF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86EDFD-FF49-4479-87AD-06B0A68E4FE0}" type="slidenum">
              <a:t>&lt;#&gt;</a:t>
            </a:fld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73688A5D-0CFA-4116-BCE7-62A77761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259C661-9FC8-49B0-A9E8-D228D762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7D52AEF0-CF64-4665-A4A7-E7BADCAA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3B86F01-E8BC-4938-B4C9-1AA7FBE1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5EEFE692-061E-4F37-98E0-9C4D340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7C27E22D-1776-4D43-BD6A-A453FB48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862A62F3-7352-4F9A-B4AA-A79DAC3D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A7370DC-0E3F-4FB6-B40A-FEB28D2B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A995DDA-51AF-4B70-B88D-908859B0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72575F7-67BD-40D8-B908-0E4766AC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ACFC70-B620-4738-8FFB-0654977C65FC}" type="slidenum">
              <a:t>&lt;#&gt;</a:t>
            </a:fld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9F368D1-31D6-4946-BC5C-0C99152F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C50FF86D-1026-40B4-83BF-9BD171AF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393A953-2349-45C0-98DD-B165BF63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E0F1ADF-74F4-4A03-B71F-5426764C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9DE4AB0-DAF1-45B5-8810-DDAC81F7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4ED21C83-2C02-42EE-B701-EA3909AF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A5237D5-C8CA-4720-825F-AA005EE8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E641780A-F658-451F-9074-F238DADE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7425086F-CA3C-4B7B-A47B-FFF20764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9BD001E-25A8-4A03-9185-B178F7BF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A5D9DC-A8F8-4A17-AA72-55E9A6F4DC1F}" type="slidenum">
              <a:t>&lt;#&gt;</a:t>
            </a:fld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EE71721-7925-4772-9AD0-2B34DE7C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75E78A6-E317-4B24-857B-B608F598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6B0C9E2-73BB-4E8A-A9E5-0A1ABCA3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D0CC475-0B68-440B-A315-902107A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B064515-AA8B-4766-9F07-A66159B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4CAA3D4C-22D4-4829-A170-213F09D1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138E8FF4-DC1B-42A4-AFDC-64581F1E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0AB0771-4298-4B6D-97C0-CF4807E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CFEAFAD7-76D9-4F75-B86F-266A554D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758C33F-0C02-4D68-BB01-4D4F4CDF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BF3562-098F-415F-9632-F01519A96D4D}" type="slidenum">
              <a:t>&lt;#&gt;</a:t>
            </a:fld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E8D305A0-5994-48F8-9045-BC905F64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9DA519D-421D-47CA-840F-CF6F6FC1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407E1D1D-2DD7-46F8-9DEA-9C98C6E4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4929DE3-5180-49BC-87D7-5C1DAB11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E2052C9-466A-4A41-8005-A4B2DB86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41DF711-F51C-46A1-A077-4EDC56FE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9AB71A3-1790-4FF6-B6FF-7F914318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629D2980-A6ED-4727-9071-6815DCA2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A84B2B9-F10D-4A85-A902-273BB06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A718446-E93C-4FCF-BE85-1789B9E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48159-A619-4364-8681-0FC6BC50A492}" type="slidenum">
              <a:t>&lt;#&gt;</a:t>
            </a:fld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131A286-9263-42C0-96F6-8D4A4CD7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E66C1CB7-B541-403F-892D-C911DE1C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9D604B3-3E57-4F3D-94CC-959F9437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62C774CC-D1EB-4826-AC42-2B2186EB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A312EFA-1656-48A0-BE50-F616EC47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83123150-1A29-478D-BD28-7D7DC678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0EC30EE-16E3-47CC-811A-05F72736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498904D3-F27C-4342-A02D-EB318EA2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CA4A9E6F-9C40-4FBE-ABCE-D5F17191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942017A-541B-4B4B-B9D3-872605FE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653-E351-4093-A9B5-76EED7C9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30C29-78C1-496A-BAB7-BA2D511E2BA2}" type="slidenum">
              <a:t>&lt;#&gt;</a:t>
            </a:fld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482EDB8-25E4-489F-A897-98D4EC83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FD06349-C153-49AA-9EB7-D42ABC7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080948F-1686-48EE-AB99-078A9862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37A05877-58B5-46C3-BA00-117DD823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D388FD36-9CDE-420E-BC16-449040F5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B5C3B136-EAD9-454F-A021-4E539876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5D2EECF0-2451-4507-A9C6-6B89C6B8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44879EA5-5D99-4F58-B6EA-3DFD379A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008E523-0234-4591-BDAA-9D1294AE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ED694B5-281C-4F33-8B6D-9696BC9C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08804-D2AF-443E-A3C7-58BF41A82944}" type="slidenum">
              <a:t>&lt;#&gt;</a:t>
            </a:fld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E8FCD987-CE2A-4832-BFDD-63893F06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0369B4E-A3B7-4114-8B9E-560FAEA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17115D8-9828-48C7-914F-361AC69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825C06F-2658-49FA-BB2D-257C832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0B82A46-AD0E-4EE8-8149-AFADD4E3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18FDC6E4-9EEB-4197-B6D6-A0C2930F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6E0FF73F-604E-4F05-ADA8-3ED3238A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D2D37A7-0B98-4C23-B7BF-00546D29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AD2D167C-3168-4BA7-BCAB-5F575C66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1ED00C5-62CC-4B09-BE8A-96F41820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0FA5D-B905-4822-9FD4-53B8420277F6}" type="slidenum">
              <a:t>&lt;#&gt;</a:t>
            </a:fld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DCC357A-D5A6-408D-8E5C-D253B1E8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5ECDAB44-3D82-428F-B2E1-0489C100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0F3F486-1520-481F-814C-A87F7943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9FF39CF-61BD-411F-9318-C277633E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F8F978C-6877-4486-A7A1-2F03490F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DA8D630B-7800-46F7-A975-0038C57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D5D69E9-623D-41B6-9817-474A4D12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36BE7CA-FBFC-4FE8-B930-30DFF722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4BE7065-D98E-4F0A-B340-DF5A3320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B16AF94-519C-4B8D-BEDB-BCAB0FEE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43D6-33CF-4795-83B2-97235D51F725}" type="slidenum">
              <a:t>&lt;#&gt;</a:t>
            </a:fld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784C369-82D0-476C-8144-E82F0786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1713E40-93E7-493E-90B1-880330CF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75D3732B-1B81-42F7-BD1F-110B76B2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B216543-8C32-4D87-9186-AADBDB58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8B3FABE-49AB-4857-AC81-15BFDF3F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F4D4A96D-E153-49A3-980A-601B2DAC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278466D-8613-47F7-9A76-40A6A041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A23925F-0C38-4E12-85AE-5F4254A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ED574CFB-D57E-48A7-A5FB-E70BFF34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D5E927FE-B76E-47DC-ADA4-F5AAF7D2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7BC0D-AD36-4327-BE37-97AC14F2CECF}" type="slidenum">
              <a:t>&lt;#&gt;</a:t>
            </a:fld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3F2C1BCE-945D-4ADC-AE2A-0E15DDF2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C481740-5D10-4A95-ABD9-A15CE235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2C52BC1A-50AF-4B73-BE45-B89B10A0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50257D39-7F3D-4A39-9FF1-0CD1C4F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03C5604-F210-4E7F-8F54-734B0670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D79C863-2FD2-439E-93DF-80ECEB2C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8503A20-0676-4994-B2D7-2DC98B91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B806FBC-7450-4C11-B89B-D5CE239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5067AAE-E27E-4370-8523-3CEBFE71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41440A8-D012-4052-AB4D-3E94D7C6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CA57-B3CF-4D32-9EB1-583BA4170465}" type="slidenum">
              <a:t>&lt;#&gt;</a:t>
            </a:fld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8EE6DD9-56CF-45CC-ADD9-BFDA826C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D9794B0-F5BF-4A32-9504-8D592C89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CFC92A3-7B25-46F3-AED0-55F08484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D30AA36-3941-45C0-A605-FA00C677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2037E5C-2010-4F71-9B63-3E5DA793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6769C2DC-88A9-4D20-9802-8D52A0E4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11213FC-15AC-4D64-AFA1-B2D5C584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CBD86B9-B02E-4DE8-8F5C-F4EB291A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32708B8-99B1-4B74-B9C4-9449702A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E7A6173-E2BA-400A-8692-676A86EB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CAE40-1758-432C-9F06-DDC6A1D05828}" type="slidenum">
              <a:t>&lt;#&gt;</a:t>
            </a:fld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7E845ED-C33D-4432-868C-7BBB0CA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839BE175-59EC-4A47-85FD-A55DEC7C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0521B1AF-7E7A-4D8F-97EA-3900B478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E82647BF-545B-4F5A-9F97-4CD8AF63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10B022F-F4A5-45B5-9F47-95216449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C86AA9B-3DE5-46F0-B404-D17DFD53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E1E083E-5249-4849-8BB9-5DF2B42F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2085DE9-6297-4B5C-B03B-7768F64C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D84C923-6926-42C4-A3AC-4EF65823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249B55E-3D66-4CD0-A9A3-C6ABD12A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0F8DB-E837-4F5C-AD93-213646B94ACA}" type="slidenum">
              <a:t>&lt;#&gt;</a:t>
            </a:fld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C897065B-1C5C-4ED2-8F1A-BFADBAA2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5154017A-74F5-4EAB-97A3-8FB60EAE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0051BDB6-DD24-46AF-8602-7575A34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E274B9D-1B7B-426D-8501-7AD8B58F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06DE199-6731-4180-8EFB-6372B86B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7701892C-3DEA-4CE7-A5CD-DFF7663C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12342E60-A2BE-4F8A-B01D-795B8448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347BDCB-9832-42E3-8829-3D8DCF91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A8511DD-E236-46F3-9E51-11FAFA8C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D29AB8A-EDAD-4DD6-9FA2-DB2B10CC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07763-6233-4E9F-BF85-7BA9A2534059}" type="slidenum">
              <a:t>&lt;#&gt;</a:t>
            </a:fld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85F9EE3-1650-4ACD-8FF5-FD08834C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7F4A8F91-6A06-4216-AEA4-1234A9C0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60FB981-78FC-4919-85AE-718DF82B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C39F3A2B-E188-47C9-A146-777696E0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C490CBE-55F4-48E1-AB2E-0394C783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B5D50ADD-991A-40BF-9239-21D2EEF6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5BE6DFB-0DCA-4BA8-BD9C-E2C10BAB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394745D7-EF15-42AB-B1C6-21E173E9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AE69E52D-E090-4343-8695-A08587D9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E2B7A0C-280B-49BE-9910-A50906B7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2107B-C384-4DB9-87BE-F17C06197283}" type="slidenum">
              <a:t>&lt;#&gt;</a:t>
            </a:fld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9430BE6A-B020-4345-9E08-17B35CA3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81C4302-B405-448E-A1A2-74D694E2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2295FC8-8459-4D59-9FDE-0987B1B2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36B1B189-5AE5-4773-A8E4-4EFCB4D0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493FA7B-962A-4952-8C09-9D76BCC3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AD87999-6693-4F4A-A44C-7FA7F656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354C1FE-6BB9-4C6E-AA06-B0EBD8C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24F63AB2-EF2D-4EFB-89E8-CB9AC87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CBE2391-8F6E-4E3A-8A80-DF75B1EF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407AFF2E-BDE0-4798-ABF0-787F263A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BB3-FE3E-4A78-AA16-4D08FFCC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0CDD4-4A0A-4023-BB72-E363F042E81C}" type="slidenum">
              <a:t>&lt;#&gt;</a:t>
            </a:fld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533082AB-4D1D-4751-BC80-C5155F6F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CCE5068-A66B-44F0-9912-6790136B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AE5F205F-7AD3-4899-985F-D201D74E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E6E49863-7CFE-46E6-9F1C-88C7D899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5492B93-F9ED-4CC1-8B5F-29D65501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A699E9F-5993-43AE-961F-8921F048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3158C1C-B27B-4232-8E52-71ABBB2E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6CA0C15-C368-43E0-B697-6EE0A1E4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1101E9CC-DE71-4A6F-946E-A93CD2B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DC0A8E64-B18F-4815-8CC8-E0672452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F2263-C83E-466D-9F1C-2CB30611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609A945A-55E8-43DB-8AB1-84E9BAE5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BD21D452-0645-4B6B-A335-473E7EF6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A2CBE1E-4F28-44E3-B31D-C9ED501E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9C799B1-A4E5-488F-8D96-86B1B13C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566535C-2A77-4FC2-BB01-9BE5F6AE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D550933D-0DAB-46AD-9260-47015D5E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98002148-C838-4799-B072-EDB2A8AC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58CE215-96FE-47D6-A62A-21A821F3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E493FD6-720A-42C2-8C6C-E03DE14A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7316702D-A32B-4F40-B304-7FA363C0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CEA309-2416-40D9-B3B8-B80D2F83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729AB61-1CA7-40D4-A7CB-5A686463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CD282EA-51FB-434D-9A79-4B011D22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C62659D-C033-4953-AEA8-C49CC12C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3E48F5A1-3806-4D7B-B762-2CC870EE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7697099-6617-4AC8-A558-698AD3998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3A2F9FC-09CD-4F85-B4E8-110CAA3B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7712241-C2A8-427B-824A-590E7BE5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282DF35-0BA6-4535-8E80-4E0D3C8E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991BB217-256A-4AA2-894A-CFD3C079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F28EE7B-1B62-488A-B375-AB6C01B2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867EF-3440-46A2-AB90-C7CC2544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0DA1C51-4ABF-4EF9-99EF-84110FEC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047849F-5B93-4402-AC7C-60ECFAA2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C14FCC2C-8C4D-4BEF-90E1-13D49C01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38358EB7-2CF8-4E43-AF25-9894E9C4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7432813-BF06-47B6-983E-F4A35D3A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428447D6-2429-477C-91C4-B8A3C426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89364D31-A91D-4DA1-BA50-8A8DBF92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8DEEB7F-7281-4DF8-8E99-CADBF325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CC82898-316C-4771-8304-D161D9F7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8B543E5-78AA-4431-B806-DD7B661F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2AF87B-B6E4-4079-B20D-FB838D91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7996922-8C0A-4F6F-840F-3FAA8BA3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AFB6CE35-C726-439B-8395-384136BC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689BCD5-9CD0-4929-ADB5-355AA199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9F95D9F9-3B33-461D-B7DF-872C2FA2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FBBBB1B-56F0-44A3-A21F-E047AD5B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0E89587-72F6-4EE9-B2B0-56AE2483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70B03DB8-2D7A-46D0-8C9E-5EF502F2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97E749D-FE9A-456F-A241-1C98C953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AB9DE2F-40B9-4D3A-B2B1-A93E760D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CE3F127A-A195-42AD-BFA5-BE8571D4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35EA1-AA26-4FB5-8BAC-9EAF078C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0581861-4CD6-4974-A759-47734FE6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2F8CC0C-BF3B-45DD-9CB1-069498D2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12B78249-11AF-4F39-B868-704E3F71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5D35E48D-42FB-472F-AD1E-5576242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B9C4D7E-38A6-4AB5-ACA6-7CA00ED7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7A2BFD84-77A7-4E75-B3B9-468F4AF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98317DAD-5295-4F16-909A-99EB980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1533AA5-B093-4ED1-927E-BE02FBD4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BA048A0-FE81-47CB-BFFB-9106BD12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B6553D3-6C8E-4207-8A3C-191E0203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BFE2B-80F8-43FE-91D3-C1F27F86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B0C8F0CC-F476-4C20-8D9E-25E14924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D30334-0ABD-4B30-A683-F372C1E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205EC-B003-486D-B685-E02A7203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767A80-A774-4FED-9F80-B3285215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C404-3DB4-44B2-8BD2-B73804A6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F5CCE-3E80-40BC-B5BD-9C7B97D3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18F0F5-AB45-4A07-BECB-777349CD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6967D-378D-4283-BB15-0D7CBBA6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E4FFCE-C09A-4B3C-A60B-2B4BBA57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78D572-28E8-4C11-B7A7-3C744F1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CC3D7-5425-454E-9CC9-1DA9534C3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F23F3-7861-46A6-91AD-4A06C688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7C0A7-D3D4-450D-8909-F41F5650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B031A-8235-418D-89DC-8C3D7493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4941F9-83A1-4018-A4DD-3FDF68DB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9D36-1763-471C-8887-06462922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B6055-B9D5-4C83-BD26-6115353D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0C274-AD45-4C47-A72D-6C25FF0C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CB0CED-EA32-4C7B-812C-2A5C5DB9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7985DC-9ED6-4771-860E-CA5F6DF8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E86CBC-07A9-45FA-9402-8688A90D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D70201-FE42-4E4E-86B1-07686FE9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2A6DBD-B738-47E0-80CA-C1F655C4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77BA97-86DB-4DD3-AB5D-C4F92BE2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932E86-6C54-44F0-A116-B3131D30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D9CC9A-6F0D-483A-B72B-6A850A6F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640-145E-4C8A-86B8-7C06F26D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2E9FEC-E8B9-4CB8-B930-5752BB2B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C08918-B94C-4B0C-B1FC-B6DA6F73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722920-4D60-49F2-B93D-98F5B161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FE1E40-CD1A-4149-BC9F-1EC2A84F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1E5545-8643-42DA-B3D9-63F60C8B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FC862A-5381-4BD7-BFEA-654B2B83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7BF752-AB97-478B-901A-B192176F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D97BA-DCB1-4A2B-B4D3-1BF2EC83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D2B57-D95F-4540-8CDC-DCDB9D4B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2D1D0-184E-4BA0-871F-94907784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2F05-E29F-4410-91EF-75C52079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00D36-BAE4-40D5-B1D7-6572F6F5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283111-42EE-4479-B4B5-63F5416C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48D8CD-2A5D-4DCB-A933-1DD5D76B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F731BC-EE42-4D57-9391-845E330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260FA-13A6-439A-B864-52FF5D4C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899D4B-4865-403E-8BE8-69683C63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765697-05EE-4BFB-80FD-D4A336BB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767D4-183D-49CE-AC5C-39C6E85C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C19CB-7F3A-430D-9404-5E368A67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58E2D7-F37F-4912-BFBE-AEB9A0CB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41FB-357B-4CF0-87B5-A2A7CCB9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D19EBC-F020-43C4-927F-3869DF12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3FF6C2-F4AE-49F1-BD47-04525FFB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243D1D-A162-4364-BD98-70CC45F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BBCDF2-5FFF-43CC-A9F1-BDE40FE0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E4C9DC-94FB-4989-92AD-733F710F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877999-C68B-4CD9-8435-0F0535EF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C476B7-2A73-4D1E-932D-0F0C2060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96D648-BAC3-4DBC-8CAE-0926029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F17885-03D5-48E5-BEBF-AF6C349A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4602805-3CA3-4491-A5CD-B4CEF024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21D9-0C82-48BA-8231-4E3AF0DA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D7CDED-4956-4896-A116-C7FA35D0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7629C6-AB6A-436E-8ED3-B0A3D733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4DF41C-F75B-493A-B441-120A657F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3F581F-ACF8-4701-83F8-DEB64ACF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73466A-39EF-4B3D-831B-CB34D7E3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2C0096-1770-48B1-9303-FE7EB396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7BB725-91D1-4065-907A-D79ABE0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293549-78F6-4E06-B653-6BB1884C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852BA01-F010-425B-A8F1-E4511EDD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3CF37B-7B6B-45FA-B163-7E25E2F4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0B2A-644A-4CFD-90AA-4961AF03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C47D9D-34CB-4F78-8A21-13B010C5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418E30-89BB-474A-A01A-E0A24AD1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389E5C-DE92-4693-AEC3-93FA7750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2B5540-A956-47A0-9502-65D0DB68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C60CC65-CE51-44E4-9AFF-94DE2E4A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CF10AA-4C0E-4B87-8410-BD106B58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28C02B-4B36-4E1D-8D66-C3EDAFDF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DCDAEF2-72F3-457A-BB3C-CAC7FEE5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2B108E-83CF-4147-9DE7-6577D6BD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CF3922B-C2FB-4B23-AC96-61B7592F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46C-EF64-494B-AF4E-79DBB301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36A5-332C-4B6E-A6B0-A0D452F4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040F26C-56D0-4C76-B542-E9AEDF3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F43774-3857-40E1-9813-30E0FC56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1555FF4-F28B-481E-AA88-9597570D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D5DAC45-F954-42AD-A32C-CEB1507C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4B7C74-7E39-4183-8CD7-12F8826D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E47B80-6169-4DBF-855D-1FBE326F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41979C7-2D39-48DC-8C5B-D80505F9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1626DED-DFC7-4E2C-A7B7-A2F32EA5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B47363A-952A-4BE8-99FE-AF047B2A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6A1ABB-4C7E-4A7B-9AF3-E79D2E39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BEB8-9ECE-4326-8A71-2CF9AAD3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28BCA5-F824-4A84-A03D-9936F2F0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3CC8C1-6F73-452F-88AB-EFA3224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6C7C3F-7AC8-4C70-B4AC-9CDC9F2D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F284CA-762C-4F21-8501-DB4D3086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EADD07-EB45-437D-8DB7-17BDA5B0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E02916-B221-4125-9C2F-55BAC957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39AA16-2126-4D93-A0DA-0DD5F4A6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9999C2F-8E04-4251-88A5-3BD5F778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AED69E-FBCB-4B21-B318-F41C9E1D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348266-B430-43DE-9C9B-D336D8A6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F28D-5037-4E85-B5CA-D8397DE9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16FC819-10A2-4F07-9463-534A9CA3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B91D56-EFB2-44F0-9EF4-769A6F7A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BD7EDF1-95DF-467C-BDF9-FEA9084A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E8CA347-6B8F-4492-BE43-BBD5623A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FF28046-1C49-47DE-B99C-CD5E95A5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8AFF3F0-9EEA-4625-84AC-68BD125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7D8987-B66A-4733-98F2-C4274812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2AB6A5D-C9E6-4FF5-A5F5-FD7D1BD8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D4991BE-BD9F-4925-A598-BE41CD7D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A157B1D-E123-46E3-8187-E564095F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E31E-E34F-4967-8754-147B9326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89F0404-968D-4F0E-B901-814C94EB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576F9D1-64E7-4443-B2E7-66E9A66D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501AB2-0EAC-42F6-B3FA-16935A98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E798CC-39C7-4927-804E-4F9110D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24F8D9-781E-4BF9-A580-2502EA85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EAC766-FEDB-4D9F-B49A-55CFB2DB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855663-ACD2-4674-977C-F028B88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486CC2-7B93-4346-B5EA-C8DD6492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62D19BB-3DE3-45CC-882F-39EF5D7F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EFF96EC-FA58-4B2F-AC88-6F543E10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1CAC-666D-4162-B6E0-CDF4BB2E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8B6096-8B6B-414D-8148-5B36FD48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3037EF7-87D7-42DB-ADB4-F8D2CBE9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C59B0D-A921-4D9B-9927-24712670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113460-E99A-46B4-A3AE-F059C70B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C50473F-A8FB-46E7-8166-85FFA82C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BF98F2B-FEE5-45DC-AC6E-1BE50E34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2DB7307-37AE-4810-84A3-9DF41D07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E699E1F-2C4E-4F7D-8CC7-35ECA081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9EE111-C354-40F3-8749-5D6495CC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2EEBC1-8DDC-401D-8802-813EA416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D8F04-E85B-49FB-A0D6-9E5B0756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58A312B-F9AC-4853-976D-20E168AF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83DDB66-15EE-4260-9597-6AF0A0F7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F8197A6-123A-4D30-91C3-2E8436E3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B7A149B-309B-4403-B645-58B5DF1F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1C905E5-8DA9-4888-ABDE-FEB8D34F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26D285-ED9E-4A4A-9CE2-14D24064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6A869EF-39EC-43F0-930C-1FA74A69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31A78B-3FFE-40A3-860A-BB416BB1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EA552C-8791-486F-8114-ABB7944D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A55919A-0938-413D-94A1-85FA295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B83E4-4F92-475A-B5AB-C0AC7AAB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69A9A7-E8F9-4145-9AE3-C7D5B7B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7FA3FFD-0614-4F55-9367-7E0F84D9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6C25EAE-3F12-4F23-90C6-B6043301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E83A752-A6AE-4E01-9FA0-CC861C7E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801943C-E0C1-48A6-80CD-64921B50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819C64-7B4C-48F6-ABE2-F241D5CC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18EC379-1424-4329-AA42-B7105740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1F2BBE-570A-4846-BBE7-6F708AAA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551D565-966A-47D2-BCF5-4278265D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CBC11AC-452A-45A5-B37E-B0D567FB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2AB3-52E4-489B-969D-29C4699E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5D128E-AFA3-43E8-9FF0-B406D4EC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92507D2-2B15-44F5-ADE7-D26C1621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F75462-9830-449A-A920-B3DFD77F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C0C3D31-D809-4EF2-9963-F1B937E5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85AA754-7489-4E24-AD1B-F6B064E4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BC9F2BD-AB7E-4DE9-9E5C-3D71EAA5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100DC2B-6C35-438D-A621-A562603B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6423075-BF2A-46B8-80CC-09C6FDE2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9695701-D033-4137-B4AF-137E8111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5C7919-3D8E-4106-8EAD-8B0A7716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E50A-C7F0-4B8F-9B57-521BC6AA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F6AB355-46B9-49AD-B616-59891FA1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A24974C-75CF-4760-BF9E-4C2BA2BA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FBA8980-3932-4422-86D5-D17344E3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FEE4684-FA06-492B-AC39-28A6F5AD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E8B8BCE-46D6-4988-88F8-25B3BDDA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EDBEE64-1BC2-4BA1-BE63-5E6574A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8A74DE-B80A-424E-80BF-F668CC2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26D63F6-F809-4734-8872-BE1BE970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9E5B674-70D7-414A-85E7-9831C932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63E35CE-ADD1-456C-8A1D-10A5B6D3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A6EA-61AB-44E1-8B03-40C1D82F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BF601E8-E53B-4091-A922-F42A2574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3487222-E1BD-4592-B835-A8C7196D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039E1B1-ED9F-4C07-B7FE-BAE6E54D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E11A575-0F3A-4979-918F-893E83E1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B98D0D8-FEBB-4E70-BB58-786EF810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9EDAA51-5FA4-4078-B1E7-F90CB1D3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AB49BE-2502-42C9-B422-14A4B68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D4ACE8B-8825-4502-B13C-1C15B90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9E9D652-0AF2-4B1A-8DDB-38FC7297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3357DBD-91B3-44E7-9A04-92DB4018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108-01DB-49CA-80B5-B78C2B48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37E36-C75D-45C3-B14A-40B8CB03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D4CD60-5BA4-4681-AE0E-6134FAACD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71C2009-7FA9-4B6D-B76F-1891AAB3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C02C8D-162A-4160-95F5-EFD4FA31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06DE34-E575-4B30-8607-077B6786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88054B-3851-4B60-9CC9-30CD6EBD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63242C2-8B08-45F7-B138-30F830A7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F444439-A0A4-445E-A180-118F3D79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B1A394A-EA39-4163-8A49-C11C913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FEA4DBD-92C6-4835-9396-EF5F13F1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8E46118-35C8-48B2-A35C-38EBC693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E0C4E-7B22-43DB-9AF8-4BB0D03E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E00E977-B03C-4FD8-94C9-01FD9F27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05F69FA-E52D-4C17-A108-E60FAF38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BC5338-DD11-4589-8A29-603E08A9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5F19BA7-2D4C-4D84-A8DF-F30A6977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693DB33-0F31-4D2E-BCC7-018B5E84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178B6ED-5788-485A-A96F-90A4F0B8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6491748-B280-49FE-B3A4-BB0BFE23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82A2824-CC3D-4245-A6A3-F556D8AF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030E737-4178-488A-953F-7AB3584A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36BF056-18EE-430B-8DE5-BC9775FF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0DFFB-96DD-4DC7-A734-AC3327D1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F0A9589-C80B-4A15-8FDA-FC993622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B30842-B011-408D-BD04-7ADD5C1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168399F-2C84-4ED8-B658-43812039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415CDC2-FB6B-4DD7-B4C6-FE6C3A2B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0C3F604-2B49-4D35-B727-F4EEF74A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98B0339-F382-4906-B6A2-23A7C36D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6B99E07-D3A0-4AD3-84D9-90BDC5CA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4FD949-1D63-4177-8C3B-ADC72D6A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EDDDCF3-9336-4713-A324-E4EE0E60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2E4577C-4EEB-4A02-B33B-409F7E22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5ACF-8361-414E-9D71-3C5FB50A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34B9ACF-DA3A-4FDB-9399-1FC2574C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D21921A-24B7-4A04-B4B5-1F35AB5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6E743BF-6DAF-47D4-A7C1-1581D3C9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628416F-6033-4E37-B028-ADE3770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B1A2BFA-71B9-4FCA-B88B-5020F786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C20A957-8140-447D-9244-18F54EFF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1ECC12D-F022-4116-B067-8A17358A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0BB5ABA-0A98-4B75-BF63-0694CF45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5BAEB59-4935-498D-89E4-62E61163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032E051-341A-4525-965B-4C47A491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A36A1-1558-43A8-AF16-0E2FC23C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73C35D7-25F7-4111-8562-D795E24F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67A0299-73EE-4F73-A1E2-0D126BFF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45C4CF0-B7A1-45EC-89F5-605C152C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CDEBE0-309D-4BFA-B347-64C64512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7791F64-8D9A-48AF-92FC-15A573CA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D82F949-ABB5-4113-B37E-39D21C5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6B27525-027D-4D1B-AC58-04FB3406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1238942-7BB8-448F-8DE8-E0C0E038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8449EAD-1258-46A4-9344-737EAAEA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DAC9A9C-BBC0-4891-8598-28D87EDE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3CD5-DEC3-4C8F-8C30-368EBB8C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F4D0926-3D6E-4C63-9620-A714C2F6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83ED1D4-526A-464E-A11C-94FFF46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1286AA7-4D4E-40DC-AA71-CED0AC93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A0ABE56-C633-438A-AE80-F889DF27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71AAF93-5F13-4BAE-B49E-E9E50A6D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906BF03-3074-4696-8FB4-5E72A262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1147627-9050-4EEB-B783-AEEDDD2C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A7B1C78-A7BF-4B16-895E-36AA0DD0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0C1A6D8-7FB6-41D8-82E4-49DC0044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F58B43F-15A6-4CE8-A764-C881359B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7CE74-2BC8-41F8-8D71-53C7D9FE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7C0BB3A-5E88-4631-9BAF-C8DB80CF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F6EF347-229F-445D-A01B-2F8F17A4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B279B8A-C1CF-43CF-9765-06339243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8686ECA-CBC8-4014-8D23-6E119FCE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359B5FF-296C-4FD9-9E83-8056969B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724BAA62-809E-45A1-8A32-642B0EF9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32511AF-C983-43D8-8D13-0DCCF7D4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F8812B3-3BDB-4DA7-8475-08E6CD5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FAB49D2-85A6-4C82-9854-38A6FEA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E3523A7-80AC-4570-9467-037515E4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3B01-3EDB-458C-8741-5E45CBD3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1ED8E58-C1CC-4F40-9112-7215E7F1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E3AAA70-D32C-4AA8-8006-E15B0DB0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44E7AF8-E7EB-444F-A3C7-34E197F8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5DACA06-D1DB-4C34-B0D2-D4F2D534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1D462D2-8F62-45F7-A6D0-FC87646D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B66B3D3-EE47-4348-B8FA-8D8C7BD7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1054DD2-EB59-4E24-BC40-F90CDFD4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C7FDF3D-B477-4892-BFA7-F86E42C8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8E1DB63-B4E4-4036-AD31-F213881B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37D7F66-C9B6-47D7-8CDD-159BF56E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6075E-ADA6-4864-8182-D85F1BDD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A26726F-C4E7-4542-8E27-289022A0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C2F5BFB-1E2A-44FB-964F-7EC5F1FA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2245384-FD1C-4970-ADD1-93138A18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4106AE9-2E2B-4CE8-AD5C-0459D6F8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379D8BA-E8F1-4DCE-9C27-A956264D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100DEE0-C251-47A8-9DB5-FA9B9341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92C1B4DC-30FB-4EE4-A82E-577F6E44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CE7B582-DBE8-4EE5-A9E2-69192A15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9B7154B-81A9-44A1-BA83-C15051AA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0A536F5-4496-436D-9525-556FAE9B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D36D-1F87-4E69-9EF8-27FAF269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D77A644-40D8-4168-AA10-E9962E4A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93C5270-E3E3-4503-BD4B-B94BF8E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F057DCA-B9A9-4C7D-A37A-E0BEBF87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CC8808E-2493-4322-936D-FDE7E6E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A45D7B5-2793-4AF2-A27D-1BF4B344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A28D994-C3E1-42C5-8D37-0578467E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AD3ECE9-547E-49F7-A93F-5B0F7609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302F93F-8E25-4A77-9539-2371A2C2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50C2474-E199-48DC-AC79-1C5884B8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FE82483-074F-4375-847E-69C28664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EBEB-8ECC-4BED-A326-1DFF4ADB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E770-E2B1-4D3C-A23E-9AD59D6F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E70C88A-312B-4869-A23D-FDD9DD8F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627A49B-1304-434F-9E92-D3788F1F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1BDAD83-0F2E-42CA-BA99-05B6B56C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DEFB3C0-EDCC-4EFE-88BD-E4E945BE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2DE3299-A774-4B09-A390-763A505B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05C47FF-424E-46A0-B3A0-88B7097D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4323877-D822-4919-BB83-6E13CFEC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D6AD8A6-CFB0-4546-8A8E-94446B2C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6E620A5-4807-4448-9D66-0B5B7B7E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BCAFF90-F773-42E8-A87B-1F4F384A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22C35-3C02-49AD-A832-C09D2895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5673161-424E-4646-BAC5-49602758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4199237-4536-46ED-BB44-D923E4B5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4EC36AB-2677-43BF-8D6C-E081E2B0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2B0D8FA-E9A7-466F-AF42-1BB2A0B9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B490251-C996-4398-B5D7-15C10B2B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D992EF4-068F-4826-805D-9012A608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8B357E8-10C5-4808-BB18-A51BD64A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09B4906-7205-4E13-BF7C-2C866014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7AE9095-5E7F-43A9-85C7-E65B626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71D8FFC-239A-4BB2-BCB9-AC7DDBC3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7FF9-1015-45A0-BEB3-31DEAFD6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1CF8AAC-7554-41C8-86B7-12D31FAE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0B37510-A9D2-49EC-85DF-47FDD8AB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6B04874-AC66-44B7-9192-7CB1C2FB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F2D3F9A-78C1-498F-A163-917B2CC9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2E5A46F-E4BB-44D7-837A-A56B99E7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81F464E-A090-456E-BED2-9D5D814B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7E2F135-A9EE-45B6-842F-E825F67F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F6DCD27-00F7-4445-9ACB-2E2B22E3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CFE8C90-E9F7-4CC3-A03D-FE184ED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2BC3853-1DF4-44EB-BF6A-5C6F0B4D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22AD4-25DA-4E45-9A6A-261C011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817844F-FB91-4AFF-A7B2-9DE83270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92F3E2B-2550-4740-8038-9A650CDB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75E0431-37C1-48D3-8564-12685C9B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884CEE2-35B4-415D-B262-AC93113C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8C8E6F7-3042-42D0-8B89-F766C3C8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8940F9F-3C28-4DD4-90DA-6D30DAB7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E87386C-9920-4BEB-B1F5-4CD483B8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03A81AD-25E3-45C0-90DE-0C63C6A7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B3A720D-569F-47B6-9B89-7BC437E9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61182FF-956D-42D2-A4D2-615278C0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1BC7-EC20-4031-8ADE-AD9BC411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8344A92-4972-4705-9EA7-FB4741D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57420A5-5556-49DA-8193-EF4E2545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1A4C8EE-443E-42CE-88D2-4986E421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F6558D3-BED2-4508-8F22-6CE1B832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0591AA5-3BA1-4DD5-8B9C-053BD6D0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A83D1B0-1D99-449B-82A2-F6424D3D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A76A76B-7DA1-4434-A908-30EE7D59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3DA4B69-E527-4AF6-989C-D8430177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2996716-AA5A-4707-9999-2F991007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9306B84-2441-4372-AF7F-D85CB903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C4813-690E-4A28-800B-AA61DF0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A065968-C33B-43FA-BA54-CBBEFA3D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104BEF3-AC3F-4167-92B8-CBE6BC91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A0A0443-3955-4656-B8CE-A9187D6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9472909-C0E0-4D94-9149-95D11F52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9B705D8-7CE8-4415-83FD-59EDBB2A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48E8C64-9841-4698-B4DA-AE1AA56D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0D23E80-D45C-4AE1-8348-22DE44E8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9F42B11E-E880-44C1-8E06-064548CE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6F64FAB-0582-4013-AF22-BB60793B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9B69318-3410-4EA5-87DC-8F14F751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CFD34-3E82-46AF-813E-52CCA10D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C35972E-577B-4FBE-AAC4-57459869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F57F7F3-7F77-4170-99D4-95C95331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0397146-0F74-47D4-BAA1-33663221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6EA1D97-E09A-4F25-ACF1-F53E767D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23AB8A7-2B93-41E7-8D22-48A48536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C865220-D5B6-4F5D-87F8-BDF24465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41E4B49-18A6-4AEF-A2D3-74DDC1E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283405E-D432-4320-AC1E-B0AEFF79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C4C8F65-D8F2-43F0-9275-DE3C1E82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B9C4AAB-8663-4E20-A3A6-F9F5FF92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C2E9-387B-4DAB-9C69-7C1F5556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9207AF6-B027-441A-A6AE-F76BACC0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F11F971-D92B-4C1C-BE14-C8AA1DDA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FE76794-1C7E-40AF-A735-77300094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EB19ABF-7D6D-4479-88B6-9E7158A2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FE9CB5D-2C04-4A84-B4BA-A29DCF2E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4B8746A-0392-4D24-B47D-F4FCC64D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34BBD87-6C13-41AA-A8F5-78A0527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E431A0C-C7F9-4D77-ADF8-5C34FFAA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5B052F4-2E7D-4BFE-AF56-F5F69506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7D3FBAA-A207-4CE4-94BE-3F1E11F2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ABA8-34A8-450B-B556-757B4B58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C24AA47-1ECC-4ADD-8202-6F25CC3F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58D1A1D-BFC0-4CF3-BB48-53F1122A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750FC02-C565-4B31-8575-9C6F7261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1D585EE-C5AC-4CDF-B397-C8D71D39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8C5494F0-899C-4D82-9232-85173CBF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DC4EAA7-2C92-428F-9B6A-50E26024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DD0D331-D60A-4319-8131-B72A0FFF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165B132-CE40-4508-8BBC-BC7C04E3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3F2F6B7-5D46-4BAF-BA50-444FABA5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CC63467-C9B0-47A2-A504-6A37D82E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B47BA-E616-4879-AB70-C27F2E39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420840C-2418-478B-B8CB-B103DFE0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CADEBC0-857D-4CDD-98CF-798C52F23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84075B8-4C6A-4A7A-A919-30AB935A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73E1958-BAC8-4BD4-9AE3-DCF49F1B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3A14868-1E51-47F7-962D-571B97C1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196C83D-152D-4810-86E8-20C91546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418DA72-759B-411C-A5FF-3AAA7EAF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C3AAFFC-0170-4D4D-A80B-05BC3B42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7B299C4-8FD7-44C0-8484-8741F2F2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988C69F-A356-423F-9AEB-1840867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2F1-DB77-4B91-9CF3-62870F34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4D53F-919F-44DF-97AD-24CC53A7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5971B1B-CFBC-47FA-BB76-C6C7D5B9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5C7DC7F-6C4B-44E7-AF81-903E1872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5508DCB-D412-4173-B34D-42484227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8BBF803-9F68-4F05-BCF2-2EFBE7DF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DBB395D-5B82-4F82-914E-5E3B3974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11BE075-5D53-4036-9570-F4058F73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0646D7D-9597-40FB-98EE-4E9BEC1E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73156BD-3169-4D1C-B9B2-0CB5D9E7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3777D47-C929-495B-932C-313EF03B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785D4A6-261C-4A4F-BC45-75EC78FF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995D6-A768-46F9-BF7D-6904F9F4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B9A6091-02F5-45BD-BAB7-906D11F8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216C36AE-C5F0-4B56-B4C5-7DE8847E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DDB9C5B-5ACA-4CB2-ABE2-B44B303D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366163F-95C7-490C-A589-F8ECD979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76070CC-3341-4A2C-884C-2E5B2C4C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C7879E3-104B-40FF-915B-00C7E8E6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D057768-713E-4809-970E-621F1F81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884A562-88E8-4770-A13A-B3C0D726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C4313F7-DC9F-4D3E-9F38-5B2DA95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0188255-AF56-4250-A3A6-D9537A31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D2DEB-3A7C-4F5C-8B7B-EE3D319C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9C93377-7827-4829-BCB9-7A102715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10C840A-C939-41D8-915E-692C9230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C2F5233-A0AD-4796-87D4-065CBD25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3D4C9EA-467D-4F30-A366-AB4B0EFD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0399A8C-B2D2-4178-946A-23B6C134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8F37F43-DDC4-4E23-B5DF-285FD4F2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EB85BF7-5AF3-4D22-9F01-DC0AD0E3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E7BF458-FD27-40AE-AD2D-6438A082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319ADA0-DE36-4F79-B915-B5B6E154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691F966-8EAD-4226-BFD6-ECE24A5E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7B88-AB17-41F9-98BB-AEDD4D04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8893F94-59BC-4DB2-B051-E4B7850E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2A8312B-D9FA-401D-999C-2A001603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0E38E1D-2FB3-4E15-90C3-7145A6B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3056E07-3582-4DCF-BD65-AB69F3FB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B44160E-DD79-4BB4-A936-DA18E7DF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63C9E7C-6C72-41DF-BC92-808EFC46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5E79821-B8B4-4D87-A7F4-38171B51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A2FD040-F735-45AF-8873-E2CEFC66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00A51886-E9FD-4665-A4D1-6D863254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AF2B362-FCEC-442A-9B1D-208A62AE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A4B63-08DD-4145-98EA-4A6D8F72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EE258AA-84D0-41B0-8606-75456B40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4969DB6-7916-45EA-926A-D4069784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8C3BC70-2891-4C51-BDD2-69A25D15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D54BC40-F02A-4F43-BF7E-67CF51B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EE2F4C4-FE14-4C22-81FC-BC215A3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5FF46F5-F7C6-4357-ABC6-FB4F6B47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E52472A-CA13-45FA-B6BD-115FCA9D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1C1D8C0-7698-4325-A1DC-38ECB573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5C939BE-638A-4453-B3FE-95EA8409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D2F1746-3ABA-4418-8DB7-EDBFF6E2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2D02-F1C9-434D-8CCA-C09F3F9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E804FE6-6528-4F7A-AF3D-164E7397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0C8E8CB-27A1-4EC9-A60E-4B9A4834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F8B3A8DA-266C-4F78-B7D4-170B4155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FE5C3E6-EB23-4AB8-A867-C5E9D07D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F4C23E6-6078-422A-AFA9-3A37F1C9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991BF777-9770-4940-8D5E-E7EEC17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DED3DC7-8555-43C4-92DF-D9824B2D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B2A3D95-3DF5-44BC-9837-C29937A3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B40062C-B976-4C57-8CD8-374FF3E9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B7DAEABA-D25D-41F9-B8AA-016C641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7FD45-1E9E-472A-AAD4-2071A995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9DC301B-03A1-45F4-9242-A9069444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100893F-0A72-479B-8B12-48B027A0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8B26068-0764-406D-B0D3-21204DCE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01531E6-68EC-4219-A4A2-F89B34D8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E52315F-D8C4-4DCC-AD0A-460C0718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EC296-FE85-468C-B907-4C330467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989A7-97B5-4981-9762-76B37467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68B11-372C-4CB2-936B-1D590172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68E-1160-4144-B13E-40F836D8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3352-51F2-4740-8185-8FCB0C8FE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77C8C-7EC2-4A19-A7A0-4835B869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57C9-CFD7-46D4-BB63-432EABFC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7C231-E2A9-41CA-AD23-84CEF100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90A5CD5-B5DA-4B0D-9D33-5F03EBC7D447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F16BA04-E4C4-4F44-B9D6-4834A15BF92B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8C874F7-6615-42EB-BC19-FE0110676DD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BCABB-A07F-433C-8816-629EB897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7DDDF55-3B39-4550-8FA0-4244E49C0C46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04649A4-5969-46B0-BAE9-250D90474CD6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902FFDE-4F8A-4A10-83B5-78D5A8101053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CE39413-5EFE-4D3E-B8E7-C2376D629C33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9DA2B5F-AC79-4A6D-AAC5-F9BB7F680432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88D2ADA-8A14-4A6D-85B4-845BB98E1129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2A907BE-B0DB-4AD6-88D3-F4C63959D203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F099E0F-E8F4-4C25-BBD1-9873B73B4F3C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6C5E983-D01D-41E4-8FB2-3D996662648C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2D22698-7F02-4C87-82A8-DA6E1C0E3BE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033B9-5408-47F7-A6E1-D8F03093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653D8C2-257F-49FF-89C3-F346CD620B07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CDAEF80-2187-437F-A9DD-2CC613C1BD08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0575DF8-69B0-4D12-BDA2-18710E4654DC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9719219-5150-4148-8B51-D92326A174A5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98BAB1E-2486-4098-AC87-A625CFBF5BB3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61FF518-BA66-459A-8CF8-0499890123E2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EE806BA9-A3B2-4FCD-8791-C547F3326F1C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170EA0B-7E3F-481C-87EE-31CA9D47C112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1DDD627-FEA7-4EE6-8D3E-E454D6DE96E1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4C85E5A-8A3D-428B-B922-22FF16D9DA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7594D-3E92-4F1A-A504-0ADED9AE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87A9688-4780-4EC0-8C1A-72DE2ADAB87B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A335A9-78D4-41E0-BCEB-15C60DE6AF6E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A066CE-660C-41DB-BAF6-B4EF0820AE1C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A19881-DD21-43A5-BF8F-807424966D03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979E29-7D0B-4AF0-B287-CDB9560A014F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8AA6486-B43D-4899-80C1-ED40158FB3BB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96BBA0E-4BF3-4C5C-9B6F-0852CD28C50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4BB5665-8603-4E80-B191-EFC77546275D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9D7FD3-76F3-46A8-99FD-108D08027988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B6CCB6D-3E89-43B7-9175-337B7072E33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BE517-A889-4E93-BBD8-AC0B96B6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E5F076-31F0-48EA-BF47-47150DAD1CC4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531B4AB-7FE1-4B46-880E-A78BFFB60BE1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6970229-1D4A-4558-B7B9-0ACD3E3693B4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16F82C8-34B4-40EB-9333-12E77B2E85C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276C7EC-7118-4B82-875F-3E029C1939EB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A0B0D03-2FFC-4503-854C-C7BDB87F0135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B7E13CB-30EC-4EA8-B38F-A3DB6003889A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37B752D-0F80-48D7-AC7F-C193350E54CD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FFBA8B2-5601-43A1-99AA-10F4E8AE589F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F76DFB5-38CF-49EE-B6CE-AB1C56236A9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EA3A5-EE40-40EE-9E8A-384DBEA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0F3B8A1-8424-450F-9132-A393B8FC43C0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1ED75A6-EC78-48B0-B065-99C26F9C598D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BC0984C-01F2-47B0-B0B3-5FAE2101B3E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B1E1C89-7F00-4EBB-8E07-0EB24714C057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389136E-A736-482C-8D3D-160D2A31A3D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EF1FC7D-C0E4-46BA-B824-DF4485E0273A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3CF2567B-8F17-4EF0-9AE5-747A0A23AF69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FD6A1BD-2D5D-4D59-97AC-3EA595239FC1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C0275F1-7CDE-42AF-B18C-573441CF0E40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DFE0E40-F23A-45CC-94FB-F40B959D6E2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8646-1219-411E-AFC3-DD6844B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807F854-B383-41D3-8E69-9B7940C513C3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CA58971-81C8-4DBC-8D6E-8ABC3B9C3F63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9C08CFA-9BC0-4DA2-A6A0-9C37AC4A199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4344776-85D5-4353-A42E-7AFDDF3740BE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8A21007-6FF6-496D-9CB4-07553C74A54B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A115974-76C2-4E1F-8B79-9DBC7865688D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398CEF6-8F40-48A1-88C9-82CE917FFD84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3C2F344-C1E2-4541-846D-6ECC24F4329C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EB688AC-6BD9-4C99-AF87-075164508FF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78C90E6-D983-4689-8C92-47D328648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797-0EBD-41F6-A3EB-2469544C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A8E97-A0A2-4BDF-9A83-060F7B02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57D1CC-27CF-46C8-B786-D010144D08D3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D662CC-F180-4A1D-A27E-F1A74D323265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1F9308F-D5ED-45F1-88AC-91F70553125D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B7797C9-6CB0-43BC-88D0-3B5E9F801CB2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2E5EF4A-6C12-4F4C-8D81-69D0950E7289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1C1B3E0-FD35-4A93-813A-649BBAD94B97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7FCC654-1984-4CCF-B779-F56E881B2F8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336383-80E3-4266-8977-08017F8F49CD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F340B5-8440-4541-BC5B-69A629B83A43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8672493-7D46-4BD8-B72F-3B03477EF45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C39E0-23A5-43D5-B990-FC2C2796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8BBE81F-D4B8-45F3-96A3-1F2EDC10D1D2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7C4DE0A-5BBB-440B-BBA9-F3520EF7476B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5EB5562-9A5C-4ACA-8934-5CC4259869CF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904E9BC-F1D5-4619-AEEA-0347823E43C2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E4780DB-A0D9-446E-8591-85C78A0EE515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46D8541-66C1-4D80-8D60-0466E6ED39A0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4700404-2BEF-4D40-85E4-DBF9AED0DC8C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B66E756-149F-4E88-98B3-6F234F8BCFAE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5ED9684-ABAD-4AB4-B18A-35863B6115D5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A17FF00-C2BE-4C5E-BD8F-A2494034BFE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11491-4072-4A62-B5AB-9E9557F8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B3EB8CC-8004-4035-8AB9-1817E1C7D3B8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850A843-7429-4AE0-9AD5-AE5EDB70EBBD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9A5BECE-E3C0-4758-B1B0-7816E82FE4C1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11136BA-639D-4E01-B52D-A1D56D532F95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77C90A3-ACE2-4D30-98E0-A9DC834E737A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44B46597-9A4F-44FA-B90A-CFC03320AB96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1D9CE8E-0FEB-4E5C-92E4-D826F822E80B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47C6F32-D89C-4391-AFCC-66073F3B4EAF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B3C2B49-73D3-4335-8E88-1F3112ED84A5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4EFCDAE-ECB0-4D39-B122-15FFA023AE7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0CA927F-CC43-4315-A413-32BE69A4EC3B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28A878F-21A0-464A-9906-BEAEEEE4395B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B51866E-1AC0-4AA7-9D5E-B44DF90A8C7A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C5AD95F-D10F-476D-945C-0C0A2AAE5E14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26E803B-ED9E-4EB6-B79E-23F25677B6F3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E63DA95-081F-45AE-96E1-63F43FC67A33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CE9086F-1CF9-48B0-8CDC-2C416EC86852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C8B5EF7-7C34-4931-B622-29A5FCE205A2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232680D-5CB3-4D34-8278-0FCDD7282482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FCC5FA-4935-4601-B632-61BD3199F6D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E35A4A1-4E6F-40B7-AB8E-EB93E038FB72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EE14474-0F94-420B-B3AC-F3BBFE13E272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02FBB9B-F939-4E10-A1EB-CB94DD51B500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2464DA7-2183-45E2-98EA-B19CD4593F82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9573C83-A7BC-4EC2-8D5F-6B61FBFAD53C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17887E1-DAFC-4775-BB83-262876549FA9}" type="slidenum">
              <a:t>&lt;#&gt;</a:t>
            </a:fld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AC7EB61-C5D4-47AE-A91C-B924125FCB51}" type="slidenum">
              <a:t>&lt;#&gt;</a:t>
            </a:fld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A99EA55-3580-48C6-980C-EF970D224513}" type="slidenum">
              <a:t>&lt;#&gt;</a:t>
            </a:fld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6DF733F-5990-4A92-A7FD-9C3312BFF20F}" type="slidenum">
              <a:t>&lt;#&gt;</a:t>
            </a:fld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322785C-4497-4D17-84AE-D6F2146A719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E0563C9-C473-47D6-9F1C-E6BF0F45C6F1}" type="slidenum">
              <a:t>&lt;#&gt;</a:t>
            </a:fld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2F1AE4B-E04E-4394-BDC0-2228B499FEAB}" type="slidenum">
              <a:t>&lt;#&gt;</a:t>
            </a:fld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B41D045-5907-4CC9-B4A4-BD2B569B1138}" type="slidenum">
              <a:t>&lt;#&gt;</a:t>
            </a:fld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0DB293E-3671-43F7-A3CE-1E184201731B}" type="slidenum">
              <a:t>&lt;#&gt;</a:t>
            </a:fld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A4B9107-CE49-4094-AE6F-17A8A0DE3B14}" type="slidenum">
              <a:t>&lt;#&gt;</a:t>
            </a:fld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2C0D81B-520E-4BA5-A21C-3EBAA390F13C}" type="slidenum">
              <a:t>&lt;#&gt;</a:t>
            </a:fld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6E988F1F-E142-49F3-BBB8-E4D1DE7CBECF}" type="slidenum">
              <a:t>&lt;#&gt;</a:t>
            </a:fld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6B9E272-A988-4139-AF5A-D932CA011272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6FC1AED-3156-41B5-81AD-4E9C9FEF670B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8721CF9-0B33-4E00-A940-B1EF9041B67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8B38D19-9909-4C1D-819D-7617C91194EE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B90BD84E-1C63-48F9-9E0F-290F0A621416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C4532B44-7D1B-4023-9B1F-64299FC2600B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4A23483-E742-451C-93F3-C279400008F1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7480F3B-7BAE-4442-9EF9-AC9E394667B2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8F48597-95A6-4224-B246-7990CCEDFD08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96568D09-F185-485D-A70C-CF7DB175879D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5E7EB6D-C135-4CCC-8AE6-0D1A05DA6995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21DEFCC-3DCC-4D31-8827-391E31535250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20938B9-3FAC-4027-8060-42F13096989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92992D-FA79-412F-921E-7194D3B19D71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5FF43A1-32EA-4C1B-AC57-D04D6D13DFE3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55B237-5A03-4087-8A2E-DD1EE758388A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E4086DF-89E9-46E2-B97D-4E66EBA29276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EB77D2F-97F9-4FB3-8E48-4F2B206CB46E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B91E1E0-C471-4CD5-8B7B-D07BE2737481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D3A5CF4-EC52-4E41-8B83-0F8E0423130F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CAA1773-67CB-4C43-9319-4C19B19C41CD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082F12D-D5E2-4BDB-AF77-7015DB8BB879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2E1A815-A631-40E9-9EA6-1A90BC1C9A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176E995-38B1-4EE3-84F8-F81F6FD99168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8B513B1-5A47-4A98-8C84-6D9AE99052DB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E12B4E5-C421-4EBD-AD4B-1D9B8641F214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0603D31-78F9-484C-830A-2406E34E9734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8AC308E-8D18-4F88-BAE1-2D8464055339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686CA02-5F25-43CB-80B0-525CC5BA52A7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C560DAC-2687-420C-8B6D-3624679DCCFF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12F04FA-0EB3-4ADC-9955-3F83A07A7F47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3224383B-02E8-4D9C-A703-C6F542311159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8A7ED0B-F6C0-48F6-8C4B-EFB34BEBA25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1623728-8152-4E95-9CAC-45DDDFED9417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AFAF1AE-6E74-48C9-895E-D9B0F90A9D47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8A86D98-A76D-4B35-AF2E-B038D4C03EBB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F49480B-B130-49FD-952E-3C963067E8A3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DF49016-188E-4A23-A14C-56AF6B3CA98B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ED881F5-5199-4367-A540-261067B17334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2FF1A05-FD5D-475B-A934-66AF0281CEC2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24D7FE1-2FAF-4945-A9A9-46F5668C4430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036207F-35DD-46FF-9936-CFF33FE59521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CA21FD7-85B9-41FA-8CE2-81BD49E5C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686-900B-4C25-8AF0-6C93BC3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5B69E17-31BB-4805-8923-8A3844FE8E16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6819111-9884-4140-8109-378BB2B67D4A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DF001EE-6F26-498D-B824-A434893D65D9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2EB27B0-9811-4BD4-80F6-C3B3A7C3D37B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B50277C8-1AE7-45BC-A050-066340B657D0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76F2E72-D89B-43F4-9E88-CDFDF8092B84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FC90659-F676-4F3C-AEA1-149235EFF3E7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2F1E335-3A19-4BA9-8DE5-3343549FBDD1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295ED9A-BE46-4FCF-B464-FD763D609F0E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AA98AA6-8E63-4AD8-A63C-EF909A51137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AB4078-4EC8-47AA-9D42-F038A76FC3A3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77B6B35-F368-43E1-826F-A01756D31B73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88D834D-1338-4F1F-BB41-0FCD9DC60CA9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441E3CD-D693-41A0-B16D-9996A40CB2B3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70CEC79-A7A3-4C74-8124-6785B65DEC29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6230296-430D-4773-9995-B54730F06DEE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CA0E481-56AF-4170-B3A2-1E2E40F5B066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67EECE4-02FE-4DDA-814C-A6E5A62CA0DF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2231A70C-64BE-4C58-9688-323F2949AF5E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6C74348-BE97-4A2B-95C1-F086E9A2EC7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8179C49-3F64-44A9-A68C-440A1125D8C5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1E2BF34A-A29A-4C9F-9382-6EBF62AD6D65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3B15D66-4DAA-4587-979F-41B78CA642BE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EC22D32-165D-4C13-A6CB-29D69D769B4A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95FA224-BBB2-4DAF-B98F-633E237275CB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A1844DB4-58F0-43A7-96A6-F272AE57DE61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1FAA6F01-5097-496D-AC41-D22C8C5097DF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2D4C2E2-4B09-49CA-BAD2-FEA8C2AED9AB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18223CA0-1D82-4CCC-9DED-A44D54BFB2B8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FC7BB1E-D473-4AFF-9861-6F2B63E4E76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CED4894A-BFCC-417A-80FC-7883EFC48D1D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4FB5E98-900D-40E7-A64F-6330842C40E9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3923E20-B17E-4BA2-B3CD-7E1A678344B7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7CA74A2-D52E-469D-8955-4DA129E0DBEF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F377AD3-B25A-430A-A58F-59394D79796E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E640851-8F3D-4929-82E7-627A43DEDBF2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151C185-D270-4805-883F-DE8C130CD25B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57E39265-9ABC-487E-8CD2-FD331D5D50C1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0DB600D-6E89-4D04-BFB2-1D3ECD654A05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4E061E62-C1D6-4770-B239-2DAC883FA99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89886F0D-0D91-44C2-8E3F-E939A3CFF205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068EE57-33B6-44F5-BE16-09B6912EE1CC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4DF826F-F932-4775-A645-1E9F89F491A9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51709C5-FE98-41AA-816F-599321C52261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74630C2-3AE1-4099-99F3-D06AD8A54776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7D01D9F-B803-4972-8386-EBFA13E3CF33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071504B-44CD-4522-9D18-1EDAF6FDC3A6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F4FF558-8A38-4952-85CC-9F389BC84CD9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63C251-68CA-40EF-A4D9-39E4746F6884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5280DA7-563B-4F88-9F3E-EF58F722D4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28DA38A-B84A-40E6-A833-C99144D314B9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F5C609-CB1D-4C7C-8C97-6EE4F044BC64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3D6B900-70D1-4A8D-8D54-AB595DD6C14A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8317DF2B-3288-468F-B433-1F33B17ED6A5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CDFA364-9A08-41F2-9D7B-4490FC6FE6AE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FE26DA05-8048-49E0-9C81-F0E5019D2219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6D92563-50D7-4ECA-8BC4-F7EFA5641A11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DC8BA0E7-5403-451E-84EB-0331C90D29D4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904863C1-692A-42A3-B2DE-660524ABBF1D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CCAE352-9C45-4559-9DE3-9B567E393C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064F000F-A587-4312-8EFA-10030D68EDB1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5E25AEE-AAA1-4223-A84C-6F4DD0C7E4C5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FCEB1BD8-5068-4692-B522-99C3FE63E9F4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0E33C7B-E437-42E5-A255-6DF04B428C63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8C6B1DC9-B4BE-428B-A739-B426601D9519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CEB468B-D480-47F0-8D10-C93F0D1BB381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63C667B-0CED-44CD-AA6D-2C8BBA9C0C10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D0B37F7-7CB3-426C-A473-ACD2ECEDE0B3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F89D05F-B1BF-4BF2-81C2-9DE9E93F0B13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1DF4C9A-FFA9-4FD0-BDF7-4DE82746358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99A5364-0BA0-4AFB-B83B-DC2AB19601B2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DDC978D-0EE5-4262-9507-2FFC4CAAE40C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640D775-6B96-4BD3-A7B4-335E3D66196C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A4CE124-F56E-4F83-99B4-58E0C1553FF9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ECDA609-82E2-48BB-BAA6-B7F6C21ADA0E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B94B7C2-9169-467B-A667-939CB26CA657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741CA8E-8D33-4BF0-A987-2AB8B3D3164D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C015F80-61FE-4A9E-9C01-FFE68EF43223}" type="slidenum">
              <a:t>&lt;#&gt;</a:t>
            </a:fld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8C79832-703B-4C12-8580-879C61AC5FCA}" type="slidenum">
              <a:t>&lt;#&gt;</a:t>
            </a:fld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06802D-6837-44B6-A360-4B11DF75A2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9A84017-A7E3-45C4-B728-9E27E4794063}" type="slidenum">
              <a:t>&lt;#&gt;</a:t>
            </a:fld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4F0DF70-D8BA-4496-93D0-4C835BA6715B}" type="slidenum">
              <a:t>&lt;#&gt;</a:t>
            </a:fld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EC1ECA0-CA21-44E6-9DC2-56543B4FB375}" type="slidenum">
              <a:t>&lt;#&gt;</a:t>
            </a:fld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3EC9601-B63D-46A8-AF7D-E6B5E095D334}" type="slidenum">
              <a:t>&lt;#&gt;</a:t>
            </a:fld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E129374-E78C-4D1D-9C31-0ECE1170AAA6}" type="slidenum">
              <a:t>&lt;#&gt;</a:t>
            </a:fld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A25D84A-6D3D-44D0-9A07-87D19EA6FC7E}" type="slidenum">
              <a:t>&lt;#&gt;</a:t>
            </a:fld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B30C79E-37F3-4C19-B227-09574E71390F}" type="slidenum">
              <a:t>&lt;#&gt;</a:t>
            </a:fld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6F2CF6E-E503-4539-9942-5E2B0194E765}" type="slidenum">
              <a:t>&lt;#&gt;</a:t>
            </a:fld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E3CB16F-ADF0-4028-B21A-B100FF8A0FE8}" type="slidenum">
              <a:t>&lt;#&gt;</a:t>
            </a:fld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DD4125A-BE9D-48F9-9800-15E7779DE4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96BCB80-80AB-45D8-8B30-4D7440D58716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1AC2F26-17AE-4145-9509-68B87DF6497A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175AE30-6717-4185-9CC4-0FE3E25F18AC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4541431-666B-4E8E-A26B-F1BB0E1C5B84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F245568-1D1D-4E34-8C55-69CF09EA77FD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34F2B1B-0BEE-4E5D-9E11-103EB87C5592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21AE8BD-652E-44FF-AD81-31E25284373B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6497513-1703-42C3-B926-65B6408A613E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E545D307-EA37-4E86-A7E3-6CD93A771D6E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AD5B30F-0B0A-4531-AA22-0A894E0EF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131-57FD-4AE7-B700-10B6D525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D4CD9C3-EB87-47C7-9530-1A55169325A0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F6A62C1-3F96-45DE-BC04-6EAF9D17EC46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2D6298D-A598-47EF-BDC3-1F3604FBB931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006BD98-582D-48A7-8B2A-FE5B13F20F25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9E498391-2CE1-4BA8-A0FF-3B6B4AC9FD49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FEC582B-D971-4C5C-88C0-985BC28146CF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30B6D07-F400-49D0-83DA-53F93D5A82A0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89E1EE53-900F-4822-86C5-3C014D43D862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46AE300-17DF-4A5B-BFA9-A9A7835CF786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5CF2786D-017F-438B-AC1A-F24AC1549C3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ECBD325-E4F2-49B6-8385-444A4BD1AEB3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90CD147-CD78-44E1-B759-28959E7C2216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D601C94-1CCA-4904-883E-C7279ADD39D6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59CCD38-C762-43FA-81DD-E1D2C3185C71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2E3CF7E-DEC7-4F09-ACBE-14C7EC87F3A9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307403D-B174-4543-B06C-65B2DB9A78F0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C118120-C271-4A43-AA98-049426EFF856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954E4E6-712A-4AEE-AE79-DF4DECADF1BC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3C07202-7FCF-411D-A79F-A206FECF9893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55CAD6D-5B5E-4359-93D5-1BCCAB24B90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0A90021-CAC0-4683-BB79-54125AE889EC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50F348E-D745-416F-A9D3-C1A10070A906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8A07E97-290F-43A0-AAF6-C97EEE348C7C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5438741-2239-4397-BA5C-CDA556126F9B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4EAAD1E-EEB1-4776-825B-A976B9C0542C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A3B562A-7FA3-42E7-980F-9F4FAA3F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36CE3DC-229B-40CC-9AD1-F757DAEA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87FB05B-3E59-48F8-A997-B4802DBD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AD1263A-F2AD-4F27-AF48-70C38548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2DF997BE-13FC-49F9-BB94-0D9CBFD1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B7E79447-9914-455E-ABC8-5474DF60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48DDEBC-BD6D-4500-80AC-9E14E380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F981B92-F3D6-4302-9BC1-0B93428A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D302528-0B95-4F7A-9FB2-69D825AB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0A0A8CAC-D650-4C8F-87A2-DA61F8A1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523CD03-ED35-4F2F-9D55-95221CBE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77268F3-5792-454B-BA39-4BA0AE72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12CB8C6-94A7-483E-AF17-822D4CB0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0E65C78-AD15-4790-B64B-385C3A6C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21A30C0-B21E-4BF1-99EF-1B6A5BA3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24AF901E-1050-4A6D-883C-E7C9CE8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46E5A68-8545-46CF-89A3-854C0657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F646C5D-E1D8-44FD-B928-92B14809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F602D81-0FC0-4CA2-91B3-5F009646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77D0316-10CC-4D9A-AF9D-002AB5AD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BC595E4-179C-4D79-9B0F-43ECE53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C3EB8E1-9FCF-409A-BADE-6DF0F588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E55EFFAD-C86E-4ACC-91BD-A65DBB80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D31CC5E-6589-4E01-B57D-C4D6ED19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CAA5FB1-42BE-4778-998F-CDBA637A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8E4F79E-6101-4C71-BFDF-15878667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EB77D83-FB50-4897-9B94-5A9C7A09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CC74526-0237-40D0-9092-2D09C30A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3CB194D-8B3A-4C45-B2BC-A36AD9FF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3C174FA-8607-4258-9F60-D6C3D7D3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D7A9FCCD-8E51-4463-875B-74A25B46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43ADE9EF-A115-4B81-A08E-2AD1E529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5760F42-5F58-4A87-B135-39616365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D40BC2E-92A6-4286-9303-E1B7C2B1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A690E66-44CF-4CBB-8EAF-6E3665AB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890BD20-D643-4BF8-81CB-48838755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45052DE0-7D39-4B09-8CDA-4A49E30D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3DE2F8D-6633-4171-AA8F-DC0ABF15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FAFAAB81-83E3-4522-9AED-722C6BD9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91B78BC-52CA-4C3B-91EA-CC7B4DC0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AA077A70-06EC-42AC-B2B4-EC4E7EC4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EC24DFB8-E731-4E2D-80D3-55500589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CCD5A7F-739D-475E-954C-3CDAC55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D8428D2-35F3-43B5-905E-07267B7E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81BEFD0E-2B9F-4189-B5B2-9F48B64D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09B95B-FF2E-4542-9894-F7FE234B0081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E3EE0FC-7BB1-4804-8CF5-B054F38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C97BCEB6-AB24-4325-A38A-67913FE7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9B88225-83AC-4626-AE25-CFAD8989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C666D29-8A8D-4B62-A1DB-93D6D771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8D313EA-3A41-4737-BC6A-507F0C81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00DE2741-C3E5-4A20-B7B2-A3BD9C94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304FF17-DFB8-408D-951F-31412790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F99CF8DB-6656-471B-847A-00B99E0A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9C1068FC-4FD2-4AB4-AEA0-6EA8A6BB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17B43269-D87D-4616-B124-3ABD4DC7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D79871-70B2-4DD9-BB2A-E49E8972FB59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5282ECF-D3B4-4D36-8119-B7B09BB9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C08AFE2-D71E-4E24-BF06-DA2FE07D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0713810-4444-4CCB-9C2E-179CDF1D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083C849-71E2-4F7D-8C92-5ED9B4F0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EEC220F6-4456-4560-AE22-6C4A7B33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9F783E5-F36B-489D-B98D-5C683908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0DB82137-F355-41D1-BC94-2613C4AB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4F62133-3A71-442A-9607-A51AB0DE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3DE64E34-1CA8-4CE4-9E87-8BDB2DC2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8E26568-CD95-482D-AC2A-F3319C81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2C7A8E-5C15-4632-B8FE-D2B17563C1A4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0651C84-B65A-4F99-A443-69FC92A9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FF8D1833-8501-40C6-9BDA-70841B1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62F27FCE-15E2-4790-AE9A-071E06D7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A039F63-62F5-43F6-9205-2A573E85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E3E541F8-22D6-41AD-9433-DDD4BDF9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527D59A7-4C1B-4234-AC6C-DED460CE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1ABF9796-5023-4F26-B873-25AF5FD7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BAFFFD76-882D-4B28-B580-BD905251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EC3F7F6-BE48-4749-899B-0B68A7A4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F5979280-A010-49F3-A1D9-54FFDEF6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89.xml"/><Relationship Id="rId6" Type="http://schemas.openxmlformats.org/officeDocument/2006/relationships/slideLayout" Target="../slideLayouts/slideLayout590.xml"/><Relationship Id="rId7" Type="http://schemas.openxmlformats.org/officeDocument/2006/relationships/slideLayout" Target="../slideLayouts/slideLayout591.xml"/><Relationship Id="rId8" Type="http://schemas.openxmlformats.org/officeDocument/2006/relationships/slideLayout" Target="../slideLayouts/slideLayout592.xml"/><Relationship Id="rId9" Type="http://schemas.openxmlformats.org/officeDocument/2006/relationships/slideLayout" Target="../slideLayouts/slideLayout593.xml"/><Relationship Id="rId10" Type="http://schemas.openxmlformats.org/officeDocument/2006/relationships/slideLayout" Target="../slideLayouts/slideLayout594.xml"/><Relationship Id="rId11" Type="http://schemas.openxmlformats.org/officeDocument/2006/relationships/slideLayout" Target="../slideLayouts/slideLayout595.xml"/><Relationship Id="rId12" Type="http://schemas.openxmlformats.org/officeDocument/2006/relationships/slideLayout" Target="../slideLayouts/slideLayout596.xml"/><Relationship Id="rId13" Type="http://schemas.openxmlformats.org/officeDocument/2006/relationships/slideLayout" Target="../slideLayouts/slideLayout597.xml"/><Relationship Id="rId14" Type="http://schemas.openxmlformats.org/officeDocument/2006/relationships/slideLayout" Target="../slideLayouts/slideLayout598.xml"/><Relationship Id="rId15" Type="http://schemas.openxmlformats.org/officeDocument/2006/relationships/slideLayout" Target="../slideLayouts/slideLayout599.xml"/><Relationship Id="rId16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5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3.xml"/><Relationship Id="rId4" Type="http://schemas.openxmlformats.org/officeDocument/2006/relationships/slideLayout" Target="../slideLayouts/slideLayout1094.xml"/><Relationship Id="rId5" Type="http://schemas.openxmlformats.org/officeDocument/2006/relationships/slideLayout" Target="../slideLayouts/slideLayout1095.xml"/><Relationship Id="rId6" Type="http://schemas.openxmlformats.org/officeDocument/2006/relationships/slideLayout" Target="../slideLayouts/slideLayout1096.xml"/><Relationship Id="rId7" Type="http://schemas.openxmlformats.org/officeDocument/2006/relationships/slideLayout" Target="../slideLayouts/slideLayout1097.xml"/><Relationship Id="rId8" Type="http://schemas.openxmlformats.org/officeDocument/2006/relationships/slideLayout" Target="../slideLayouts/slideLayout1098.xml"/><Relationship Id="rId9" Type="http://schemas.openxmlformats.org/officeDocument/2006/relationships/slideLayout" Target="../slideLayouts/slideLayout1099.xml"/><Relationship Id="rId10" Type="http://schemas.openxmlformats.org/officeDocument/2006/relationships/slideLayout" Target="../slideLayouts/slideLayout1100.xml"/><Relationship Id="rId11" Type="http://schemas.openxmlformats.org/officeDocument/2006/relationships/slideLayout" Target="../slideLayouts/slideLayout1101.xml"/><Relationship Id="rId12" Type="http://schemas.openxmlformats.org/officeDocument/2006/relationships/slideLayout" Target="../slideLayouts/slideLayout1102.xml"/><Relationship Id="rId13" Type="http://schemas.openxmlformats.org/officeDocument/2006/relationships/slideLayout" Target="../slideLayouts/slideLayout1103.xml"/><Relationship Id="rId14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05.xml"/><Relationship Id="rId4" Type="http://schemas.openxmlformats.org/officeDocument/2006/relationships/slideLayout" Target="../slideLayouts/slideLayout1106.xml"/><Relationship Id="rId5" Type="http://schemas.openxmlformats.org/officeDocument/2006/relationships/slideLayout" Target="../slideLayouts/slideLayout1107.xml"/><Relationship Id="rId6" Type="http://schemas.openxmlformats.org/officeDocument/2006/relationships/slideLayout" Target="../slideLayouts/slideLayout1108.xml"/><Relationship Id="rId7" Type="http://schemas.openxmlformats.org/officeDocument/2006/relationships/slideLayout" Target="../slideLayouts/slideLayout1109.xml"/><Relationship Id="rId8" Type="http://schemas.openxmlformats.org/officeDocument/2006/relationships/slideLayout" Target="../slideLayouts/slideLayout1110.xml"/><Relationship Id="rId9" Type="http://schemas.openxmlformats.org/officeDocument/2006/relationships/slideLayout" Target="../slideLayouts/slideLayout1111.xml"/><Relationship Id="rId10" Type="http://schemas.openxmlformats.org/officeDocument/2006/relationships/slideLayout" Target="../slideLayouts/slideLayout1112.xml"/><Relationship Id="rId11" Type="http://schemas.openxmlformats.org/officeDocument/2006/relationships/slideLayout" Target="../slideLayouts/slideLayout1113.xml"/><Relationship Id="rId12" Type="http://schemas.openxmlformats.org/officeDocument/2006/relationships/slideLayout" Target="../slideLayouts/slideLayout1114.xml"/><Relationship Id="rId13" Type="http://schemas.openxmlformats.org/officeDocument/2006/relationships/slideLayout" Target="../slideLayouts/slideLayout1115.xml"/><Relationship Id="rId14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17.xml"/><Relationship Id="rId4" Type="http://schemas.openxmlformats.org/officeDocument/2006/relationships/slideLayout" Target="../slideLayouts/slideLayout1118.xml"/><Relationship Id="rId5" Type="http://schemas.openxmlformats.org/officeDocument/2006/relationships/slideLayout" Target="../slideLayouts/slideLayout1119.xml"/><Relationship Id="rId6" Type="http://schemas.openxmlformats.org/officeDocument/2006/relationships/slideLayout" Target="../slideLayouts/slideLayout1120.xml"/><Relationship Id="rId7" Type="http://schemas.openxmlformats.org/officeDocument/2006/relationships/slideLayout" Target="../slideLayouts/slideLayout1121.xml"/><Relationship Id="rId8" Type="http://schemas.openxmlformats.org/officeDocument/2006/relationships/slideLayout" Target="../slideLayouts/slideLayout1122.xml"/><Relationship Id="rId9" Type="http://schemas.openxmlformats.org/officeDocument/2006/relationships/slideLayout" Target="../slideLayouts/slideLayout1123.xml"/><Relationship Id="rId10" Type="http://schemas.openxmlformats.org/officeDocument/2006/relationships/slideLayout" Target="../slideLayouts/slideLayout1124.xml"/><Relationship Id="rId11" Type="http://schemas.openxmlformats.org/officeDocument/2006/relationships/slideLayout" Target="../slideLayouts/slideLayout1125.xml"/><Relationship Id="rId12" Type="http://schemas.openxmlformats.org/officeDocument/2006/relationships/slideLayout" Target="../slideLayouts/slideLayout1126.xml"/><Relationship Id="rId13" Type="http://schemas.openxmlformats.org/officeDocument/2006/relationships/slideLayout" Target="../slideLayouts/slideLayout1127.xml"/><Relationship Id="rId14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29.xml"/><Relationship Id="rId4" Type="http://schemas.openxmlformats.org/officeDocument/2006/relationships/slideLayout" Target="../slideLayouts/slideLayout1130.xml"/><Relationship Id="rId5" Type="http://schemas.openxmlformats.org/officeDocument/2006/relationships/slideLayout" Target="../slideLayouts/slideLayout1131.xml"/><Relationship Id="rId6" Type="http://schemas.openxmlformats.org/officeDocument/2006/relationships/slideLayout" Target="../slideLayouts/slideLayout1132.xml"/><Relationship Id="rId7" Type="http://schemas.openxmlformats.org/officeDocument/2006/relationships/slideLayout" Target="../slideLayouts/slideLayout1133.xml"/><Relationship Id="rId8" Type="http://schemas.openxmlformats.org/officeDocument/2006/relationships/slideLayout" Target="../slideLayouts/slideLayout1134.xml"/><Relationship Id="rId9" Type="http://schemas.openxmlformats.org/officeDocument/2006/relationships/slideLayout" Target="../slideLayouts/slideLayout1135.xml"/><Relationship Id="rId10" Type="http://schemas.openxmlformats.org/officeDocument/2006/relationships/slideLayout" Target="../slideLayouts/slideLayout1136.xml"/><Relationship Id="rId11" Type="http://schemas.openxmlformats.org/officeDocument/2006/relationships/slideLayout" Target="../slideLayouts/slideLayout1137.xml"/><Relationship Id="rId12" Type="http://schemas.openxmlformats.org/officeDocument/2006/relationships/slideLayout" Target="../slideLayouts/slideLayout1138.xml"/><Relationship Id="rId13" Type="http://schemas.openxmlformats.org/officeDocument/2006/relationships/slideLayout" Target="../slideLayouts/slideLayout1139.xml"/><Relationship Id="rId14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B9AE-7DBA-49B5-824E-02A7CC7F2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8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8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21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2033F-915F-4869-A2B4-C88F76DE9C67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2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 type="dt" idx="2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 type="ftr" idx="2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 type="sldNum" idx="2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7CCB-5A0F-40AC-BDC5-58B756AE5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 type="dt" idx="2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 type="ftr" idx="2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 type="sldNum" idx="2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9A5A-FAED-429F-9F52-E1F2C033E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 type="dt" idx="2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 type="ftr" idx="2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 type="sldNum" idx="2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8205-EDAA-4468-9C2A-B1C05F59D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 type="dt" idx="2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 type="ftr" idx="2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 type="sldNum" idx="2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C2B1-688A-40E0-9BE0-4ED6938F0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 type="dt" idx="2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 type="ftr" idx="2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 type="sldNum" idx="2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22CC-320F-40F4-BCD8-3FB4FF06D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2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2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2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206D-DE09-48B7-B751-F0D996C23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A234-615F-44AD-8CD0-4AAF6B69C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594E-E20A-4742-9630-86C10EE50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0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52AF-039E-481E-8648-AB81B841EA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3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046B-EC41-4F22-B937-F80B676F16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DBF7-5E4D-483F-AFEF-C182A86531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EC1B-2BDE-4085-A9A9-8FE9E9911C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BA7B-9F6F-42BC-BD3A-6125EE6C30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5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3896-D5F9-45C5-A751-D4A9E97863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7" descr=""/>
          <p:cNvPicPr/>
          <p:nvPr/>
        </p:nvPicPr>
        <p:blipFill>
          <a:blip r:embed="rId3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48"/>
          </p:nvPr>
        </p:nvSpPr>
        <p:spPr>
          <a:xfrm>
            <a:off x="3124080" y="91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BF75-60E8-4226-ADFB-4DF7770F05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9048-8497-417D-80BE-0B957D1EDF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3AE6-1FBB-41AF-909B-669B2D40FD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E4F8-43F0-4324-B850-3E7634FC2E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314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344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344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344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344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3446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E153-1B8F-4B13-8F34-81A1AAA86C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44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5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CA95-B39D-4399-B48D-33500FBBC046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9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90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1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2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3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7ACB-9C6F-4F8B-9616-8A13D2C6F370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13DE-3ADE-421E-BDBC-7E9658E61C65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dt" idx="6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ftr" idx="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D449-7100-4BFD-8DCE-52E29E9CD8C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5520-D9F2-4275-8ABA-6CE1DFF88E7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 type="dt" idx="7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 type="ftr" idx="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239F-312E-45E0-A0D8-7A26F404855F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 type="dt" idx="7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 type="ftr" idx="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3FD5-6838-48CF-BD85-BD002AE5A20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85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F104-03D2-47C9-9751-175AB8E748CC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8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E4EE-EE6E-4FE6-BE82-0C6B413E221B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 type="dt" idx="8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 type="ftr" idx="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63B6-6AF4-4640-91FA-2961881795D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 type="dt" idx="8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 type="ftr" idx="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E9A5-D3DC-43DD-B93A-96CC519654B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8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AA5C-5D66-4BF6-BAA4-50F7B9DE28D9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9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ftr" idx="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084F-E2FF-4123-A2BA-B7D38350184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9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0F75-AD15-46AA-96A2-6DB12B615983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9C83-8E9E-4BC4-B322-B36C93D159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E8DE-B265-4DD3-9131-9F236D429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 type="dt" idx="1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 type="ftr" idx="1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 type="sldNum" idx="1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6AF8-DAF6-4FE3-90B4-3E90432CD5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77CF-C42B-4B4F-B7B4-399EFB9DEC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3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-1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199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-1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199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-1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199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C97E-DDBB-4C3D-A4E7-F2F877CCB1A4}" type="slidenum">
              <a:rPr b="0" lang="en-US" sz="14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7C15-15E0-43BF-9D54-AEF21B15CC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 type="dt" idx="1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 type="ftr" idx="1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 type="sldNum" idx="1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7F9F-6651-4207-8BEA-9139D1D5F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 type="dt" idx="1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 type="ftr" idx="1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 type="sldNum" idx="1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CE15-CB95-4F9E-BF1B-3D31F97E8C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dt" idx="1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ftr" idx="1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sldNum" idx="1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0B1E-4DCF-4083-ADC8-3FA21199F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 type="dt" idx="1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 type="ftr" idx="1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 type="sldNum" idx="1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3D1F-2B9F-4DAA-83E4-AE2549F45B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 type="dt" idx="1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 type="ftr" idx="1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 type="sldNum" idx="1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04CB-48BF-4B0C-978B-3B0D4E729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 type="dt" idx="1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 type="ftr" idx="1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 type="sldNum" idx="1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5763-9E8A-472B-BDA6-BBCCFD265E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 type="dt" idx="1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 type="ftr" idx="1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 type="sldNum" idx="1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76F7-9FC1-4282-9321-BD857BE7F7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Shape 17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Shape 20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4" name="Straight Connector 6"/>
          <p:cNvSpPr/>
          <p:nvPr/>
        </p:nvSpPr>
        <p:spPr>
          <a:xfrm flipV="1">
            <a:off x="457200" y="3122640"/>
            <a:ext cx="8229600" cy="9360"/>
          </a:xfrm>
          <a:prstGeom prst="line">
            <a:avLst/>
          </a:prstGeom>
          <a:ln w="50760">
            <a:solidFill>
              <a:srgbClr val="0096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5" name="Arc 7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6" name="Arc 8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7" name="Arc 9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48" name="Picture 10" descr="SMARTER_logo_big.png"/>
          <p:cNvPicPr/>
          <p:nvPr/>
        </p:nvPicPr>
        <p:blipFill>
          <a:blip r:embed="rId3"/>
          <a:stretch/>
        </p:blipFill>
        <p:spPr>
          <a:xfrm>
            <a:off x="581040" y="358920"/>
            <a:ext cx="7981920" cy="2423880"/>
          </a:xfrm>
          <a:prstGeom prst="rect">
            <a:avLst/>
          </a:prstGeom>
          <a:ln w="0">
            <a:noFill/>
          </a:ln>
        </p:spPr>
      </p:pic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A516-CDEA-4779-B40E-7C2C7E7752CA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Arc 3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8" name="Arc 4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9" name="Arc 5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28440">
            <a:solidFill>
              <a:srgbClr val="009644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90" name="Rectangle 6"/>
          <p:cNvGrpSpPr/>
          <p:nvPr/>
        </p:nvGrpSpPr>
        <p:grpSpPr>
          <a:xfrm>
            <a:off x="0" y="0"/>
            <a:ext cx="9144000" cy="1170000"/>
            <a:chOff x="0" y="0"/>
            <a:chExt cx="9144000" cy="1170000"/>
          </a:xfrm>
        </p:grpSpPr>
        <p:pic>
          <p:nvPicPr>
            <p:cNvPr id="209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2" name=""/>
            <p:cNvSpPr/>
            <p:nvPr/>
          </p:nvSpPr>
          <p:spPr>
            <a:xfrm>
              <a:off x="0" y="0"/>
              <a:ext cx="91440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93" name="Footer Placeholder 4"/>
          <p:cNvSpPr/>
          <p:nvPr/>
        </p:nvSpPr>
        <p:spPr>
          <a:xfrm>
            <a:off x="5059440" y="6353280"/>
            <a:ext cx="4038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4" name="Slide Number Placeholder 5"/>
          <p:cNvSpPr/>
          <p:nvPr/>
        </p:nvSpPr>
        <p:spPr>
          <a:xfrm>
            <a:off x="4227480" y="6519960"/>
            <a:ext cx="689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7D09-A76D-4524-9D2A-B17B179D37BC}" type="slidenum">
              <a:rPr b="0" lang="en-US" sz="1100" spc="-1" strike="noStrike">
                <a:solidFill>
                  <a:srgbClr val="1f497d"/>
                </a:solidFill>
                <a:latin typeface="Arial"/>
                <a:ea typeface="MS PGothic"/>
              </a:rPr>
              <a:t>&lt;number&gt;</a:t>
            </a:fld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5" name="Arc 9"/>
          <p:cNvSpPr/>
          <p:nvPr/>
        </p:nvSpPr>
        <p:spPr>
          <a:xfrm rot="10800000">
            <a:off x="8076960" y="-1276200"/>
            <a:ext cx="3028680" cy="2552400"/>
          </a:xfrm>
          <a:custGeom>
            <a:avLst/>
            <a:gdLst/>
            <a:ahLst/>
            <a:rect l="l" t="t" r="r" b="b"/>
            <a:pathLst>
              <a:path stroke="0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  <a:lnTo>
                  <a:pt x="1514475" y="1276350"/>
                </a:lnTo>
                <a:lnTo>
                  <a:pt x="2131066" y="110571"/>
                </a:lnTo>
                <a:close/>
              </a:path>
              <a:path fill="none" w="3028950" h="2552700">
                <a:moveTo>
                  <a:pt x="2131066" y="110571"/>
                </a:moveTo>
                <a:cubicBezTo>
                  <a:pt x="2683949" y="318268"/>
                  <a:pt x="3036979" y="783471"/>
                  <a:pt x="3028812" y="1293570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6" name="Arc 10"/>
          <p:cNvSpPr/>
          <p:nvPr/>
        </p:nvSpPr>
        <p:spPr>
          <a:xfrm rot="10800000">
            <a:off x="7519680" y="-1852200"/>
            <a:ext cx="4489560" cy="3321000"/>
          </a:xfrm>
          <a:custGeom>
            <a:avLst/>
            <a:gdLst/>
            <a:ahLst/>
            <a:rect l="l" t="t" r="r" b="b"/>
            <a:pathLst>
              <a:path stroke="0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  <a:lnTo>
                  <a:pt x="2244725" y="1660526"/>
                </a:lnTo>
                <a:lnTo>
                  <a:pt x="3519206" y="293599"/>
                </a:lnTo>
                <a:close/>
              </a:path>
              <a:path fill="none" w="4489450" h="3321051">
                <a:moveTo>
                  <a:pt x="3519206" y="293599"/>
                </a:moveTo>
                <a:cubicBezTo>
                  <a:pt x="4059111" y="569067"/>
                  <a:pt x="4409147" y="1005431"/>
                  <a:pt x="4477298" y="1487982"/>
                </a:cubicBezTo>
              </a:path>
            </a:pathLst>
          </a:custGeom>
          <a:noFill/>
          <a:ln w="6048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7" name="Arc 11"/>
          <p:cNvSpPr/>
          <p:nvPr/>
        </p:nvSpPr>
        <p:spPr>
          <a:xfrm rot="10800000">
            <a:off x="7324200" y="-1914480"/>
            <a:ext cx="4489560" cy="3470400"/>
          </a:xfrm>
          <a:custGeom>
            <a:avLst/>
            <a:gdLst/>
            <a:ahLst/>
            <a:rect l="l" t="t" r="r" b="b"/>
            <a:pathLst>
              <a:path stroke="0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  <a:lnTo>
                  <a:pt x="2244725" y="1735138"/>
                </a:lnTo>
                <a:lnTo>
                  <a:pt x="3606558" y="355799"/>
                </a:lnTo>
                <a:close/>
              </a:path>
              <a:path fill="none" w="4489450" h="3470275">
                <a:moveTo>
                  <a:pt x="3606558" y="355799"/>
                </a:moveTo>
                <a:cubicBezTo>
                  <a:pt x="4107389" y="651250"/>
                  <a:pt x="4424541" y="1095792"/>
                  <a:pt x="4480559" y="1580859"/>
                </a:cubicBezTo>
              </a:path>
            </a:pathLst>
          </a:custGeom>
          <a:noFill/>
          <a:ln w="28440">
            <a:solidFill>
              <a:srgbClr val="ffffff">
                <a:alpha val="1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098" name="Picture 12" descr="SMARTER_logo_250.png"/>
          <p:cNvPicPr/>
          <p:nvPr/>
        </p:nvPicPr>
        <p:blipFill>
          <a:blip r:embed="rId4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5"/>
    <p:sldLayoutId id="2147484287" r:id="rId6"/>
    <p:sldLayoutId id="2147484288" r:id="rId7"/>
    <p:sldLayoutId id="2147484289" r:id="rId8"/>
    <p:sldLayoutId id="2147484290" r:id="rId9"/>
    <p:sldLayoutId id="2147484291" r:id="rId10"/>
    <p:sldLayoutId id="2147484292" r:id="rId11"/>
    <p:sldLayoutId id="2147484293" r:id="rId12"/>
    <p:sldLayoutId id="2147484294" r:id="rId13"/>
    <p:sldLayoutId id="2147484295" r:id="rId14"/>
    <p:sldLayoutId id="2147484296" r:id="rId15"/>
    <p:sldLayoutId id="2147484297" r:id="rId16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8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9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0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1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2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143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2" name="Picture 3" descr="SBAC_logo_HEADER_11.18.2010.tif"/>
          <p:cNvPicPr/>
          <p:nvPr/>
        </p:nvPicPr>
        <p:blipFill>
          <a:blip r:embed="rId2"/>
          <a:stretch/>
        </p:blipFill>
        <p:spPr>
          <a:xfrm>
            <a:off x="7385040" y="6199200"/>
            <a:ext cx="1560600" cy="476280"/>
          </a:xfrm>
          <a:prstGeom prst="rect">
            <a:avLst/>
          </a:prstGeom>
          <a:ln w="0">
            <a:noFill/>
          </a:ln>
        </p:spPr>
      </p:pic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Arc 3"/>
          <p:cNvSpPr/>
          <p:nvPr/>
        </p:nvSpPr>
        <p:spPr>
          <a:xfrm rot="10800000">
            <a:off x="8178480" y="-1266840"/>
            <a:ext cx="3282840" cy="2766960"/>
          </a:xfrm>
          <a:custGeom>
            <a:avLst/>
            <a:gdLst/>
            <a:ahLst/>
            <a:rect l="l" t="t" r="r" b="b"/>
            <a:pathLst>
              <a:path stroke="0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  <a:lnTo>
                  <a:pt x="1641475" y="1383507"/>
                </a:lnTo>
                <a:lnTo>
                  <a:pt x="2309823" y="119873"/>
                </a:lnTo>
                <a:close/>
              </a:path>
              <a:path fill="none" w="3282950" h="2767013">
                <a:moveTo>
                  <a:pt x="2309823" y="119873"/>
                </a:moveTo>
                <a:cubicBezTo>
                  <a:pt x="2952213" y="361238"/>
                  <a:pt x="3340776" y="920718"/>
                  <a:pt x="3275966" y="1510994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2" name="Arc 4"/>
          <p:cNvSpPr/>
          <p:nvPr/>
        </p:nvSpPr>
        <p:spPr>
          <a:xfrm rot="10800000">
            <a:off x="7499520" y="-1842840"/>
            <a:ext cx="4867200" cy="3598920"/>
          </a:xfrm>
          <a:custGeom>
            <a:avLst/>
            <a:gdLst/>
            <a:ahLst/>
            <a:rect l="l" t="t" r="r" b="b"/>
            <a:pathLst>
              <a:path stroke="0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  <a:lnTo>
                  <a:pt x="2433638" y="1799432"/>
                </a:lnTo>
                <a:lnTo>
                  <a:pt x="3206071" y="93045"/>
                </a:lnTo>
                <a:close/>
              </a:path>
              <a:path fill="none" w="4867275" h="3598863">
                <a:moveTo>
                  <a:pt x="3206071" y="93045"/>
                </a:moveTo>
                <a:cubicBezTo>
                  <a:pt x="4203524" y="339896"/>
                  <a:pt x="4873612" y="1032631"/>
                  <a:pt x="4867231" y="1810348"/>
                </a:cubicBezTo>
              </a:path>
            </a:pathLst>
          </a:custGeom>
          <a:noFill/>
          <a:ln w="6048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3" name="Arc 5"/>
          <p:cNvSpPr/>
          <p:nvPr/>
        </p:nvSpPr>
        <p:spPr>
          <a:xfrm rot="10800000">
            <a:off x="7304040" y="-1904760"/>
            <a:ext cx="4867200" cy="3760920"/>
          </a:xfrm>
          <a:custGeom>
            <a:avLst/>
            <a:gdLst/>
            <a:ahLst/>
            <a:rect l="l" t="t" r="r" b="b"/>
            <a:pathLst>
              <a:path stroke="0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  <a:lnTo>
                  <a:pt x="2433638" y="1880394"/>
                </a:lnTo>
                <a:lnTo>
                  <a:pt x="3011833" y="53842"/>
                </a:lnTo>
                <a:close/>
              </a:path>
              <a:path fill="none" w="4867275" h="3760788">
                <a:moveTo>
                  <a:pt x="3011833" y="53842"/>
                </a:moveTo>
                <a:cubicBezTo>
                  <a:pt x="4102622" y="259985"/>
                  <a:pt x="4869244" y="1016037"/>
                  <a:pt x="4867272" y="1883697"/>
                </a:cubicBezTo>
              </a:path>
            </a:pathLst>
          </a:custGeom>
          <a:noFill/>
          <a:ln w="28440">
            <a:solidFill>
              <a:srgbClr val="009644">
                <a:alpha val="2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4" name="Arc 6"/>
          <p:cNvSpPr/>
          <p:nvPr/>
        </p:nvSpPr>
        <p:spPr>
          <a:xfrm>
            <a:off x="-3052800" y="5184720"/>
            <a:ext cx="3282840" cy="3043440"/>
          </a:xfrm>
          <a:custGeom>
            <a:avLst/>
            <a:gdLst/>
            <a:ahLst/>
            <a:rect l="l" t="t" r="r" b="b"/>
            <a:pathLst>
              <a:path stroke="0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  <a:lnTo>
                  <a:pt x="1641476" y="1521619"/>
                </a:lnTo>
                <a:lnTo>
                  <a:pt x="3057924" y="752662"/>
                </a:lnTo>
                <a:close/>
              </a:path>
              <a:path fill="none" w="3282951" h="3043238">
                <a:moveTo>
                  <a:pt x="3057924" y="752662"/>
                </a:moveTo>
                <a:cubicBezTo>
                  <a:pt x="3235760" y="1034151"/>
                  <a:pt x="3311301" y="1361167"/>
                  <a:pt x="3273406" y="1685478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5" name="Arc 7"/>
          <p:cNvSpPr/>
          <p:nvPr/>
        </p:nvSpPr>
        <p:spPr>
          <a:xfrm>
            <a:off x="-3247920" y="486252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  <a:lnTo>
                  <a:pt x="2433638" y="1979613"/>
                </a:lnTo>
                <a:lnTo>
                  <a:pt x="3230734" y="109196"/>
                </a:lnTo>
                <a:close/>
              </a:path>
              <a:path fill="none" w="4867275" h="3959225">
                <a:moveTo>
                  <a:pt x="3230734" y="109196"/>
                </a:moveTo>
                <a:cubicBezTo>
                  <a:pt x="4215060" y="386758"/>
                  <a:pt x="4873021" y="1143183"/>
                  <a:pt x="4867237" y="1990602"/>
                </a:cubicBezTo>
              </a:path>
            </a:pathLst>
          </a:custGeom>
          <a:noFill/>
          <a:ln w="2844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6" name="Arc 8"/>
          <p:cNvSpPr/>
          <p:nvPr/>
        </p:nvSpPr>
        <p:spPr>
          <a:xfrm>
            <a:off x="-3425760" y="4878360"/>
            <a:ext cx="4867200" cy="3959280"/>
          </a:xfrm>
          <a:custGeom>
            <a:avLst/>
            <a:gdLst/>
            <a:ahLst/>
            <a:rect l="l" t="t" r="r" b="b"/>
            <a:pathLst>
              <a:path stroke="0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  <a:lnTo>
                  <a:pt x="2433638" y="1979613"/>
                </a:lnTo>
                <a:lnTo>
                  <a:pt x="3411136" y="166707"/>
                </a:lnTo>
                <a:close/>
              </a:path>
              <a:path fill="none" w="4867275" h="3959225">
                <a:moveTo>
                  <a:pt x="3411136" y="166707"/>
                </a:moveTo>
                <a:cubicBezTo>
                  <a:pt x="4300340" y="483949"/>
                  <a:pt x="4872628" y="1200790"/>
                  <a:pt x="4867238" y="1990602"/>
                </a:cubicBezTo>
              </a:path>
            </a:pathLst>
          </a:custGeom>
          <a:noFill/>
          <a:ln w="50760">
            <a:solidFill>
              <a:srgbClr val="ffffff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27" name="Picture 11" descr="SMARTER_logo_250.png"/>
          <p:cNvPicPr/>
          <p:nvPr/>
        </p:nvPicPr>
        <p:blipFill>
          <a:blip r:embed="rId3"/>
          <a:stretch/>
        </p:blipFill>
        <p:spPr>
          <a:xfrm>
            <a:off x="7342200" y="6183360"/>
            <a:ext cx="1427040" cy="4334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6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26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26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27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27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 type="sldNum" idx="13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6A3E-8575-4CB1-98F8-79660ADCB345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 type="ftr" idx="13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1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1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1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1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1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2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 type="sldNum" idx="13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206B-7535-42B9-A60F-E8614A9B0AD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 type="ftr" idx="13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6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6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36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36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6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sldNum" idx="13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DAC2-115C-4339-A905-DAF7336ACCC7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 type="ftr" idx="13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0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0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1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1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1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sldNum" idx="14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14A7-0488-4752-BABF-58F479E3FF5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 type="ftr" idx="14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45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45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45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6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46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sldNum" idx="14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CFF0-8BD3-418C-9766-DF876F0F83C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 type="ftr" idx="14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0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0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0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 type="sldNum" idx="14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FB7C-5300-425D-8739-166D1FB1C1A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 type="ftr" idx="14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B7D0-6C8E-4C2F-BF74-BA5C2DBA2D7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4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5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5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5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5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 type="sldNum" idx="14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7FD2-1CB4-40DC-B92B-F6E47DE0F95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 type="ftr" idx="14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9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9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59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59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0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0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 type="sldNum" idx="14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BE3A-EBE3-432F-BA2C-1B40C8B4ADEB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 type="ftr" idx="14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4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4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4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4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 type="sldNum" idx="15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A0E0-FCF8-4E81-B8CE-8C8CE6A127D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 type="ftr" idx="15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9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69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9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69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9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6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 type="sldNum" idx="15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BBBA-B41C-4CAC-99C9-AC0ADBCB49AF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 type="ftr" idx="15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3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3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3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4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 type="sldNum" idx="15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1435-74AD-479E-9BBA-3DF09F665C00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 type="ftr" idx="15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8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78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8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78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9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 type="sldNum" idx="15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D026-DBA2-4502-A157-3EC27DEF4B9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 type="ftr" idx="15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3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3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3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3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3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 type="sldNum" idx="15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ACB3-B6E8-4501-8F68-4CD0A7A13748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4"/>
          <p:cNvSpPr>
            <a:spLocks noGrp="1"/>
          </p:cNvSpPr>
          <p:nvPr>
            <p:ph type="ftr" idx="15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87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87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88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88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88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 type="sldNum" idx="16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908E-B02C-47DE-A634-7069ED7621A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 type="ftr" idx="16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25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26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27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28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9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0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 type="sldNum" idx="16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6601-D9E0-4AA8-B6B1-25B166B56DC4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 type="ftr" idx="16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972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973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974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2975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6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7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97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 type="sldNum" idx="16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E635-0452-4118-8936-FD3947D7882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 type="ftr" idx="16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hape 13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315200" cy="1452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19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20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21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22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3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4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 type="sldNum" idx="16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8437-01C9-4332-9D5B-8CF200FA266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 type="ftr" idx="16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066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067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68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069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0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1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07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 type="sldNum" idx="16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6ABF-78B0-4F71-83EC-4CB4C14290E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 type="ftr" idx="16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13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14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15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16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7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8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1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 type="sldNum" idx="17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540D-A5A4-45AE-951D-A9323E5991EC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 type="ftr" idx="17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160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161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62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163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4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5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16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sldNum" idx="172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65DE-C84E-450D-B9C3-A717A9E93A41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73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07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08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09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10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1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2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 type="sldNum" idx="174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CAC5-29E0-4EF7-B207-28C5C40732F9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 type="ftr" idx="175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254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255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56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257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8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9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2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2" name="PlaceHolder 3"/>
          <p:cNvSpPr>
            <a:spLocks noGrp="1"/>
          </p:cNvSpPr>
          <p:nvPr>
            <p:ph type="sldNum" idx="176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41B2-9D34-4473-840A-6C6D0DC3020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PlaceHolder 4"/>
          <p:cNvSpPr>
            <a:spLocks noGrp="1"/>
          </p:cNvSpPr>
          <p:nvPr>
            <p:ph type="ftr" idx="177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01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02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03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04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5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6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0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 type="sldNum" idx="178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D9C1-6D9B-4526-B99E-F0C97FFB8E7D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 type="ftr" idx="179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4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4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5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35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3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Num" idx="180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3784-DC45-44A7-905C-CD27FD6FC5D2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ftr" idx="181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 type="dt" idx="1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 type="ftr" idx="1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 type="sldNum" idx="1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1746-3102-4DDC-AF6B-E6EF1DD16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 type="dt" idx="1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 type="ftr" idx="1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 type="sldNum" idx="1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8A58-62B2-4BD2-B757-6160DAB27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4520" y="320760"/>
            <a:ext cx="845496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64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964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01"/>
              </a:spcAft>
              <a:buClr>
                <a:srgbClr val="0096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601"/>
              </a:spcAft>
              <a:buClr>
                <a:srgbClr val="0096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601"/>
              </a:spcAft>
              <a:buClr>
                <a:srgbClr val="00964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6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 type="dt" idx="1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 type="ftr" idx="1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 type="sldNum" idx="1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1FBD-F8D0-4F71-A99A-CB96E06E6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 type="dt" idx="1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 type="ftr" idx="1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 type="sldNum" idx="1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3248-FA88-48CF-8239-5D8CC6197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 type="dt" idx="1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 type="ftr" idx="1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 type="sldNum" idx="1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CB19-BE1A-4C58-A452-E88BEE414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 type="dt" idx="1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 type="ftr" idx="1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 type="sldNum" idx="1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CBB0-77DE-4100-A0EA-9899EFD2F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 type="dt" idx="2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 type="ftr" idx="2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 type="sldNum" idx="2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F696-53D0-49B0-94BF-B77970F7F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dt" idx="2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 type="ftr" idx="2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 type="sldNum" idx="2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449B-9552-4369-A78D-DF09357E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 type="dt" idx="2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 type="ftr" idx="2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6" name="PlaceHolder 5"/>
          <p:cNvSpPr>
            <a:spLocks noGrp="1"/>
          </p:cNvSpPr>
          <p:nvPr>
            <p:ph type="sldNum" idx="2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6ABA-E41F-4093-9EDE-A4C60C0EF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 type="dt" idx="2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 type="ftr" idx="2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 type="sldNum" idx="2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B648-F882-4D08-A4AF-7B100E32F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 type="dt" idx="2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 type="ftr" idx="2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8" name="PlaceHolder 5"/>
          <p:cNvSpPr>
            <a:spLocks noGrp="1"/>
          </p:cNvSpPr>
          <p:nvPr>
            <p:ph type="sldNum" idx="2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1188-6A4C-47E3-AFBD-94151C7C1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 type="dt" idx="2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 type="ftr" idx="2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 type="sldNum" idx="2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D3D6-E13C-4D41-B5F0-D736E0242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8632800" y="641016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339" name="Freeform 3"/>
          <p:cNvSpPr/>
          <p:nvPr/>
        </p:nvSpPr>
        <p:spPr>
          <a:xfrm>
            <a:off x="1376280" y="-3240"/>
            <a:ext cx="7256520" cy="128916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4560" h="810">
                <a:moveTo>
                  <a:pt x="0" y="0"/>
                </a:moveTo>
                <a:lnTo>
                  <a:pt x="3216" y="0"/>
                </a:lnTo>
                <a:lnTo>
                  <a:pt x="4560" y="810"/>
                </a:lnTo>
                <a:lnTo>
                  <a:pt x="0" y="8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0" y="0"/>
            <a:ext cx="9142560" cy="1287360"/>
            <a:chOff x="0" y="0"/>
            <a:chExt cx="9142560" cy="1287360"/>
          </a:xfrm>
        </p:grpSpPr>
        <p:pic>
          <p:nvPicPr>
            <p:cNvPr id="341" name="Picture 5" descr=""/>
            <p:cNvPicPr/>
            <p:nvPr/>
          </p:nvPicPr>
          <p:blipFill>
            <a:blip r:embed="rId3"/>
            <a:srcRect l="0" t="0" r="0" b="4276"/>
            <a:stretch/>
          </p:blipFill>
          <p:spPr>
            <a:xfrm>
              <a:off x="0" y="3240"/>
              <a:ext cx="914256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Freeform 6"/>
            <p:cNvSpPr/>
            <p:nvPr/>
          </p:nvSpPr>
          <p:spPr>
            <a:xfrm>
              <a:off x="1371600" y="0"/>
              <a:ext cx="7254720" cy="1287360"/>
            </a:xfrm>
            <a:custGeom>
              <a:avLst/>
              <a:gdLst>
                <a:gd name="textAreaLeft" fmla="*/ 0 w 7254720"/>
                <a:gd name="textAreaRight" fmla="*/ 7255080 w 725472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7"/>
            <p:cNvSpPr/>
            <p:nvPr/>
          </p:nvSpPr>
          <p:spPr>
            <a:xfrm>
              <a:off x="0" y="3240"/>
              <a:ext cx="7237440" cy="1284120"/>
            </a:xfrm>
            <a:custGeom>
              <a:avLst/>
              <a:gdLst>
                <a:gd name="textAreaLeft" fmla="*/ 0 w 7237440"/>
                <a:gd name="textAreaRight" fmla="*/ 7237800 w 7237440"/>
                <a:gd name="textAreaTop" fmla="*/ 0 h 1284120"/>
                <a:gd name="textAreaBottom" fmla="*/ 1284480 h 1284120"/>
              </a:gdLst>
              <a:ahLst/>
              <a:rect l="textAreaLeft" t="textAreaTop" r="textAreaRight" b="textAreaBottom"/>
              <a:pathLst>
                <a:path w="4560" h="810">
                  <a:moveTo>
                    <a:pt x="0" y="0"/>
                  </a:moveTo>
                  <a:lnTo>
                    <a:pt x="3216" y="0"/>
                  </a:lnTo>
                  <a:lnTo>
                    <a:pt x="4560" y="810"/>
                  </a:lnTo>
                  <a:lnTo>
                    <a:pt x="0" y="8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1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2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3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4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5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  <a:p>
            <a:pPr lvl="6" marL="343080" indent="-343080">
              <a:spcBef>
                <a:spcPts val="202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b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91b2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609444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19"/>
          </p:nvPr>
        </p:nvSpPr>
        <p:spPr>
          <a:xfrm>
            <a:off x="7467120" y="5573520"/>
            <a:ext cx="152244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A1458-7FD7-42CF-907E-0A2C169F1453}" type="slidenum">
              <a:rPr b="1" lang="en-US" sz="1600" spc="-1" strike="noStrike">
                <a:solidFill>
                  <a:srgbClr val="a6a6a6"/>
                </a:solidFill>
                <a:latin typeface="Times New Roman"/>
                <a:ea typeface="Arial Unicode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0"/>
          </p:nvPr>
        </p:nvSpPr>
        <p:spPr>
          <a:xfrm>
            <a:off x="0" y="6324480"/>
            <a:ext cx="670392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e4a11b"/>
                </a:solidFill>
                <a:latin typeface="Times New Roman"/>
                <a:ea typeface="Arial Unicode MS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 type="dt" idx="2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 type="ftr" idx="2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0" name="PlaceHolder 5"/>
          <p:cNvSpPr>
            <a:spLocks noGrp="1"/>
          </p:cNvSpPr>
          <p:nvPr>
            <p:ph type="sldNum" idx="2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BDD7-2FD5-4BEB-B781-EB7387E1A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dt" idx="2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 type="ftr" idx="2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 type="sldNum" idx="2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8688-677A-4E1D-B9C2-2C6065F2F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 type="dt" idx="2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 type="ftr" idx="2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72" name="PlaceHolder 5"/>
          <p:cNvSpPr>
            <a:spLocks noGrp="1"/>
          </p:cNvSpPr>
          <p:nvPr>
            <p:ph type="sldNum" idx="2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3D3D-16C1-444B-AC03-54246E881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3"/>
    <p:sldLayoutId id="2147484833" r:id="rId4"/>
    <p:sldLayoutId id="2147484834" r:id="rId5"/>
    <p:sldLayoutId id="2147484835" r:id="rId6"/>
    <p:sldLayoutId id="2147484836" r:id="rId7"/>
    <p:sldLayoutId id="2147484837" r:id="rId8"/>
    <p:sldLayoutId id="2147484838" r:id="rId9"/>
    <p:sldLayoutId id="2147484839" r:id="rId10"/>
    <p:sldLayoutId id="2147484840" r:id="rId11"/>
    <p:sldLayoutId id="2147484841" r:id="rId12"/>
    <p:sldLayoutId id="2147484842" r:id="rId13"/>
    <p:sldLayoutId id="2147484843" r:id="rId14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 type="dt" idx="2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 type="ftr" idx="2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13" name="PlaceHolder 5"/>
          <p:cNvSpPr>
            <a:spLocks noGrp="1"/>
          </p:cNvSpPr>
          <p:nvPr>
            <p:ph type="sldNum" idx="2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A660-4805-44A1-850A-AFEA02C5E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3"/>
    <p:sldLayoutId id="2147484846" r:id="rId4"/>
    <p:sldLayoutId id="2147484847" r:id="rId5"/>
    <p:sldLayoutId id="2147484848" r:id="rId6"/>
    <p:sldLayoutId id="2147484849" r:id="rId7"/>
    <p:sldLayoutId id="2147484850" r:id="rId8"/>
    <p:sldLayoutId id="2147484851" r:id="rId9"/>
    <p:sldLayoutId id="2147484852" r:id="rId10"/>
    <p:sldLayoutId id="2147484853" r:id="rId11"/>
    <p:sldLayoutId id="2147484854" r:id="rId12"/>
    <p:sldLayoutId id="2147484855" r:id="rId13"/>
    <p:sldLayoutId id="2147484856" r:id="rId14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 type="dt" idx="2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 type="ftr" idx="2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4" name="PlaceHolder 5"/>
          <p:cNvSpPr>
            <a:spLocks noGrp="1"/>
          </p:cNvSpPr>
          <p:nvPr>
            <p:ph type="sldNum" idx="2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F714-F050-4A6F-AF50-90E73177D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3"/>
    <p:sldLayoutId id="2147484859" r:id="rId4"/>
    <p:sldLayoutId id="2147484860" r:id="rId5"/>
    <p:sldLayoutId id="2147484861" r:id="rId6"/>
    <p:sldLayoutId id="2147484862" r:id="rId7"/>
    <p:sldLayoutId id="2147484863" r:id="rId8"/>
    <p:sldLayoutId id="2147484864" r:id="rId9"/>
    <p:sldLayoutId id="2147484865" r:id="rId10"/>
    <p:sldLayoutId id="2147484866" r:id="rId11"/>
    <p:sldLayoutId id="2147484867" r:id="rId12"/>
    <p:sldLayoutId id="2147484868" r:id="rId13"/>
    <p:sldLayoutId id="2147484869" r:id="rId14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 type="dt" idx="2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 type="ftr" idx="2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 type="sldNum" idx="2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3BB8-6703-4A49-8DCF-E003098B0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3"/>
    <p:sldLayoutId id="2147484872" r:id="rId4"/>
    <p:sldLayoutId id="2147484873" r:id="rId5"/>
    <p:sldLayoutId id="2147484874" r:id="rId6"/>
    <p:sldLayoutId id="2147484875" r:id="rId7"/>
    <p:sldLayoutId id="2147484876" r:id="rId8"/>
    <p:sldLayoutId id="2147484877" r:id="rId9"/>
    <p:sldLayoutId id="2147484878" r:id="rId10"/>
    <p:sldLayoutId id="2147484879" r:id="rId11"/>
    <p:sldLayoutId id="2147484880" r:id="rId12"/>
    <p:sldLayoutId id="2147484881" r:id="rId13"/>
    <p:sldLayoutId id="2147484882" r:id="rId14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 type="dt" idx="2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 type="ftr" idx="2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6" name="PlaceHolder 5"/>
          <p:cNvSpPr>
            <a:spLocks noGrp="1"/>
          </p:cNvSpPr>
          <p:nvPr>
            <p:ph type="sldNum" idx="2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34A1-1C9A-40E0-8229-C95752E6A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 type="dt" idx="2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 type="ftr" idx="2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7" name="PlaceHolder 5"/>
          <p:cNvSpPr>
            <a:spLocks noGrp="1"/>
          </p:cNvSpPr>
          <p:nvPr>
            <p:ph type="sldNum" idx="2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449E-0B1F-41BE-AE9D-0D8A17159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 type="dt" idx="2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 type="ftr" idx="2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 type="sldNum" idx="2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CFE6-624A-4E42-B826-F01994916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 type="dt" idx="2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 type="ftr" idx="2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 type="sldNum" idx="2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BF8D-4802-4179-8164-5412563DC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6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8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5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hyperlink" Target="http://act.org/research/policymakers/pdf/reading_summary.pdf" TargetMode="External"/><Relationship Id="rId3" Type="http://schemas.openxmlformats.org/officeDocument/2006/relationships/slideLayout" Target="../slideLayouts/slideLayout85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06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2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ticulatemarketing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amiesmart.com/innate-thinkin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owlnet.rice.edu/~cainproj/presenting.ppt" TargetMode="External"/><Relationship Id="rId2" Type="http://schemas.openxmlformats.org/officeDocument/2006/relationships/hyperlink" Target="http://www.owlnet.rice.edu/~cainproj/presenting.ppt" TargetMode="External"/><Relationship Id="rId3" Type="http://schemas.openxmlformats.org/officeDocument/2006/relationships/hyperlink" Target="http://www.owlnet.rice.edu/~cainproj/presenting.ppt" TargetMode="External"/><Relationship Id="rId4" Type="http://schemas.openxmlformats.org/officeDocument/2006/relationships/hyperlink" Target="http://www.owlnet.rice.edu/~cainproj/presenting.ppt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914400" y="487800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5f5f5f"/>
                </a:solidFill>
                <a:latin typeface="Arial"/>
              </a:rPr>
              <a:t>Powerpoint Presentation Tips</a:t>
            </a:r>
            <a:endParaRPr b="0" lang="en-US" sz="40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0" name=""/>
          <p:cNvSpPr txBox="1"/>
          <p:nvPr/>
        </p:nvSpPr>
        <p:spPr>
          <a:xfrm>
            <a:off x="2823840" y="5935320"/>
            <a:ext cx="5732280" cy="6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d91c7"/>
                </a:solidFill>
                <a:latin typeface="Arial"/>
              </a:rPr>
              <a:t>Mrs. Kilbridge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TextBox 1"/>
          <p:cNvSpPr/>
          <p:nvPr/>
        </p:nvSpPr>
        <p:spPr>
          <a:xfrm>
            <a:off x="216000" y="15228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Our “north star”: Aretha &amp; Golden Rul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69" name="Picture 2" descr=""/>
          <p:cNvPicPr/>
          <p:nvPr/>
        </p:nvPicPr>
        <p:blipFill>
          <a:blip r:embed="rId1"/>
          <a:stretch/>
        </p:blipFill>
        <p:spPr>
          <a:xfrm>
            <a:off x="228600" y="1211400"/>
            <a:ext cx="4343400" cy="3894120"/>
          </a:xfrm>
          <a:prstGeom prst="rect">
            <a:avLst/>
          </a:prstGeom>
          <a:ln w="0">
            <a:noFill/>
          </a:ln>
        </p:spPr>
      </p:pic>
      <p:pic>
        <p:nvPicPr>
          <p:cNvPr id="4570" name="Picture 3" descr=""/>
          <p:cNvPicPr/>
          <p:nvPr/>
        </p:nvPicPr>
        <p:blipFill>
          <a:blip r:embed="rId2"/>
          <a:stretch/>
        </p:blipFill>
        <p:spPr>
          <a:xfrm>
            <a:off x="4660920" y="1066680"/>
            <a:ext cx="4483080" cy="3891240"/>
          </a:xfrm>
          <a:prstGeom prst="rect">
            <a:avLst/>
          </a:prstGeom>
          <a:ln w="0">
            <a:noFill/>
          </a:ln>
        </p:spPr>
      </p:pic>
      <p:sp>
        <p:nvSpPr>
          <p:cNvPr id="4571" name="TextBox 4"/>
          <p:cNvSpPr/>
          <p:nvPr/>
        </p:nvSpPr>
        <p:spPr>
          <a:xfrm>
            <a:off x="113400" y="59529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* keep these in mind and Learning Walks can’t fail!!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2" name="TextBox 5"/>
          <p:cNvSpPr/>
          <p:nvPr/>
        </p:nvSpPr>
        <p:spPr>
          <a:xfrm>
            <a:off x="398880" y="525780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7ffec"/>
                </a:solidFill>
                <a:latin typeface="Arial"/>
                <a:ea typeface="Arial"/>
              </a:rPr>
              <a:t>R – E – S – P –E – C - 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Text Box 1"/>
          <p:cNvSpPr/>
          <p:nvPr/>
        </p:nvSpPr>
        <p:spPr>
          <a:xfrm>
            <a:off x="6934320" y="632448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4" name="Text Box 2"/>
          <p:cNvSpPr/>
          <p:nvPr/>
        </p:nvSpPr>
        <p:spPr>
          <a:xfrm>
            <a:off x="0" y="0"/>
            <a:ext cx="6095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Overview of Standards f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HistoryO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5" name="Text Box 3"/>
          <p:cNvSpPr/>
          <p:nvPr/>
        </p:nvSpPr>
        <p:spPr>
          <a:xfrm>
            <a:off x="457200" y="1285920"/>
            <a:ext cx="845820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7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Read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1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nowledg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2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alyze, evaluate, and differentiate primary and second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3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ynthes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quantitative and technical information, including facts presented in maps, timelines, flowcharts, or diagram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  <a:ea typeface="Arial Unicode MS"/>
              </a:rPr>
              <a:t>Writing Standards for History/Social Studies, Science, and Technical Sub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4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ri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on discipline-specific content and informative/explanatory tex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SzPct val="100000"/>
              <a:buBlip>
                <a:blip r:embed="rId5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ata, evidence, and reason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argu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and claim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lnSpc>
                <a:spcPct val="90000"/>
              </a:lnSpc>
              <a:spcBef>
                <a:spcPts val="213"/>
              </a:spcBef>
              <a:spcAft>
                <a:spcPts val="213"/>
              </a:spcAft>
              <a:buSzPct val="100000"/>
              <a:buBlip>
                <a:blip r:embed="rId6"/>
              </a:buBlip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Use of domain-specif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y</a:t>
            </a:r>
            <a:r>
              <a:rPr b="0" lang="en-US" sz="1700" spc="-1" strike="noStrike">
                <a:solidFill>
                  <a:srgbClr val="6b6b6b"/>
                </a:solidFill>
                <a:latin typeface="Arial"/>
                <a:ea typeface="Arial Unicode MS"/>
              </a:rPr>
              <a:t> 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lvl="1" marL="399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New Defini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Reading for Michiga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98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s 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cess of constructing mea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rough the dynamic interaction amo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 the reader’s existing knowledg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 the information suggested by the text being read;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 the context of the reading sit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574D-DD26-432B-A00A-B21D7ADC73B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Shape 23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0" name="Shape 236"/>
          <p:cNvSpPr/>
          <p:nvPr/>
        </p:nvSpPr>
        <p:spPr>
          <a:xfrm>
            <a:off x="7543800" y="-1440"/>
            <a:ext cx="1517760" cy="777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1" name="Shape 237"/>
          <p:cNvSpPr/>
          <p:nvPr/>
        </p:nvSpPr>
        <p:spPr>
          <a:xfrm>
            <a:off x="7547040" y="914400"/>
            <a:ext cx="1444680" cy="457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2" name="Shape 238"/>
          <p:cNvSpPr/>
          <p:nvPr/>
        </p:nvSpPr>
        <p:spPr>
          <a:xfrm>
            <a:off x="8064360" y="9586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e66b2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31520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66b2"/>
                </a:solidFill>
                <a:latin typeface="Arial"/>
              </a:rPr>
              <a:t>Contact 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>
              <a:spcBef>
                <a:spcPts val="601"/>
              </a:spcBef>
              <a:buClr>
                <a:srgbClr val="a63212"/>
              </a:buClr>
              <a:buSzPct val="9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Joseph Martineau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Executive Dir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Bureau of Assessment &amp; Accoun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ichigan Department of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228600">
              <a:spcBef>
                <a:spcPts val="49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</a:rPr>
              <a:t>martineauj@michigan.g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Shape 241"/>
          <p:cNvSpPr/>
          <p:nvPr/>
        </p:nvSpPr>
        <p:spPr>
          <a:xfrm>
            <a:off x="8064360" y="958680"/>
            <a:ext cx="405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6" name="Title 1" descr=""/>
          <p:cNvPicPr/>
          <p:nvPr/>
        </p:nvPicPr>
        <p:blipFill>
          <a:blip r:embed="rId1"/>
          <a:stretch/>
        </p:blipFill>
        <p:spPr>
          <a:xfrm>
            <a:off x="457200" y="438120"/>
            <a:ext cx="8242200" cy="519120"/>
          </a:xfrm>
          <a:prstGeom prst="rect">
            <a:avLst/>
          </a:prstGeom>
          <a:ln w="0">
            <a:noFill/>
          </a:ln>
        </p:spPr>
      </p:pic>
      <p:sp>
        <p:nvSpPr>
          <p:cNvPr id="4587" name=""/>
          <p:cNvSpPr txBox="1"/>
          <p:nvPr/>
        </p:nvSpPr>
        <p:spPr>
          <a:xfrm>
            <a:off x="457200" y="1371600"/>
            <a:ext cx="782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n integrated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vidence-based appro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acher invol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tate-led with transparent gover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ocus: improving teaching and lear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ctionable information – multiple meas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0096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stablished profession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Aft>
                <a:spcPts val="601"/>
              </a:spcAft>
              <a:buClr>
                <a:srgbClr val="00964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8" name="Title 1" descr=""/>
          <p:cNvPicPr/>
          <p:nvPr/>
        </p:nvPicPr>
        <p:blipFill>
          <a:blip r:embed="rId1"/>
          <a:stretch/>
        </p:blipFill>
        <p:spPr>
          <a:xfrm>
            <a:off x="420840" y="304920"/>
            <a:ext cx="8235720" cy="517320"/>
          </a:xfrm>
          <a:prstGeom prst="rect">
            <a:avLst/>
          </a:prstGeom>
          <a:ln w="0">
            <a:noFill/>
          </a:ln>
        </p:spPr>
      </p:pic>
      <p:pic>
        <p:nvPicPr>
          <p:cNvPr id="4589" name="Group 6" descr=""/>
          <p:cNvPicPr/>
          <p:nvPr/>
        </p:nvPicPr>
        <p:blipFill>
          <a:blip r:embed="rId2"/>
          <a:stretch/>
        </p:blipFill>
        <p:spPr>
          <a:xfrm>
            <a:off x="3005280" y="1432080"/>
            <a:ext cx="5668920" cy="873000"/>
          </a:xfrm>
          <a:prstGeom prst="rect">
            <a:avLst/>
          </a:prstGeom>
          <a:ln w="0">
            <a:noFill/>
          </a:ln>
        </p:spPr>
      </p:pic>
      <p:grpSp>
        <p:nvGrpSpPr>
          <p:cNvPr id="4590" name="Group 7"/>
          <p:cNvGrpSpPr/>
          <p:nvPr/>
        </p:nvGrpSpPr>
        <p:grpSpPr>
          <a:xfrm>
            <a:off x="285840" y="1389240"/>
            <a:ext cx="2976480" cy="912600"/>
            <a:chOff x="285840" y="1389240"/>
            <a:chExt cx="2976480" cy="912600"/>
          </a:xfrm>
        </p:grpSpPr>
        <p:sp>
          <p:nvSpPr>
            <p:cNvPr id="4591" name="Rounded Rectangle 38"/>
            <p:cNvSpPr/>
            <p:nvPr/>
          </p:nvSpPr>
          <p:spPr>
            <a:xfrm>
              <a:off x="285840" y="1389240"/>
              <a:ext cx="2976480" cy="9126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2" name="Rounded Rectangle 6"/>
            <p:cNvSpPr/>
            <p:nvPr/>
          </p:nvSpPr>
          <p:spPr>
            <a:xfrm>
              <a:off x="322200" y="1434960"/>
              <a:ext cx="29037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s and Procedures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3" name="Group 8" descr=""/>
          <p:cNvPicPr/>
          <p:nvPr/>
        </p:nvPicPr>
        <p:blipFill>
          <a:blip r:embed="rId3"/>
          <a:stretch/>
        </p:blipFill>
        <p:spPr>
          <a:xfrm>
            <a:off x="3005280" y="2627280"/>
            <a:ext cx="5632200" cy="841320"/>
          </a:xfrm>
          <a:prstGeom prst="rect">
            <a:avLst/>
          </a:prstGeom>
          <a:ln w="0">
            <a:noFill/>
          </a:ln>
        </p:spPr>
      </p:pic>
      <p:grpSp>
        <p:nvGrpSpPr>
          <p:cNvPr id="4594" name="Group 9"/>
          <p:cNvGrpSpPr/>
          <p:nvPr/>
        </p:nvGrpSpPr>
        <p:grpSpPr>
          <a:xfrm>
            <a:off x="285840" y="2593800"/>
            <a:ext cx="2976480" cy="914400"/>
            <a:chOff x="285840" y="2593800"/>
            <a:chExt cx="2976480" cy="914400"/>
          </a:xfrm>
        </p:grpSpPr>
        <p:sp>
          <p:nvSpPr>
            <p:cNvPr id="4595" name="Rounded Rectangle 34"/>
            <p:cNvSpPr/>
            <p:nvPr/>
          </p:nvSpPr>
          <p:spPr>
            <a:xfrm>
              <a:off x="285840" y="259380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6" name="Rounded Rectangle 10"/>
            <p:cNvSpPr/>
            <p:nvPr/>
          </p:nvSpPr>
          <p:spPr>
            <a:xfrm>
              <a:off x="322200" y="263952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blem Solv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597" name="Group 10" descr=""/>
          <p:cNvPicPr/>
          <p:nvPr/>
        </p:nvPicPr>
        <p:blipFill>
          <a:blip r:embed="rId4"/>
          <a:stretch/>
        </p:blipFill>
        <p:spPr>
          <a:xfrm>
            <a:off x="3005280" y="3840120"/>
            <a:ext cx="5632200" cy="871560"/>
          </a:xfrm>
          <a:prstGeom prst="rect">
            <a:avLst/>
          </a:prstGeom>
          <a:ln w="0">
            <a:noFill/>
          </a:ln>
        </p:spPr>
      </p:pic>
      <p:grpSp>
        <p:nvGrpSpPr>
          <p:cNvPr id="4598" name="Group 11"/>
          <p:cNvGrpSpPr/>
          <p:nvPr/>
        </p:nvGrpSpPr>
        <p:grpSpPr>
          <a:xfrm>
            <a:off x="285840" y="3784680"/>
            <a:ext cx="2976480" cy="914400"/>
            <a:chOff x="285840" y="3784680"/>
            <a:chExt cx="2976480" cy="914400"/>
          </a:xfrm>
        </p:grpSpPr>
        <p:sp>
          <p:nvSpPr>
            <p:cNvPr id="4599" name="Rounded Rectangle 30"/>
            <p:cNvSpPr/>
            <p:nvPr/>
          </p:nvSpPr>
          <p:spPr>
            <a:xfrm>
              <a:off x="285840" y="378468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0" name="Rounded Rectangle 14"/>
            <p:cNvSpPr/>
            <p:nvPr/>
          </p:nvSpPr>
          <p:spPr>
            <a:xfrm>
              <a:off x="322200" y="3828960"/>
              <a:ext cx="290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municating Reason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4601" name="Group 12" descr=""/>
          <p:cNvPicPr/>
          <p:nvPr/>
        </p:nvPicPr>
        <p:blipFill>
          <a:blip r:embed="rId5"/>
          <a:stretch/>
        </p:blipFill>
        <p:spPr>
          <a:xfrm>
            <a:off x="3005280" y="5059440"/>
            <a:ext cx="5711760" cy="877680"/>
          </a:xfrm>
          <a:prstGeom prst="rect">
            <a:avLst/>
          </a:prstGeom>
          <a:ln w="0">
            <a:noFill/>
          </a:ln>
        </p:spPr>
      </p:pic>
      <p:grpSp>
        <p:nvGrpSpPr>
          <p:cNvPr id="4602" name="Group 13"/>
          <p:cNvGrpSpPr/>
          <p:nvPr/>
        </p:nvGrpSpPr>
        <p:grpSpPr>
          <a:xfrm>
            <a:off x="285840" y="5010120"/>
            <a:ext cx="2976480" cy="914400"/>
            <a:chOff x="285840" y="5010120"/>
            <a:chExt cx="2976480" cy="914400"/>
          </a:xfrm>
        </p:grpSpPr>
        <p:sp>
          <p:nvSpPr>
            <p:cNvPr id="4603" name="Rounded Rectangle 26"/>
            <p:cNvSpPr/>
            <p:nvPr/>
          </p:nvSpPr>
          <p:spPr>
            <a:xfrm>
              <a:off x="285840" y="5010120"/>
              <a:ext cx="2976480" cy="914400"/>
            </a:xfrm>
            <a:prstGeom prst="roundRect">
              <a:avLst>
                <a:gd name="adj" fmla="val 16667"/>
              </a:avLst>
            </a:prstGeom>
            <a:solidFill>
              <a:srgbClr val="0096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4" name="Rounded Rectangle 18"/>
            <p:cNvSpPr/>
            <p:nvPr/>
          </p:nvSpPr>
          <p:spPr>
            <a:xfrm>
              <a:off x="322200" y="5055840"/>
              <a:ext cx="2903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880" rIns="8388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ata Analysis and Modeling</a:t>
              </a:r>
              <a:endParaRPr b="0" lang="en-US" sz="2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605" name="TextBox 42"/>
          <p:cNvSpPr/>
          <p:nvPr/>
        </p:nvSpPr>
        <p:spPr>
          <a:xfrm>
            <a:off x="6352200" y="86688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/o Round 1 – released 8/29/11)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9588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lex 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Performance on complex texts is the clearest differentiator in reading between students who are likely to be ready for college and those who are not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-341280">
              <a:spcBef>
                <a:spcPts val="2701"/>
              </a:spcBef>
              <a:spcAft>
                <a:spcPts val="601"/>
              </a:spcAft>
              <a:buClr>
                <a:srgbClr val="0091b2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And this is true for both genders, all racial/ethnic groups, and all annual family income levels.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                        </a:t>
            </a:r>
            <a:r>
              <a:rPr b="1" lang="en-US" sz="2400" spc="-1" strike="noStrike">
                <a:solidFill>
                  <a:srgbClr val="0091b2"/>
                </a:solidFill>
                <a:latin typeface="Arial"/>
              </a:rPr>
              <a:t>- </a:t>
            </a:r>
            <a:r>
              <a:rPr b="1" i="1" lang="en-US" sz="2400" spc="-1" strike="noStrike">
                <a:solidFill>
                  <a:srgbClr val="0091b2"/>
                </a:solidFill>
                <a:latin typeface="Arial"/>
              </a:rPr>
              <a:t>ACT Reading Between the Lines</a:t>
            </a: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  <a:p>
            <a:pPr marL="341280" indent="0">
              <a:spcBef>
                <a:spcPts val="2701"/>
              </a:spcBef>
              <a:spcAft>
                <a:spcPts val="601"/>
              </a:spcAft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91b2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8" name="Picture 1" descr=""/>
          <p:cNvPicPr/>
          <p:nvPr/>
        </p:nvPicPr>
        <p:blipFill>
          <a:blip r:embed="rId1"/>
          <a:stretch/>
        </p:blipFill>
        <p:spPr>
          <a:xfrm>
            <a:off x="39600" y="0"/>
            <a:ext cx="9104400" cy="6211800"/>
          </a:xfrm>
          <a:prstGeom prst="rect">
            <a:avLst/>
          </a:prstGeom>
          <a:ln w="0">
            <a:noFill/>
          </a:ln>
        </p:spPr>
      </p:pic>
      <p:sp>
        <p:nvSpPr>
          <p:cNvPr id="4609" name="Text Box 2"/>
          <p:cNvSpPr/>
          <p:nvPr/>
        </p:nvSpPr>
        <p:spPr>
          <a:xfrm>
            <a:off x="533520" y="5638680"/>
            <a:ext cx="761976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eading Between the Lines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ea typeface="Arial Unicode MS"/>
                <a:hlinkClick r:id="rId2"/>
              </a:rPr>
              <a:t>http://act.org/research/policymakers/pdf/reading_summary.pdf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Builders can use different kinds of structures to build different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A skyscraper, for example, is a different kind of structure from a 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2" name="Picture 6" descr="bd10467_"/>
          <p:cNvPicPr/>
          <p:nvPr/>
        </p:nvPicPr>
        <p:blipFill>
          <a:blip r:embed="rId1"/>
          <a:stretch/>
        </p:blipFill>
        <p:spPr>
          <a:xfrm>
            <a:off x="4648320" y="2884320"/>
            <a:ext cx="38098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entury Schoolbook"/>
              </a:rPr>
              <a:t>What is a text struc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Writers use different structures to build thei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entury Schoolbook"/>
              </a:rPr>
              <a:t>Each text structure communicates ideas in a different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5" name="Picture 6" descr="bd06453_"/>
          <p:cNvPicPr/>
          <p:nvPr/>
        </p:nvPicPr>
        <p:blipFill>
          <a:blip r:embed="rId1"/>
          <a:stretch/>
        </p:blipFill>
        <p:spPr>
          <a:xfrm>
            <a:off x="685800" y="2139840"/>
            <a:ext cx="380988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Use the 10-20-30 rul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ttempt to follow Guy Kawasaki’s 10-20-30 rule: presentations should have no more than ten slides, last no longer than 20 minutes and no font should be smaller than 30 point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Matthew Stibbe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Articulate Market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owerpoint Slide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large blocks of text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llustrate your points, don’t completely duplicate them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Proofread for errors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esentations need careful proofreading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heck for English error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void an overuse of words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Make sure slides are easy to r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Rehears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Practice makes a good presentation. Very few people can deliver a great presentation off the top of their head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Rehearse the basic points you intend to make, in a clear order and with all the key facts memorized.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314a"/>
                </a:solidFill>
                <a:latin typeface="Arial"/>
              </a:rPr>
              <a:t>Make eye contact with your audienc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It is important to make eye contact, speak clearly and create an open communication channel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Do not read the slides word for word. 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cus should be on the presenter, and the powerpoint slides should enhance the message, not be the message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7f7f"/>
                </a:solidFill>
                <a:latin typeface="Arial"/>
              </a:rPr>
              <a:t>With thanks to Jamie Smart,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Innate Thinking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Easy to Use Powerpoint Templat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Go to this website for a step-by-step guide to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Creating a powerpoint presentation: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1"/>
              </a:rPr>
              <a:t>www.owlnet.rice.edu/~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cain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3"/>
              </a:rPr>
              <a:t>proj/presenting.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Arial"/>
                <a:hlinkClick r:id="rId4"/>
              </a:rPr>
              <a:t>ppt</a:t>
            </a:r>
            <a:r>
              <a:rPr b="1" i="1" lang="en-US" sz="28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14a"/>
                </a:solidFill>
                <a:latin typeface="Arial"/>
              </a:rPr>
              <a:t>You be the judge</a:t>
            </a:r>
            <a:endParaRPr b="0" lang="en-US" sz="3600" spc="-1" strike="noStrike">
              <a:solidFill>
                <a:srgbClr val="19314a"/>
              </a:solidFill>
              <a:latin typeface="Arial"/>
            </a:endParaRPr>
          </a:p>
        </p:txBody>
      </p:sp>
      <p:sp>
        <p:nvSpPr>
          <p:cNvPr id="4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The following slides are examples taken from educators.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Are they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Arial"/>
              </a:rPr>
              <a:t>How could they change these to make them more effective?</a:t>
            </a:r>
            <a:endParaRPr b="0" lang="en-US" sz="2800" spc="-1" strike="noStrike">
              <a:solidFill>
                <a:srgbClr val="2344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TextBox 1"/>
          <p:cNvSpPr/>
          <p:nvPr/>
        </p:nvSpPr>
        <p:spPr>
          <a:xfrm>
            <a:off x="-45720" y="76320"/>
            <a:ext cx="909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Building a Culture of Giving 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Receiving </a:t>
            </a:r>
            <a:r>
              <a:rPr b="1" lang="en-US" sz="4400" spc="-1" strike="noStrike">
                <a:solidFill>
                  <a:srgbClr val="f8f8ef"/>
                </a:solidFill>
                <a:latin typeface="Arial"/>
                <a:ea typeface="Arial"/>
              </a:rPr>
              <a:t>Actionable Feedback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6" name="TextBox 2"/>
          <p:cNvSpPr/>
          <p:nvPr/>
        </p:nvSpPr>
        <p:spPr>
          <a:xfrm>
            <a:off x="-454680" y="2330280"/>
            <a:ext cx="98582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Humility/Curiosity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– no single person (coach, principal, consultant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tc.) knows it all, even experts need help/support/feedback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llaborative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Partnership</a:t>
            </a:r>
            <a:r>
              <a:rPr b="1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is the path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– admin, coaches and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onsultants need to forge these relationships tied to agreed upon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CUS - “Collaborative Coherence”- distributed leadership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Creating a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safe environment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for honest, open, trusting, inquiry &amp; 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risk taking… Lead by </a:t>
            </a:r>
            <a:r>
              <a:rPr b="1" lang="en-US" sz="2200" spc="-1" strike="noStrike" u="sng">
                <a:solidFill>
                  <a:srgbClr val="12ff2a"/>
                </a:solidFill>
                <a:uFillTx/>
                <a:latin typeface="Arial"/>
                <a:ea typeface="Arial"/>
              </a:rPr>
              <a:t>DOING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, not simply talking…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√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Establish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Feedback (</a:t>
            </a:r>
            <a:r>
              <a:rPr b="0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Giving &amp; Receiving </a:t>
            </a:r>
            <a:r>
              <a:rPr b="1" lang="en-US" sz="2200" spc="-1" strike="noStrike">
                <a:solidFill>
                  <a:srgbClr val="12ff2a"/>
                </a:solidFill>
                <a:latin typeface="Arial"/>
                <a:ea typeface="Arial"/>
              </a:rPr>
              <a:t>) for ALL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as shared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professional goal across the faculty – refining and extending our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8f8ef"/>
                </a:solidFill>
                <a:latin typeface="Arial"/>
                <a:ea typeface="Arial"/>
              </a:rPr>
              <a:t>skills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7" name="TextBox 3"/>
          <p:cNvSpPr/>
          <p:nvPr/>
        </p:nvSpPr>
        <p:spPr>
          <a:xfrm>
            <a:off x="5040" y="1752480"/>
            <a:ext cx="78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ef"/>
                </a:solidFill>
                <a:uFillTx/>
                <a:latin typeface="Arial"/>
                <a:ea typeface="Arial"/>
              </a:rPr>
              <a:t>Key Norms or Dispositions Leaders Must Nurture/Creat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Amy Kilbridge</cp:lastModifiedBy>
  <cp:lastPrinted>2015-07-28T19:41:11Z</cp:lastPrinted>
  <dcterms:modified xsi:type="dcterms:W3CDTF">2015-07-28T19:41:30Z</dcterms:modified>
  <cp:revision>56</cp:revision>
  <dc:subject/>
  <dc:title>Colour Pencils PowerPoint Template</dc:title>
</cp:coreProperties>
</file>